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65861D6-3B54-4312-87F3-17037708F4B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ADE261E-DD07-444A-9C52-5C60A22A78D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A961739-6777-4678-A9E9-B6AD3725D6A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941E8B3-30F9-43D6-BCDA-3629C427AF0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73D9BF4-E316-4399-8A46-E60DA2E20BB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2901BD8-EC36-4E92-A2C8-049EEEAA1C1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1E48F66-9457-480C-B772-843A5551588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9A85-24A4-48E9-AA91-E5B642AE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1F4D-C3BA-4FF2-9B84-AA7BE21B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8F72FD-F479-4152-88C1-0707403ED02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0ACF3F-3CE0-416F-82DC-0CB32E13380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CAF6C7-C4CC-4D60-800E-FDD37112C52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B75273-92E4-4EA8-9EC1-47A100CE121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E040BF-E3E9-4B91-B99D-EB9FC65BF15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20E0FA-F011-4385-BEB1-DE44C075A84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3C29B1-C97A-4FAF-B799-1C9687C44AC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D30AB2-DBE2-4CCD-B1C4-B22557FCE45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6B99C9-76FF-4042-8471-2015397D495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DB9-B1C2-4EEF-B427-03BA9C02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34A-F457-46EB-95F6-2B8C92C0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0E6-DBD1-4E50-9FE6-E04A7104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31DB8-20B8-4CA9-BE54-F91DB8D6A8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46D94-0F5A-4941-8FEC-65252C61CE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B2DB6-AC26-49D8-8F2C-94C2C75A9E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78359-F345-41AC-A681-A566E45105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9D105-6654-4009-8EF1-9F05113446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EBF-1610-46A2-8C88-41395604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85BA0-6120-4B8E-A78B-D541C5CB85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44A88-E1E3-4EB8-B816-9E2AF7019D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BC268-77AC-44F4-B627-D50F828A74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5476A-592F-4771-9831-559F4ECB92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C3667-1735-4FEB-84F1-71C22C03BC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BF114-AB2B-4538-AE39-5FA4B92269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DE66C-14DB-48FB-BFAE-ADCA9F36BB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EB019-C685-40FC-8246-B304902309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C6AD1-AD55-49CA-91CA-81E60AF6379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A68AE-7E28-43CD-9198-F9BABC293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E419-B2C2-4585-9AED-3CA1D96D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01B00-2C8D-46BA-90D6-4E7185339F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6BDCB-4239-4DED-A8C1-CE637BBCB4F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090AD-FA03-4441-8B8A-07679BD81D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52BF6-00D0-44A8-BA81-38FA18CA4E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6C484-C8DD-459D-BCC9-DE450228DE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D602F-9422-4BE8-B814-212F66C1B8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5A806-38C5-4BF8-9329-4F16EC66E06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B1759-7020-43B2-8DFC-65A6EA88AD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EC1B0-B1E3-4DC4-9267-38C72A58A47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C998-0C53-4D44-A3CB-5BA623518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7D8A-8D01-4A9D-8DA7-17B4C81A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8350-9A14-45EC-8459-EBB5A913994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6CCD-43B9-4CD5-9304-3701F31D260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D801-7235-4D17-A394-02D0D6B033E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62E8-123F-433B-AF37-0BEB7B115CD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2855-BF29-4184-BD2D-6B4D393546C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F7F7-9E07-42AB-9180-7F466D74D53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8339-4024-4C8F-AA8B-69FC8BF1116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C677-6128-45A6-AFBD-13809E4CDED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7CE8-7F46-4F61-8084-396622AC1F2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8121-2C11-4CEC-AEEC-6DE66A1CB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2497-29C6-42E2-8CF6-CF7BD1AB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552D-C404-4384-B18D-1B3AE21A6B2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1222FF-E906-4D37-A553-4EC227C433E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934CDF-5F72-4D54-B743-0C06435AAF6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69C655-19E3-4595-96A3-CD6B606218B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B1BD0D-A859-4E97-B742-FF3B0D829DA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36AAA6-7C10-4A25-B3C3-DBD1E3ABDBD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9E9122-25EE-4C6E-8BB1-3FF8BAF1651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B2BEA8-3B87-4B1B-92AA-28959067D6B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6B0B9E-84AA-467D-8553-E9E9E66221B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363747-2BB3-4033-A074-5275EB9F6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AC7B-118F-45C3-A96E-DAE32E51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5F66DD-54EC-44FE-88FF-38889283CA4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413AFB-6157-4105-80A8-DE0CDA8B8D3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93C38F-64B6-4506-999C-C859D0053B2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146C9-DD2F-4423-986B-6CDA5E3944B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71F3D-CFB4-49E5-B04D-F2256BAD553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E0C706-28A1-47E3-8353-9BB50CEA04B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AEEFA-6E74-41F3-9D7E-0B289296F59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DE756-562C-4D15-901F-FB19FB33785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360D1-B981-4BB3-BC06-BBF805D8477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428D0-8783-47FD-B2E4-F3E65BC3A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A75C-2252-43E0-AB2F-B4A178AD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8431F-0F83-45E2-94AB-8309961D5F2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E6B56-7BEC-4E11-ADB8-ECD5C5CC440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5AEB4E-15D1-4E69-ADAF-8898D85149F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2BB8D-6291-479D-B597-A0C83703294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C862A-1D16-4BBA-AFDC-878CDA02A1A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4499E-EC9C-46B6-BA57-658D63EECCD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41BC4-E172-474F-8F42-270CB2283BA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D5AAC-55EA-4DC0-86A2-0590AB1626C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27E0F-4B12-45B1-9A40-F571699C951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23A82-C78E-4BE1-A407-8852C2EC8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3B1-07EF-4CA3-BB84-3A8057D7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9CB90-211F-4619-B2DC-29BFA5FDDCA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77162-9D51-4721-AE6A-9CF02390E91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75627-3C07-444A-9261-05BE97320C5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8636C-B554-4C22-86A0-B6AE0E72A76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A7FDA-175D-4210-83CF-74A5033AC66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7C469-B81E-4AC8-8A23-15042223D7C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54451-12F0-4CD0-96EB-C10EF6F074F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FD24CF-A1DB-49DF-AE4F-D839CFFDF5F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93CA50-F6F4-4FDF-9FDE-8606F621820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5C8643-7B39-4D99-87E9-924524378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243660A-3E01-4037-8D7E-C6D7AA4E43D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2226E4B-40B8-4C23-A78E-E19CE9A516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686440" y="627012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6E82F9F-0958-41C4-B025-C5FFA0E2EE0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45D5B9A-FB59-4510-892D-7E9B05A0D91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64E8643-201C-480A-9B06-4FA1684815F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8BC7BC3-159D-460D-8D49-CBA19821513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48C8DE7-F8AF-4F27-9E42-ECFA30443EC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BE32AD4-18B4-4E73-847E-B1C03D6E450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82D5458-FA90-449C-A2F1-34EC9CAE76E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m.gov.lv/" TargetMode="External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Vardarbības pret sievieti un vardarbības ģimenē novēršanas un apkarošanas plāna 2024.-2029.gadam</a:t>
            </a:r>
            <a:br>
              <a:rPr sz="2500"/>
            </a:b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izstrāde</a:t>
            </a:r>
            <a:br>
              <a:rPr sz="2500"/>
            </a:br>
            <a:r>
              <a:rPr b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struktū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FCED134-8C89-489F-BFA7-0F360AE5507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03360" y="1568160"/>
            <a:ext cx="8083440" cy="490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mērķis - ir nodrošināt integrētu, mērķtiecīgu un efektīvu politiku, lai novērstu un apkarotu vardarbību pret sievietēm un vardarbību ģimenē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Mērķa sasniegšanai tiek izvirzīti četri rīcības virzieni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ā cietušo personu aizsardzības un atbalsta pasākumu nodrošināšana un to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s veicēja atbildības stiprināšana, atbalsta un rehabilitācijas pakalpojumu nodrošināšan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ienotas un koordinētas politikas izveide attiecībās uz vardarbību pret sievietēm un vardarbību ģimenē jautājumiem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E8BFD16-BF42-4471-B8E5-E8C83172CC3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Sabiedrības izglītošana un izpratnes veicināšana par vardarbības pret sievieti un vardarbības ģimenē postošo ietekmi uz sabiedrību un ģime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ampaņas, izglītojoši pasākumi, izstrādāta un regulāri pilnveidota tīmekļa vietne  un aplikācija, viegli saprotamā valodā izstrādāti un izplatīti informatīvi materiāli par vardarbības atpazīša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nformatīvi starpdisciplinārie un izglītojošie  pasākumi speciālistiem un padziļinātas mācības tiesībsargājošajām iestādē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onferences un starpdisciplināri informatīvie, un labās prakses popularizēšanas pasākum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ācības izglītības iestādes darbiniekiem, sociālā jomā strādājoš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etodiskais materiāls darbā ar vardarbībā cietušiem bērn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Apmācības procesa virzītāj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Valsts policijas speciālistu zināšanas pilnve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zglītojoši pasākumi bērniem un viņu vecākiem/likumiskajiem pārstāvjiem par vardarbības atpazīšan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Bērniem un viņu vecākiem/likumiskajiem pārstāvjiem izglītojoši pasākumi par vardarbību, seksuālās izmantošanas riskiem, kaitīgu sekuālu uzvedību u.c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vardarbības mazināšanas un novēršanas programmas katrā izglītības iestādē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Resocializācijas programmas «Vecāku prasmes» nodrošināšan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(2) Vardarbībā cietušo personu aizsardzības un atbalsta pasākumu nodrošināšana un to pilnveide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1EB6D5E-A26E-41B3-9BF7-AD43D69D62F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03360" y="1549440"/>
            <a:ext cx="8083440" cy="4927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no vardarbības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atbalsta grupas, bezmaksas tālruņa izveide, atbalsta centrs seksuālajā vardarbībā cietušām personā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lnveidot tiesiskās aizsardzības nodrošināšanu vardarbībā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lektroniskā uzraudzība kā jauns drošības līdzeklis vai jau pastāvoša drošības līdzekļa elements kriminālproces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aplašināt personu loku, kuriem ir tiesības uz bezmaksas valsts nodrošināto juridisko palīdzīb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3) Vardarbības veicēja atbildības stiprināšana, atbalsta un rehabilitācijas pakalpojumu nodrošināšana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BB6EE35-3815-4D0D-B07A-5D630FAF12E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3360" y="1539360"/>
            <a:ext cx="8083440" cy="493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vardarbību veikušām personām, vai personām, kuras baidās, ka var veikt vardarbīb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pakalpojuma izveide nepilngadīgām personām, atbalsta grupas, bezmaksas tālruņa izveid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resocializācijas programmas vardarbīgu noziegumu veikušām personā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ā regulējuma pilnveide attiecībā uz vardarbību pret sievietēm un vardarbību ģimenē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u veikušām personām 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piemērot kriminālsodus, kuri veicina personas maiņu domāšanā, attieksmē un uzvedībā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ajā regulējumā definēt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 ģimenē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96680" y="380880"/>
            <a:ext cx="72946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4) Vienotas un koordinētas politikas izveide attiecībās uz vardarbību pret sievietēm un vardarbību ģimenē jautājumiem. </a:t>
            </a:r>
            <a:br>
              <a:rPr sz="16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3070782-2B7D-436A-A114-81D497464AA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03360" y="15998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ks izveidota 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tarpinstitūciju darba grupu Plāna īstenošanas koordinēšanai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Īstenot starpinstitucionālo sadarbību un vienotas politikas izstrād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 un ieviest obligātas un regulāras starpinstitucionālas sanāksmes augstas vardarbības riska gadījumos, tai skaitā vadlīnijas ar algorit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Starpdisciplināra atbalsta komanda darbā ar komplicētiem vardarbības gadījumiem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i priekšlikumi noteikumiem par Pašvaldību sadarbības grupu izveidi vardarbības pret pilngadīgu personu gadījum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erādījumos un vienotā metodoloģijā balstītas vardarbības monitoringa izveide un situācijas analī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s vardarbības datu monitorings, veikti regulāri pētījumi, ietekmes novērtējum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da pārskata sagatavošana un publicēšana par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rdarbību pret sievieti un vardarbību ģimenē situācijas analīzi un Plāna īstenotajiem pasākum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es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094A84A-7D83-4972-8423-F53599E2DDA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8.septembrī pirmā darba grupa (Valsts iestādes, NV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2.oktobrī Plāna struktūra un apkopoti priekšlikumi izsūtīti iestādēm papildināšanai un komentē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7.oktobrim iesaistītās iestādes sniedz savus redzējumus Plānā ietvertajiem pasāku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Oktobrī un novembrī plānotas individuālas sanāksmes ar iestādēm un NV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.novembrim tiks sagatavots ziņojums par paveikto saistībā ar Plāna izstrā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85800" y="310788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 u="sng">
                <a:solidFill>
                  <a:srgbClr val="0000ff"/>
                </a:solidFill>
                <a:uFillTx/>
                <a:latin typeface="Tahoma"/>
                <a:ea typeface="Verdana"/>
                <a:hlinkClick r:id="rId1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Twitter:@Lab_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https://www.facebook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Flickr.com:Labklajibas_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Youtube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Draugiem.lv/labklaj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elde Kēla</cp:lastModifiedBy>
  <dcterms:modified xsi:type="dcterms:W3CDTF">2023-10-11T11:36:33Z</dcterms:modified>
  <cp:revision>115</cp:revision>
  <dc:subject/>
  <dc:title>PowerPoint Presentation</dc:title>
</cp:coreProperties>
</file>