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B167141-F449-4A3B-8E63-0345C3460F6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63F85AE-EDD4-493E-918F-35C7C8068DF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874025-5D93-439B-BE58-4DBDD1C8A23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5C2E8BA-578F-4CD2-870C-A26B9492B8F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7036D7-7A84-4182-B1D7-C4212009C85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561B984-6F5D-45D0-8A62-EE3A92F5D90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BAF408-B652-458E-885D-6717124F97E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C97-B0CA-459D-8E0D-6BA0D1E6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3B4-8B3F-4A79-8047-ABCD3CC0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283305-52D7-495A-955F-2C58FC9DB2F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774D4-080E-4DB8-9FCC-3766D5FB284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A1016E-3FBF-48CE-BAD9-FF0895A436E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4DD9CA-2C6B-4BBA-B03C-B994371964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EA30F3-5284-40EC-A36D-F06F83D8BDD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22AF8E-6B56-4B28-B7CB-42ED55215DF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ABE474-97C3-4227-B683-49EF28156CD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A8EA53-BF6A-4FDE-84B9-9BC6DB85B78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EEA559-B0C4-4FFD-B7A8-7ABD8401EEC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C56-40C1-4FDD-AAAD-43587372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14E-A878-4022-9F1E-F784A3BA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141-A403-4ED0-A016-DDD0EC5A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C5D49-1A66-4456-9DA2-28B234D1B6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13F75-0BF7-40AE-8A6B-BA0FF739B6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6089D-F66E-4022-9164-629569C74F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A6E2D-7BBC-4542-8D23-22046DC9A5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518BC-BB3B-4021-83F4-CA65E35E4B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959-1263-4E54-A0C7-5EB76026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C43AC-82C1-4887-8841-A6A9FF2E30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820CF-0280-4BE7-B4E6-7163CCFAF7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4F4D8-9779-4347-9763-A28ED6BDA8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E35A3-E3BB-4E96-B8E1-D4B2AE619A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208E2-B5CD-42E8-AFD1-22CB19BFE7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F3197-63FA-4274-8A69-7B9AA2CB40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B3B0B-FA24-465B-9291-F66E8AA23E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8D51D-F140-4D8C-B58B-102566D9C3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EBD64-B093-4BD8-A5C2-B8ECCCCDC7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68623-8256-4F10-9E0C-DBD937650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266-A2E0-4D4D-8EE2-50A8F977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3470B-A24B-4B3B-B81F-1655AAF4C7E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A0236-B5E3-4EEB-AB69-3CD8B72FA9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35381-DCE0-4E7D-9EA2-39C48270DF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242AE-2A8B-4F1E-810F-44F02BF99B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DD621-6730-4EF5-8392-001C7E1A158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10D90-5551-457D-ABB0-354267544D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53667-7409-45CE-97E2-65DFA19206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EB5A9-377A-4657-ADAF-62FD3D5F33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0A671-C0D0-4670-B6D1-D2833DAC266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94D0-C4A0-4675-9AC7-6E7EEC452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363-E5E7-402B-B6D6-8D123544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DAFF-E463-43FB-A539-40646D4EA9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E251-6A41-4491-B404-AB53F7E6456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5BF7-63F2-48D5-8D73-AF4EE609CCF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0958-37AA-43D9-8C07-BD2BA3831C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7D85-8278-42DD-AEFB-16D1C283074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233F-3C2F-41CA-9B56-2F5F46C8839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F4B5-BFAE-406E-B50C-458E9D9C9FC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D32B-4DAD-4B25-9C9C-5CC1A43B11A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E423-4E33-4BC1-836E-17E96CB14A7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FC45-BC88-4387-AD83-71921397E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80F-1890-4514-A512-1F908D42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2621-A131-42F4-B2BE-786F0A73699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4BCE32-8C09-4E81-B6A8-967731BCDE9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732571-022A-446E-83DB-34C37F11ED6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2C6812-8679-46AC-89CB-E609183A145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4616BE-A229-4FFC-B1E4-18AA039A383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596A70-9C06-4BE3-9206-703D14CE600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6A5B37-584B-4749-B768-E1F2D90B819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349B12-C48C-4C10-9C94-40D10A878AC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3BB55F-4022-4CF0-A249-2B0DD093C92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71474F-34D8-4D58-9707-7477B2C67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F3D-EC9A-4A9D-ADCE-3F88ED59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40933B-1255-4F71-B21B-E8E5104E2B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93FADC-F040-44E4-A5DF-82C76BF02FD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81AF86-8EA6-4C65-BB09-613414D18EA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C8651-0071-4077-9636-D313AB78E47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3725F-7E7B-4F75-A540-71D67715758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AAB55-B14E-41FB-B67F-111FC264B2B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2CF2A-CC7B-4A25-8801-B386444C22D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C6B8F-00AB-49ED-A5A7-C3A431BC0FA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98347-FF8B-4321-9558-5F980E383F4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D2230-45D3-4C36-AE1C-F217ED1E9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683-017C-4467-9B94-5CDAE52F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6DCD8-E642-4B03-9CB4-A12007CF824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50968-1953-47E7-9EA7-1D5043FFE4E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39C17-34F5-423D-B0D8-FE895483B9F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E5DFD-9431-48C9-B24B-BEF0A73660F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3C9FE-08A5-455F-BF23-EEF0AC03E4E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6A620-33C6-4A1B-89AB-65EF6300A72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B8104-B3F9-4995-9484-B7994E4A95A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172E3-EE68-4DE4-B191-9117A764E20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E5D36-AD2F-473F-9AF4-A6CA810AA97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AB129-9E67-4060-9256-25CE6DEAE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4C8-FB8A-475C-8D7E-040409D4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15630-59A7-447D-B5DD-038DF260AFC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E2B33-DBDB-483F-90A4-9BABE96490F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81BB1-8734-4CF6-8807-7467E2A67FB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90E6D-DFBD-4D3B-BE3A-101A67ECC9B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BEC4B-412A-499C-B612-7CB2A43E2FD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2971-5E35-48C3-8C3A-325437E5580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E3281-51D0-4ACD-83D2-89DED5053F7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F25F92-3702-4734-B604-BD127F49E8D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8C39B3-3AFD-4651-BD57-512E50AF2B4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950273-81D5-40B5-A425-F1BD82E71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4CA6FD-6874-41AB-A274-C861FDC7AEF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ECC6D72-7437-494B-896E-D01C24C10C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686440" y="62701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3475293-2EC6-4E73-9809-45A694E92D5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70C159-7402-4990-B0C5-211ACAB93E1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A5F444-9B0F-4061-B6E4-1E697792C57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A63D79-E3C4-45DC-A0A5-F081DE426FC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542F795-95D3-4DEE-B67E-A1B6BCAD084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5509E34-7AFA-4A7F-A6F9-0ADA406C52C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F3FF0AF-4255-4EFF-93B6-E853CB8E419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m.gov.lv/" TargetMode="External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Vardarbības pret sievieti un vardarbības ģimenē novēršanas un apkarošanas plāna 2024.-2029.gadam</a:t>
            </a:r>
            <a:br>
              <a:rPr sz="2500"/>
            </a:b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izstrāde</a:t>
            </a:r>
            <a:br>
              <a:rPr sz="2500"/>
            </a:br>
            <a:r>
              <a:rPr b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struktū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6519962-E512-45F1-AD3D-233723F4B14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3360" y="1568160"/>
            <a:ext cx="8083440" cy="490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mērķis - ir nodrošināt integrētu, mērķtiecīgu un efektīvu politiku, lai novērstu un apkarotu vardarbību pret sievietēm un vardarbību ģimen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Mērķa sasniegšanai tiek izvirzīti četri rīcības virzieni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ā cietušo personu aizsardzības un atbalsta pasākumu nodrošināšana un to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s veicēja atbildības stiprināšana, atbalsta un rehabilitācijas pakalpojumu nodrošināšan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ienotas un koordinētas politikas izveide attiecībās uz vardarbību pret sievietēm un vardarbību ģimenē jautājumiem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83C7A0A-3FAD-4A9F-97E9-32D152E3F1A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Sabiedrības izglītošana un izpratnes veicināšana par vardarbības pret sievieti un vardarbības ģimenē postošo ietekmi uz sabiedrību un ģime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ampaņas, izglītojoši pasākumi, izstrādāta un regulāri pilnveidota tīmekļa vietne  un aplikācija, viegli saprotamā valodā izstrādāti un izplatīti informatīvi materiāli par vardarbības atpazīša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nformatīvi starpdisciplinārie un izglītojošie  pasākumi speciālistiem un padziļinātas mācības tiesībsargājošajām iestādē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onferences un starpdisciplināri informatīvie, un labās prakses popularizēšanas pasākum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ācības izglītības iestādes darbiniekiem, sociālā jomā strādājoš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etodiskais materiāls darbā ar vardarbībā cietušiem bērn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Apmācības procesa virzītāj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Valsts policijas speciālistu zināšanas pilnve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zglītojoši pasākumi bērniem un viņu vecākiem/likumiskajiem pārstāvjiem par vardarbības atpazīšan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Bērniem un viņu vecākiem/likumiskajiem pārstāvjiem izglītojoši pasākumi par vardarbību, seksuālās izmantošanas riskiem, kaitīgu sekuālu uzvedību u.c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vardarbības mazināšanas un novēršanas programmas katrā izglītības iestādē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Resocializācijas programmas «Vecāku prasmes» nodrošināšan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(2) Vardarbībā cietušo personu aizsardzības un atbalsta pasākumu nodrošināšana un to pilnveide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F322E2E-7194-4663-8C71-55651E27A26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3360" y="1549440"/>
            <a:ext cx="8083440" cy="4927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no vardarbības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atbalsta grupas, bezmaksas tālruņa izveide, atbalsta centrs seksuālajā vardarbībā cietušām personā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lnveidot tiesiskās aizsardzības nodrošināšanu vardarbībā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lektroniskā uzraudzība kā jauns drošības līdzeklis vai jau pastāvoša drošības līdzekļa elements kriminālproces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aplašināt personu loku, kuriem ir tiesības uz bezmaksas valsts nodrošināto juridisko palīdzīb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3) Vardarbības veicēja atbildības stiprināšana, atbalsta un rehabilitācijas pakalpojumu nodrošināšana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2F60389-5A44-48DA-9FBF-DA01CF211EF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3360" y="1539360"/>
            <a:ext cx="8083440" cy="493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vardarbību veikušām personām, vai personām, kuras baidās, ka var veikt vardarbīb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pakalpojuma izveide nepilngadīgām personām, atbalsta grupas, bezmaksas tālruņa izvei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resocializācijas programmas vardarbīgu noziegumu veikušām personā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ā regulējuma pilnveide attiecībā uz vardarbību pret sievietēm un vardarbību ģimenē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u veikušām personām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piemērot kriminālsodus, kuri veicina personas maiņu domāšanā, attieksmē un uzvedībā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ajā regulējumā definēt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 ģimenē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96680" y="380880"/>
            <a:ext cx="72946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4) Vienotas un koordinētas politikas izveide attiecībās uz vardarbību pret sievietēm un vardarbību ģimenē jautājumiem. </a:t>
            </a:r>
            <a:br>
              <a:rPr sz="16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B0E17D-FA9E-4D96-9192-38A13A49195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3360" y="15998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ks izveidota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arpinstitūciju darba grupu Plāna īstenošanas koordinēšanai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Īstenot starpinstitucionālo sadarbību un vienotas politikas izstrād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 un ieviest obligātas un regulāras starpinstitucionālas sanāksmes augstas vardarbības riska gadījumos, tai skaitā vadlīnijas ar algorit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Starpdisciplināra atbalsta komanda darbā ar komplicētiem vardarbības gadījumiem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i priekšlikumi noteikumiem par Pašvaldību sadarbības grupu izveidi vardarbības pret pilngadīgu personu gadīju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erādījumos un vienotā metodoloģijā balstītas vardarbības monitoringa izveide un situācijas analī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s vardarbības datu monitorings, veikti regulāri pētījumi, ietekmes novērtējum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da pārskata sagatavošana un publicēšana par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rdarbību pret sievieti un vardarbību ģimenē situācijas analīzi un Plāna īstenotajiem pasākum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es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2124140-B337-4F95-9856-DFFC707F636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8.septembrī pirmā darba grupa (Valsts iestādes, NV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2.oktobrī Plāna struktūra un apkopoti priekšlikumi izsūtīti iestādēm papildināšanai un komentē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7.oktobrim iesaistītās iestādes sniedz savus redzējumus Plānā ietvertajiem pasāku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Oktobrī un novembrī plānotas individuālas sanāksmes ar iestādēm un N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.novembrim tiks sagatavots ziņojums par paveikto saistībā ar Plāna izstrā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31078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 u="sng">
                <a:solidFill>
                  <a:srgbClr val="0000ff"/>
                </a:solidFill>
                <a:uFillTx/>
                <a:latin typeface="Tahoma"/>
                <a:ea typeface="Verdana"/>
                <a:hlinkClick r:id="rId1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Twitter:@Lab_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https://www.facebook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Flickr.com:Labklajibas_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Youtube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Draugiem.lv/labklaj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elde Kēla</cp:lastModifiedBy>
  <dcterms:modified xsi:type="dcterms:W3CDTF">2023-10-11T11:36:33Z</dcterms:modified>
  <cp:revision>115</cp:revision>
  <dc:subject/>
  <dc:title>PowerPoint Presentation</dc:title>
</cp:coreProperties>
</file>