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5043BAB-1C7B-4049-B5EF-3C091F07248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4616D75-1073-4832-92FA-D7D20A8E2E1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A98E49E-A6D8-44C7-9705-512C418E9B3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ED05A5E-1322-4478-9ABD-D462B5E4082C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93D0D65-E57D-4900-A711-D00CF0867DC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503906E-04EE-44A1-90D1-A5F1A9502657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02047C7-78CD-4138-B2D9-70A227A3B2BC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F962-3468-4DFF-834A-F19D87220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0484-DE3D-4CF8-85CA-13256BB1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A242D7-AD26-4FDD-8AF6-DC3D7E3C211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347DF2-C1F0-4679-8866-C37DE28A898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8A9BDA-99EB-4BF8-A43C-9C09C681287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EDFC36-4D28-4F75-BCCC-930911BFD62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B95570-EDE7-4345-B9F0-BB27E81D691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5955A6-C8B9-42D6-94BF-A014CDBF95B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4BA726-A7BF-41D3-8110-E6633867562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B8C6EF-E675-412B-AF72-41FD9C101C2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0AE5DD-873F-4296-B854-3CD2E70C7F4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107F-A6DA-4F71-A3A8-339E05583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7B43-CFEF-4BFD-B91A-F09F48B0E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018C-0EB6-4741-8E8E-C2EE32F1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3C369-05CA-44D6-BBCC-133BE52C1A3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85591F-F2D9-4D33-8BF9-DB8E367F3A8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9328A4-ACA0-4FE6-9D1E-B9D41892A5C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9A7667-F527-42BF-957A-B33114A3D8C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8C293-91E8-450D-8C98-7A650EE77D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DEA9-9C47-4216-BB48-8379A560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669D8-9F1D-4CB7-9CF4-5BB35B8F214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121E9C-3B11-4541-AF69-C32C9589D9C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334FA-9A2E-4FF2-8957-D878AFD5588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104F30-61AF-4729-8034-078DBFE4F58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01EDB-86A0-428E-8385-B513608FD8F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DF0D9F-233A-462E-AA94-C7620C9092C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EB405-EEA1-4EFF-ADBE-8397FD9ECFC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A569F-DF3F-4806-AEAF-2AAE08B5493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4C590-B9C0-4D23-8E4C-CFD08153320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CB50D-4605-44B7-807F-88198275C3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183B-7077-4A57-A35A-DA5D21D1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285CD-C3CF-4CB3-B628-E1D72256DED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6C359-E832-4AC1-B46F-96EE84763F4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3D99D-B052-46C4-8C16-30F8020AD20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4DC06-6C48-429C-AC00-61E0F7FD58C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C4F7A-37BC-43FF-A1D0-720A2AC5A92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8A288-ACF1-4544-AFE3-E6BEDB6022D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0A25F-58A4-4D73-AF5C-B66E76AD4FE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252F0-B77C-4FF6-BF3B-39AAEBED616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3B426-98CD-4725-B1C8-8CABEEE2E6A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D2C6-4243-4A73-9DC7-5FD40EF0D0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12D3-636A-411A-89C2-7A2F81DC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8C4A-48CD-4FC8-8D53-70ED42526FF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40E6-E3EF-4B5B-9AF7-9196C4C4703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50DB-1671-4338-BF07-D969E390B80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B938-936B-43CD-BA78-8D8B3B09BDE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0F8E8-592A-4DA2-B16E-7EF174986C2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2E83-F785-4E02-98E1-5DB3B022A79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DE63-E717-43DC-B0EE-E3430BB49A1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50EB-DD3F-48A4-8686-A75B238A9ED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CEB0-78F6-464C-83B0-96A1801F2BD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5F67-A066-4F6B-9DDD-771E9BB233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A84A-77F5-4D30-AEBF-3588CC5C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9C38-028A-42AB-9927-5126B2E0D42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BA6199-13B3-4D31-97C7-8EC4715876C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191D66-5488-4A28-986F-BD083F5B453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A5FCC5-163B-4A45-A0E5-2B6E7318AFE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25CB61-0AC3-441C-9897-52A6BEF8118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8475A8-EE2B-41C5-B4B3-0E331424E6C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FC4345-A96A-4D55-B5ED-5463A9D4253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57629E-5666-47FC-88B7-60535AE4975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C862A0-FD65-49A6-8D33-0C9C95F864C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863CB3-4F5E-4358-A0EC-88ED0208D0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AA56-5DDA-4104-9242-F217EDEC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ECBAC9-B8F6-4C09-982D-C84EAE526C3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EC6F70-FAB9-4315-8A85-2B23EC7951A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61120A-0DF0-43CF-9115-0274DACBF0D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05E9AD-59C5-46CE-8451-FC89051B2E0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D8ECE1-75CB-4B75-92F0-9FDD7356D72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237264-B49B-43CA-B751-9D7EA0DE059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8E53F1-9636-4852-8593-662C5EC2A60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A245C5-3E37-4355-8943-A05E875DD18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C422F9-9442-4A61-85DF-3CF5B3A128E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F91C92-D264-41D3-894C-DDCA5050C6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F0A5-A06E-48A5-9D64-920F61B9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67662D-AFCE-47D6-8F62-BFEB34F4CB3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937555-EC8E-4B57-8AFA-0CA044504EE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3E89F2-46F1-46CD-8741-D889D3F7BA0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3A50C1-71DE-4778-BCFA-C18E31FDE8C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A3CA55-24CE-4FEE-8F8C-FC089161B58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70D4E-65C2-43D7-B703-128FD1D97F3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BD8EB-52F6-4D42-B014-279C8EA7F6F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0070C-07D5-49EF-B25C-DB885080BF2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A53EE-F836-41AB-A6BA-359CBD9E69C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82F64-DCBB-4079-B214-915B44A0EE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891C-E328-4320-8704-DEE8D593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8CE40-CFC1-457B-846E-F69247348C3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7E704-9196-4956-893C-FAFC9F26293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A1BC9-9F84-4790-B71D-4D7AD9545FE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AF3D9-6751-4856-9162-1C7B8FDBC45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B0DBE-A2E3-4A8F-969A-944E18955A9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92431-4F38-497E-9DAA-93D3640A09C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FDB1D-BE8A-46E2-94D3-D1E03F15BFF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812D87-1590-4BB5-BDDF-C2FA8442539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FC4AD7-1A45-4453-9756-B801445606C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A56FC2-B4F8-4488-B107-0E0C5AEA7F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4D54C57-B1A5-46DF-A8BC-95D296AC30A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3181073-CCCC-443F-85EF-5B6F11CA78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686440" y="627012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F6A315A-C557-47BD-AD81-068EA3E99C7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2DE3306-E50B-4FA9-9CF9-484256F8D96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7CAC076-E628-48F9-8642-5C13AA335A4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7C826BF-E396-4484-AB3C-FB13A5B7E55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D6B5443-9E81-4A6B-85C7-A23A18D675B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E6E0B04-7F1E-440A-B067-C98831537E2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8347FCD-A509-427E-BE20-4DC0DEE3B51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lm.gov.lv/" TargetMode="External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00000"/>
                </a:solidFill>
                <a:latin typeface="Verdana"/>
                <a:ea typeface="Verdana"/>
              </a:rPr>
              <a:t>Vardarbības pret sievieti un vardarbības ģimenē novēršanas un apkarošanas plāna 2024.-2029.gadam</a:t>
            </a:r>
            <a:br>
              <a:rPr sz="2500"/>
            </a:br>
            <a:r>
              <a:rPr b="1" lang="lv-LV" sz="2500" spc="-1" strike="noStrike">
                <a:solidFill>
                  <a:srgbClr val="000000"/>
                </a:solidFill>
                <a:latin typeface="Verdana"/>
                <a:ea typeface="Verdana"/>
              </a:rPr>
              <a:t>izstrāde</a:t>
            </a:r>
            <a:br>
              <a:rPr sz="2500"/>
            </a:br>
            <a:r>
              <a:rPr b="1" lang="lv-LV" sz="1400" spc="-1" strike="noStrike">
                <a:solidFill>
                  <a:srgbClr val="000000"/>
                </a:solidFill>
                <a:latin typeface="Verdana"/>
                <a:ea typeface="Verdana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57607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imes New Roman"/>
                <a:ea typeface="Verdana"/>
              </a:rPr>
              <a:t>Plāna struktū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1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8F65148-977A-486F-81A4-814D72549DD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03360" y="1568160"/>
            <a:ext cx="8083440" cy="4908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  <a:ea typeface="Verdana"/>
              </a:rPr>
              <a:t>Plāna mērķis - ir nodrošināt integrētu, mērķtiecīgu un efektīvu politiku, lai novērstu un apkarotu vardarbību pret sievietēm un vardarbību ģimenē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Mērķa sasniegšanai tiek izvirzīti četri rīcības virzieni –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Preventīvie pasākumi  vardarbības pret sievieti un vardarbības ģimenē novēršana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 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ardarbībā cietušo personu aizsardzības un atbalsta pasākumu nodrošināšana un to pilnvei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ardarbības veicēja atbildības stiprināšana, atbalsta un rehabilitācijas pakalpojumu nodrošināšana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ienotas un koordinētas politikas izveide attiecībās uz vardarbību pret sievietēm un vardarbību ģimenē jautājumiem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Verdana"/>
              </a:rPr>
              <a:t>Preventīvie pasākumi  vardarbības pret sievieti un vardarbības ģimenē novēršana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6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AC8EE50-36EE-43C9-BB36-D83DC79CC46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03360" y="1319040"/>
            <a:ext cx="8083440" cy="5158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Sabiedrības izglītošana un izpratnes veicināšana par vardarbības pret sievieti un vardarbības ģimenē postošo ietekmi uz sabiedrību un ģimen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Kampaņas, izglītojoši pasākumi, izstrādāta un regulāri pilnveidota tīmekļa vietne  un aplikācija, viegli saprotamā valodā izstrādāti un izplatīti informatīvi materiāli par vardarbības atpazīšan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Informatīvi starpdisciplinārie un izglītojošie  pasākumi speciālistiem un padziļinātas mācības tiesībsargājošajām iestādē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Konferences un starpdisciplināri informatīvie, un labās prakses popularizēšanas pasākumi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Mācības izglītības iestādes darbiniekiem, sociālā jomā strādājoši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Metodiskais materiāls darbā ar vardarbībā cietušiem bērni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Apmācības procesa virzītāji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Valsts policijas speciālistu zināšanas pilnvei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Izglītojoši pasākumi bērniem un viņu vecākiem/likumiskajiem pārstāvjiem par vardarbības atpazīšanu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Bērniem un viņu vecākiem/likumiskajiem pārstāvjiem izglītojoši pasākumi par vardarbību, seksuālās izmantošanas riskiem, kaitīgu sekuālu uzvedību u.c.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Ieviestas vardarbības mazināšanas un novēršanas programmas katrā izglītības iestādē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Resocializācijas programmas «Vecāku prasmes» nodrošināšan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Verdana"/>
              </a:rPr>
              <a:t>(2) Vardarbībā cietušo personu aizsardzības un atbalsta pasākumu nodrošināšana un to pilnveide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2C2CAB0-698E-452C-A0C7-69EC85CED3F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03360" y="1549440"/>
            <a:ext cx="8083440" cy="4927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Atbalsta un sociālās rehabilitācijas pakalpojuma pilnveidošana no vardarbības cietušām personā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Esošo sociālo rehabilitāciju pakalpojumu efektivitātes izvērtēšana un pakalpojumu pilnvei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Jaunu atbalsta un palīdzība pakalpojumu izveide – atbalsta grupas, bezmaksas tālruņa izveide, atbalsta centrs seksuālajā vardarbībā cietušām personām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Pilnveidot tiesiskās aizsardzības nodrošināšanu vardarbībā cietušām personā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Elektroniskā uzraudzība kā jauns drošības līdzeklis vai jau pastāvoša drošības līdzekļa elements kriminālprocesā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Paplašināt personu loku, kuriem ir tiesības uz bezmaksas valsts nodrošināto juridisko palīdzīb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Times New Roman"/>
                <a:ea typeface="Verdana"/>
              </a:rPr>
              <a:t>(3) Vardarbības veicēja atbildības stiprināšana, atbalsta un rehabilitācijas pakalpojumu nodrošināšana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6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6379710-86B0-47CF-B0E0-69EE56FEBFB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03360" y="1539360"/>
            <a:ext cx="8083440" cy="4937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Atbalsta un sociālās rehabilitācijas pakalpojuma pilnveidošana vardarbību veikušām personām, vai personām, kuras baidās, ka var veikt vardarbīb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Esošo sociālo rehabilitāciju pakalpojumu efektivitātes izvērtēšana un pakalpojumu pilnvei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Jaunu atbalsta un palīdzība pakalpojumu izveide – pakalpojuma izveide nepilngadīgām personām, atbalsta grupas, bezmaksas tālruņa izveid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Ieviestas resocializācijas programmas vardarbīgu noziegumu veikušām personā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Tiesiskā regulējuma pilnveide attiecībā uz vardarbību pret sievietēm un vardarbību ģimenē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ardarbību veikušām personām </a:t>
            </a: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piemērot kriminālsodus, kuri veicina personas maiņu domāšanā, attieksmē un uzvedībā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Tiesiskajā regulējumā definēt </a:t>
            </a:r>
            <a:r>
              <a:rPr b="0" i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ardarbība ģimenē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ordVisi_MSFontService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96680" y="380880"/>
            <a:ext cx="72946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Times New Roman"/>
                <a:ea typeface="Verdana"/>
              </a:rPr>
              <a:t>(4) Vienotas un koordinētas politikas izveide attiecībās uz vardarbību pret sievietēm un vardarbību ģimenē jautājumiem. </a:t>
            </a:r>
            <a:br>
              <a:rPr sz="16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1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F0D50B0-1F9F-4BBF-800E-C9DB504BDB3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03360" y="15998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Tiks izveidota </a:t>
            </a: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starpinstitūciju darba grupu Plāna īstenošanas koordinēšanai 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Īstenot starpinstitucionālo sadarbību un vienotas politikas izstrād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Izstrādāt un ieviest obligātas un regulāras starpinstitucionālas sanāksmes augstas vardarbības riska gadījumos, tai skaitā vadlīnijas ar algoritmi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Starpdisciplināra atbalsta komanda darbā ar komplicētiem vardarbības gadījumiem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Izstrādāti priekšlikumi noteikumiem par Pašvaldību sadarbības grupu izveidi vardarbības pret pilngadīgu personu gadījum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Pierādījumos un vienotā metodoloģijā balstītas vardarbības monitoringa izveide un situācijas analīz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Izstrādāts vardarbības datu monitorings, veikti regulāri pētījumi, ietekmes novērtējum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ada pārskata sagatavošana un publicēšana par 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vardarbību pret sievieti un vardarbību ģimenē situācijas analīzi un Plāna īstenotajiem pasākumi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ordVisi_MSFontService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imes New Roman"/>
                <a:ea typeface="Verdana"/>
              </a:rPr>
              <a:t>Izstrādes pro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6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F9625BC-0BE5-4D60-8372-E6990807834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03360" y="1319040"/>
            <a:ext cx="8083440" cy="5158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8.septembrī pirmā darba grupa (Valsts iestādes, NVO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2.oktobrī Plāna struktūra un apkopoti priekšlikumi izsūtīti iestādēm papildināšanai un komentēšana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Līdz 17.oktobrim iesaistītās iestādes sniedz savus redzējumus Plānā ietvertajiem pasākumi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Oktobrī un novembrī plānotas individuālas sanāksmes ar iestādēm un NV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Līdz 1.novembrim tiks sagatavots ziņojums par paveikto saistībā ar Plāna izstrād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685800" y="3107880"/>
            <a:ext cx="7772400" cy="2530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 u="sng">
                <a:solidFill>
                  <a:srgbClr val="0000ff"/>
                </a:solidFill>
                <a:uFillTx/>
                <a:latin typeface="Tahoma"/>
                <a:ea typeface="Verdana"/>
                <a:hlinkClick r:id="rId1"/>
              </a:rPr>
              <a:t>www.lm.gov.l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Twitter:@Lab_m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https://www.facebook.com/labklajibasministr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Flickr.com:Labklajibas_ministr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Youtube.com/labklajibasministr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Draugiem.lv/labklaji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57607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elde Kēla</cp:lastModifiedBy>
  <dcterms:modified xsi:type="dcterms:W3CDTF">2023-10-11T11:36:33Z</dcterms:modified>
  <cp:revision>115</cp:revision>
  <dc:subject/>
  <dc:title>PowerPoint Presentation</dc:title>
</cp:coreProperties>
</file>