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20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21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22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2AAF717-DD2A-4E7A-922C-3B86D7611FB5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339840" y="80028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74668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Sociālā uzņēmējdarbība ļauj risināt sociālās problēmas ar biznesa instrumentiem - uzņēmums ražo preces vai sniedz pakalpojumus ar mērķi risināt sociālo problēmu, nevis ar mērķi gūt finansiālu labumu uzņēmuma īpašnieki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eidojot sociālo uzņēmumu, pirmais ar ko būtu jāsāk ir izzināt mūsu sabiedrības problēmas un vajadzība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Izejot no tā, definē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- sava uzņēmuma sociālo mērķi (tam ir jābūt pozitīvai sociālai ietekmei un jābūt definētam statūtos vai citā līdzvērtīgā dokumentā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- biznesa ideju, kurai tici un kura ilgtermiņā būs dzīvotspējīga (tai jānes peļņu, lai varētu konkurēt ar citiem uzņēmumiem tirgū un   investēt sociālajos uzņēmuma mērķos)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91BE746-DED2-4873-AA41-57DA5D11098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5D65-84C3-457A-A619-70A29C870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1FF5-63F3-4FEC-875B-AFEA4FDB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4EA19C-9B7E-4FD0-9A67-EDBCB0CA2F8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27A314-ED43-47FF-8AE0-2AB43A5BA09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273F67-CDAC-4051-A308-98E30315B8B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2BA4A4-3304-47BC-9448-9ABF5A0432A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F30A49-55A9-4C15-86C5-3BB6EF49043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26F9E4-83BA-4B25-A5EF-0685203F757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682DFE-FDCF-4BD4-A2E6-1755ACDE26A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D6140C-11B8-400B-BCE4-ADEB68FEF46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0F2D69-3639-4B70-BFDE-C4C77DD073F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BA7D-EF68-4968-91FC-ED4D617EE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041D-C308-4CF3-9693-48625D36C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E20A6D-FEDE-4C6B-828D-0906211D3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A46CEE-594F-4B28-A867-97183CC0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379F52-3AF1-446B-B6A1-7CE9D7AC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64141F-BEED-4886-AEC9-C2A807AF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ECD2B0-068B-49D0-A1CF-5566B0A0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860F1B-EABC-43CF-8587-51C3018A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B616C5-0F83-4E36-B7D7-900B09A9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6EA25B-0B8E-49AB-B745-C0E51417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2BBC7C-4F5B-41AF-A8DE-002520F0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8DB2F0-5C13-4EEC-B82D-DAEBA85A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AB6F94-79A6-4EFA-94B7-25F6AEF0C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723E9F-3EDD-4805-88D1-0A1858F23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059590-37D4-404A-9D8D-0689F8AB2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947A8B-EEB5-4AF8-8A34-B11794A7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7705CD-5440-45D4-A4F0-0CED8DD8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DC0824-4404-4CFF-8A8B-28EAD0626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A2DE5E-7DE9-4C45-982A-CDD448F0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136628-4A98-4E6D-998D-430D22E4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0102E5-277C-49DA-8CE2-4113C810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889754-4D75-4A2F-88C2-364233F6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8752E1-F32C-48DF-ADA7-A3E477BF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A2CE02-3A03-40BF-96CE-EE29F1460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12E7A2-0707-4CFF-8FCE-665A1B8AB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864E65-BA5F-40AD-9D6A-7913E1C21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7BE5C3-B254-4D0A-B59F-66AD9C3BD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361E18-2D87-464F-8003-550232FA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E5EB7F-19BA-4446-A285-0C12B150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855523-57FF-49AC-9A2E-B7DEE143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940419-10E6-4F79-A535-B3049AD7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940214-7667-4FBE-8ADA-1097CD97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2DC3F5-4E2A-4DD1-BCBB-1272E523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D301C3-0CE4-48C0-9E6E-FF4A8E29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717881-52DE-487C-A6DF-BE7DDA17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3AF13F-3E35-4BC1-B7D7-C4B489E3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E04488-9B2A-47EC-9D86-B9EE8BCB4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F32FC3-7E72-4873-95DB-77C5FC23D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AA02-D005-45DD-99FB-370935DD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280DD-E329-4FD8-8812-C166B63F040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C6EDD-CA3B-4E08-B498-93EF04E0560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677954-C5E6-4514-8D44-175059A5628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227F10-52E1-42F2-BADC-1CF412DBEC0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1AEBE1-9E90-474C-89BB-21EBB47F1C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6C34-364E-4A3D-A19F-698FB7A3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3A0AA8-4350-4AE2-A90F-4C04F2E7A4B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CB91FD-CC16-4B39-8DE7-4B4141281DE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28DBE4-A14B-41F4-9243-36B0A4F63BE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2E6776-D73B-426B-8A9D-DBC47DDF539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0B3D5-0CA6-4C2D-84AF-EED41C5AF32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CDD4A-0915-4EB1-8F12-05AE75237FA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19C827-663B-40AB-9581-2BCA2FDF139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072CA-13D7-40BC-B969-2E774F9D106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7627A-812F-428D-BE46-B5AEACB7A19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02FF01-81C2-4F64-A3B3-C3FC13D318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DEAF-044F-4F3E-93FD-95E8869D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ED6747-04B8-4F35-B978-41B4B46784D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1BCA4-EFF7-457F-8C49-A1F3642D425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37C852-BD0E-4050-996D-6DBDA8D9C53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9C2A9-B450-4E03-BB8B-8B34F0221B5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5E088-D65D-40F9-800C-F7AB5C0C984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43EB4B-230E-42FA-8010-39B6A11F24F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A16CF7-277D-4502-96E4-6EE0DD32EB2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445E33-F427-4308-971C-DD1C40F0CFA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B6E80-6931-4015-A8AD-5E94CAEC2E7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CCA0-8284-4D56-93B6-2B7767F725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223E-5E64-4E6A-9D11-CAD6BD7B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B709-9F55-4121-8BE8-B69BAE79282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4645-9154-4000-A059-D9285F3412B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0DD2-BB01-409B-B26E-327ED579B30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6060-3CBC-41E3-A361-EBCADD32EA3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7D7D-42A8-49DB-AC97-ED4CBB50FB0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FB20F-221F-4213-8FBF-234F33EF18E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F460-25D9-47FA-9544-AD15C7DCAA2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50C18-D376-4F4B-9D8C-B4B86FAFE46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CFC1-B58D-438C-8070-317B6E7C439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372F-EF96-4036-85CB-725F36F1B6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74BA-855A-4FF2-AA9B-068DAD83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1166-AF9F-4C9D-A58B-3A57E34DC41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1434CF-1405-4F7E-8482-F257B1760F7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84A3A3-9495-48AB-B700-60D23F8CB6A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017EA0-9049-460D-9D28-110186FDECB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EAF760-196C-4313-A548-D21B602E54C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1AC8EF-2E94-46B7-89AD-E7EC1DB7EF0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816646-A8CE-4979-B9C8-028F1D70E73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A61E4F-5D93-456A-AD4B-E6FA5A64D24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C20E7A-EAC6-494E-B5C2-687ECFB51BD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64FD88-6A00-41E6-8664-4CE54A2003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C253-3E96-4E40-B7FE-D9B5EF7E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27355D-ACD6-4559-A9BE-B68645EBAB0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24CC07-CBBE-4D33-9E1B-E004674B18C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01A27B-94C4-42E6-A4BE-1F89410C800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AA840E-3025-46A6-AE9F-94501407E89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054AFA-CF2D-49E7-AA52-D4A250CDD78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EBDD35-3AB0-4E81-A6E4-93C6BD63657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EA594A-62D7-4726-960C-5138DD75179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2DC1D7-29A8-4A72-B0E5-15F5EEBC346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BF37EE-01BD-459D-9404-A00800AA16A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97C840-C889-4517-8052-DD46E0EE48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5557-2C96-4286-A002-0817EEA9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217423-BA76-42B6-BC07-8112756C4D0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D42440-98D1-4120-87C1-A3ADC4E4973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252C45-3AB5-46B0-8569-321BED0CFFE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16586B-E030-4602-B275-4D6B681A905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479E77-7E76-4AD2-AE2D-CC3DD1AF34E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C1562-B2E4-4D63-9EBA-1617F14E311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D268C-CEFF-48C1-A8DF-0C533B9DE33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F44BC-AA2A-4B12-A8E5-7561E6FCC3C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E8ADF-7390-4734-B6F8-EF201487896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446F8-389E-4FD0-AAF4-595F98642D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38CC-662E-4A1F-A33E-2A78B2D0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8EF17-1F5D-41F7-97D8-7C44C41A606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B57ED-721E-49C1-A0AC-1CC35B2FC5F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4E39D-A718-473B-B023-5B1B54B733D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960C9-7E26-42EA-8F25-C0F6FE33149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C7010-6185-42CF-9494-61B8F214E1C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B9E00-3EB7-4CD0-ABEC-A6E7B4B64B5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3C939-2BB0-44EA-ACE3-B7D1813BF59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207A69-32D6-43FD-896E-778E7E636A3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99ACF9-CCBE-4C89-B4F4-88DACDBDE9F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A7FCDD-5C44-4A77-9A14-A52FD90191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24DEF79-B3CE-4FA5-A7D4-FC48FE14819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E22F47D-A39D-4240-9972-8A5623FA94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7" descr=""/>
          <p:cNvPicPr/>
          <p:nvPr/>
        </p:nvPicPr>
        <p:blipFill>
          <a:blip r:embed="rId2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"/>
          <p:cNvPicPr/>
          <p:nvPr/>
        </p:nvPicPr>
        <p:blipFill>
          <a:blip r:embed="rId3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AA8276E-871B-4382-9D7A-FF8F0F10ED97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CF0112B-CC54-49F2-92E6-CFC2359C30E3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1383A6B-BD33-4283-8C9A-BF9ED9D6CEB3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F5BA12B-055C-4A66-97AC-71DD7C0CDDF3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3104EFB-0480-489C-B6D2-6C2471BD0232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EF35800-DDA3-434F-A917-14B6856EFCC4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685800" y="4724280"/>
            <a:ext cx="77724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AED87C2-86F3-4E2A-9250-BC88E751406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3B31A3B-9922-440A-B20D-80652D270A6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56BDA90-7B01-4D60-A6E2-F472FF28635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17A6E11-66FE-430E-9CE4-2DB9B140C3B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268A77B-4526-45B1-A452-F863FF14E5A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49F4020-4336-4C7A-A6C8-19D53217655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587B344-68E6-4FAA-8B79-A3F7CAF3E33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66880" y="2813040"/>
            <a:ext cx="7772400" cy="1874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>
                <a:solidFill>
                  <a:srgbClr val="404040"/>
                </a:solidFill>
                <a:latin typeface="Verdana"/>
                <a:ea typeface="Verdana"/>
              </a:rPr>
              <a:t>Eiropas Sociālā fonda projekta</a:t>
            </a:r>
            <a:br>
              <a:rPr sz="1900"/>
            </a:br>
            <a:r>
              <a:rPr b="1" lang="lv-LV" sz="1900" spc="-1" strike="noStrike">
                <a:solidFill>
                  <a:srgbClr val="404040"/>
                </a:solidFill>
                <a:latin typeface="Verdana"/>
                <a:ea typeface="Verdana"/>
              </a:rPr>
              <a:t>«Atbalsts sociālajai uzņēmējdarbībai»</a:t>
            </a:r>
            <a:r>
              <a:rPr b="1" lang="lv-LV" sz="2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br>
              <a:rPr sz="2600"/>
            </a:br>
            <a:r>
              <a:rPr b="1" lang="lv-LV" sz="1100" spc="-1" strike="noStrike">
                <a:solidFill>
                  <a:srgbClr val="404040"/>
                </a:solidFill>
                <a:latin typeface="Verdana"/>
                <a:ea typeface="Verdana"/>
              </a:rPr>
              <a:t>vienošanās Nr. 9.1.1.3/15/I/001 </a:t>
            </a:r>
            <a:br>
              <a:rPr sz="700"/>
            </a:br>
            <a:br>
              <a:rPr sz="1900"/>
            </a:br>
            <a:br>
              <a:rPr sz="1600"/>
            </a:br>
            <a:br>
              <a:rPr sz="2000"/>
            </a:br>
            <a:br>
              <a:rPr sz="2200"/>
            </a:br>
            <a:br>
              <a:rPr sz="1900"/>
            </a:br>
            <a:br>
              <a:rPr sz="1900"/>
            </a:br>
            <a:br>
              <a:rPr sz="1700"/>
            </a:br>
            <a:br>
              <a:rPr sz="1700"/>
            </a:br>
            <a:br>
              <a:rPr sz="13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98640" y="587988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4" descr=""/>
          <p:cNvPicPr/>
          <p:nvPr/>
        </p:nvPicPr>
        <p:blipFill>
          <a:blip r:embed="rId1"/>
          <a:stretch/>
        </p:blipFill>
        <p:spPr>
          <a:xfrm>
            <a:off x="2128680" y="4994280"/>
            <a:ext cx="524844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30040" y="1116000"/>
            <a:ext cx="681804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Informācija par projektu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0" y="1866600"/>
            <a:ext cx="911376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s tiks īstenot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Eiropas Sociālā fonda darbības programmas „Izaugsme un nodarbinātība” 9.1.1. specifiskā atbalsta mērķa „Palielināt nelabvēlīgākā situācijā esošu bezdarbnieku iekļaušanos darba tirgū” 9.1.1.3.pasākuma «Atbalsts sociālajai uzņēmējdarbībai»  ietvar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a īstenotāj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Labklājības ministrija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a partneri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pt-BR" sz="1700" spc="-1" strike="noStrike">
                <a:solidFill>
                  <a:srgbClr val="404040"/>
                </a:solidFill>
                <a:latin typeface="Verdana"/>
                <a:ea typeface="Verdana"/>
              </a:rPr>
              <a:t>AS "Attīstības finanšu institūcija Altum"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lānotās izmaksa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0" lang="lv-LV" sz="1700" spc="-1" strike="noStrike">
                <a:solidFill>
                  <a:srgbClr val="404040"/>
                </a:solidFill>
                <a:latin typeface="Times New Roman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19 920 206</a:t>
            </a:r>
            <a:r>
              <a:rPr b="0" i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euro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a īstenošanas laik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2016.gada 4.janvāris - 2022.gada 31.decembris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C7803DD-FB48-48F3-9314-8D4B9E10AC6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6" descr=""/>
          <p:cNvPicPr/>
          <p:nvPr/>
        </p:nvPicPr>
        <p:blipFill>
          <a:blip r:embed="rId1"/>
          <a:stretch/>
        </p:blipFill>
        <p:spPr>
          <a:xfrm>
            <a:off x="6969240" y="-68400"/>
            <a:ext cx="170172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2021481-938F-48FA-ABB6-1A0AE6E9CAD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744200" y="780840"/>
            <a:ext cx="5992920" cy="1083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Kas ir sociālā uzņēmējdarbīb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2"/>
          <p:cNvSpPr/>
          <p:nvPr/>
        </p:nvSpPr>
        <p:spPr>
          <a:xfrm>
            <a:off x="582480" y="1515960"/>
            <a:ext cx="8182080" cy="57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Sociālā uzņēmuma izveides mērķis ir vērsts uz sociālo vai sabiedrībai nozīmīgo problēmu risināša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Sociālie uzņēmumi ir tirgus dalībnieki, kas ražo preces un sniedz pakalpojum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Sociālie uzņēmumi gūto peļņu investē sociālā mērķa sasniegšan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Tiek nodarbināti algoti darbiniek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sociālajos uzņēmumos, kuru </a:t>
            </a:r>
            <a:r>
              <a:rPr b="0" lang="lv-LV" sz="1600" spc="-1" strike="noStrike" u="sng">
                <a:solidFill>
                  <a:srgbClr val="404040"/>
                </a:solidFill>
                <a:uFillTx/>
                <a:latin typeface="Verdana"/>
              </a:rPr>
              <a:t>mērķis ir sabiedrībai svarīgas sociālas problēmas risinājum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 un nodarbināti darbinieki, ar kuriem nodibinātas darba tiesiskās attiecīb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darba integrācijas uzņēmumi - sociālo uzņēmumu veids, kuru galvenais </a:t>
            </a:r>
            <a:r>
              <a:rPr b="0" lang="lv-LV" sz="1600" spc="-1" strike="noStrike" u="sng">
                <a:solidFill>
                  <a:srgbClr val="404040"/>
                </a:solidFill>
                <a:uFillTx/>
                <a:latin typeface="Verdana"/>
              </a:rPr>
              <a:t>mērķis ir riska grupu nodarbinātība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– integrācija darba tirgū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8" descr=""/>
          <p:cNvPicPr/>
          <p:nvPr/>
        </p:nvPicPr>
        <p:blipFill>
          <a:blip r:embed="rId1"/>
          <a:stretch/>
        </p:blipFill>
        <p:spPr>
          <a:xfrm>
            <a:off x="7547040" y="111240"/>
            <a:ext cx="145260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3160" y="488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4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Projekta mērķ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Content Placeholder 7" descr=""/>
          <p:cNvPicPr/>
          <p:nvPr/>
        </p:nvPicPr>
        <p:blipFill>
          <a:blip r:embed="rId1"/>
          <a:stretch/>
        </p:blipFill>
        <p:spPr>
          <a:xfrm>
            <a:off x="7151760" y="446040"/>
            <a:ext cx="1009440" cy="106380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12800" y="1712880"/>
            <a:ext cx="7920000" cy="440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rojekta mērķis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ir noteikt un pārbaudīt optimālus risinājumus sociālo uzņēmumu izveidei un attīstībai, tai skaitā darba integrācijas sociālo uzņēmumu atbalstam, lai palielinātu nodarbinātības iespēja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-2854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nelabvēlīgākā situācijā esošiem bezdarbniekiem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-2854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personām ar invaliditāti un personām ar garīga rakstura traucējumiem</a:t>
            </a:r>
            <a:r>
              <a:rPr b="0" lang="lv-LV" sz="1400" spc="-1" strike="noStrike">
                <a:solidFill>
                  <a:srgbClr val="404040"/>
                </a:solidFill>
                <a:latin typeface="Verdana"/>
              </a:rPr>
              <a:t>.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rojekta ietvaros tiks izveidota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o uzņēmumu atbalsta sistēma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 kas ietver sociālo uzņēmumu atlases kritērijus un atbalsta instrumentus. Tāpat atbalsta sistēmas ietvaros izstrādāts pasākuma dalībnieku</a:t>
            </a:r>
            <a:r>
              <a:rPr b="0" i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eģistrs un uzsākts reģistrācijas process, kurā varēs iesaistīties komersanti, biedrības un nodibinājum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rojekts ļaus noteikt efektīvākās atbalsta formas sociālo uzņēmumu attīstībai, lai tiktu veidoti jauni uzņēmumi, radītas darba vietas un ieviestas jaunas un efektīvas pieejas sociālu problēmu risināšanā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4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139AB3B-5003-49F7-BDDB-F95476BB2B9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471680" y="509400"/>
            <a:ext cx="651816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0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Projekta aktivitāt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227160" y="1531440"/>
            <a:ext cx="8364240" cy="5627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abiedrības izpratnes veidošanas un izglītošanas pasākumi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r jaunā projekta iniciatīvu, par sociālās uzņēmējdarbības pazīmēm/kritērijiem, par atbalsta sniegšanas iespējām sociālajai uzņēmējdarbībai un šādas uzņēmējdarbības  pieredzi, projekta mērķa grupu un sabiedrības informēšana saistībā ar projekta uzsākša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o uzņēmumu (</a:t>
            </a:r>
            <a:r>
              <a:rPr b="0" i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sākuma dalībnieku)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eģistra izstrāde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- projekta rezultātā izstrādāti un ieviesti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zīmes/kritēriji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o uzņēmumu atpazīstamība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zsākta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sākuma dalībnieku atlase un reģistrācija (īsteno LM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zsākta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atbalsta sniegšana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komersantiem, biedrībām, nodibinājumiem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īsteno ALTU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 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Atbalsta sniegšana sociālās uzņēmējdarbības uzsācējiem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ās uzņēmējdarbības ideju konkursa organizēšana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īsteno LM)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konsultāciju nodrošināšana sociālās uzņēmējdarbības uzsācēju biznesa plānu izstrādei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īsteno L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590560" y="6629400"/>
            <a:ext cx="1981080" cy="46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-720" bIns="-7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3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876920" y="6583320"/>
            <a:ext cx="3657600" cy="46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-720" bIns="-7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3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5F9FC3B-A5E9-4FDA-BC31-78DA88A73C8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Picture 6" descr="Attēlu rezultāti vaicājumam “photos for registration”"/>
          <p:cNvPicPr/>
          <p:nvPr/>
        </p:nvPicPr>
        <p:blipFill>
          <a:blip r:embed="rId1"/>
          <a:stretch/>
        </p:blipFill>
        <p:spPr>
          <a:xfrm flipH="1" rot="18840000">
            <a:off x="7716240" y="243360"/>
            <a:ext cx="1182600" cy="11826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8" descr=""/>
          <p:cNvPicPr/>
          <p:nvPr/>
        </p:nvPicPr>
        <p:blipFill>
          <a:blip r:embed="rId2"/>
          <a:stretch/>
        </p:blipFill>
        <p:spPr>
          <a:xfrm>
            <a:off x="7989840" y="4873680"/>
            <a:ext cx="102240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64880" y="550800"/>
            <a:ext cx="6751800" cy="1046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Pieteikšanās reģistrācijai </a:t>
            </a:r>
            <a:br>
              <a:rPr sz="2400"/>
            </a:b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un a</a:t>
            </a: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ヒラギノ角ゴ Pro W3"/>
              </a:rPr>
              <a:t>tbalsta saņemšanas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8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68004DE-9A27-4FEB-A8F0-978979B66B5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4" descr=""/>
          <p:cNvPicPr/>
          <p:nvPr/>
        </p:nvPicPr>
        <p:blipFill>
          <a:blip r:embed="rId1"/>
          <a:stretch/>
        </p:blipFill>
        <p:spPr>
          <a:xfrm>
            <a:off x="1211400" y="2538360"/>
            <a:ext cx="1638000" cy="1636920"/>
          </a:xfrm>
          <a:prstGeom prst="rect">
            <a:avLst/>
          </a:prstGeom>
          <a:ln w="0">
            <a:noFill/>
          </a:ln>
        </p:spPr>
      </p:pic>
      <p:cxnSp>
        <p:nvCxnSpPr>
          <p:cNvPr id="560" name="Straight Arrow Connector 7"/>
          <p:cNvCxnSpPr/>
          <p:nvPr/>
        </p:nvCxnSpPr>
        <p:spPr>
          <a:xfrm flipV="1">
            <a:off x="3018240" y="2562840"/>
            <a:ext cx="930240" cy="3434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561" name="Picture 10" descr=""/>
          <p:cNvPicPr/>
          <p:nvPr/>
        </p:nvPicPr>
        <p:blipFill>
          <a:blip r:embed="rId2"/>
          <a:stretch/>
        </p:blipFill>
        <p:spPr>
          <a:xfrm>
            <a:off x="4199040" y="1919160"/>
            <a:ext cx="1141200" cy="1116000"/>
          </a:xfrm>
          <a:prstGeom prst="rect">
            <a:avLst/>
          </a:prstGeom>
          <a:ln w="0">
            <a:noFill/>
          </a:ln>
        </p:spPr>
      </p:pic>
      <p:cxnSp>
        <p:nvCxnSpPr>
          <p:cNvPr id="562" name="Straight Arrow Connector 9"/>
          <p:cNvCxnSpPr/>
          <p:nvPr/>
        </p:nvCxnSpPr>
        <p:spPr>
          <a:xfrm>
            <a:off x="4876560" y="3123720"/>
            <a:ext cx="1080" cy="9630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563" name="Picture 11" descr=""/>
          <p:cNvPicPr/>
          <p:nvPr/>
        </p:nvPicPr>
        <p:blipFill>
          <a:blip r:embed="rId3"/>
          <a:stretch/>
        </p:blipFill>
        <p:spPr>
          <a:xfrm>
            <a:off x="4199040" y="4149720"/>
            <a:ext cx="1101600" cy="1062000"/>
          </a:xfrm>
          <a:prstGeom prst="rect">
            <a:avLst/>
          </a:prstGeom>
          <a:ln w="0">
            <a:noFill/>
          </a:ln>
        </p:spPr>
      </p:pic>
      <p:cxnSp>
        <p:nvCxnSpPr>
          <p:cNvPr id="564" name="Straight Arrow Connector 11"/>
          <p:cNvCxnSpPr/>
          <p:nvPr/>
        </p:nvCxnSpPr>
        <p:spPr>
          <a:xfrm>
            <a:off x="3019320" y="4013280"/>
            <a:ext cx="953280" cy="35892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5" name="Content Placeholder 8"/>
          <p:cNvSpPr/>
          <p:nvPr/>
        </p:nvSpPr>
        <p:spPr>
          <a:xfrm>
            <a:off x="5673600" y="1797120"/>
            <a:ext cx="280512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1f497d"/>
                </a:solidFill>
                <a:latin typeface="Verdana"/>
              </a:rPr>
              <a:t>Labklājības ministri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Jāreģistrējas</a:t>
            </a:r>
            <a:r>
              <a:rPr b="0" lang="lv-LV" sz="1200" spc="-1" strike="noStrike">
                <a:solidFill>
                  <a:srgbClr val="17375e"/>
                </a:solidFill>
                <a:latin typeface="Verdana"/>
              </a:rPr>
              <a:t> LM pasākuma dalībnieku reģistr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Content Placeholder 8"/>
          <p:cNvSpPr/>
          <p:nvPr/>
        </p:nvSpPr>
        <p:spPr>
          <a:xfrm>
            <a:off x="835200" y="4305240"/>
            <a:ext cx="244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Verdana"/>
              </a:rPr>
              <a:t>Uzņēm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1f497d"/>
                </a:solidFill>
                <a:latin typeface="Verdana"/>
              </a:rPr>
              <a:t>Komersants, biedrība, nodibināju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5562720" y="4149720"/>
            <a:ext cx="27288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AL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Jāiesniedz biznesa plāns</a:t>
            </a:r>
            <a:r>
              <a:rPr b="0" lang="lv-LV" sz="1200" spc="-1" strike="noStrike">
                <a:solidFill>
                  <a:srgbClr val="17375e"/>
                </a:solidFill>
                <a:latin typeface="Verdana"/>
              </a:rPr>
              <a:t> ALTUM (vērtē ALTUM) un sociālās ietekmes apraksts (vērtē LM), </a:t>
            </a: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tiek slēgts līgums par</a:t>
            </a:r>
            <a:r>
              <a:rPr b="0" lang="lv-LV" sz="1200" spc="-1" strike="noStrike">
                <a:solidFill>
                  <a:srgbClr val="17375e"/>
                </a:solidFill>
                <a:latin typeface="Verdana"/>
              </a:rPr>
              <a:t> finanšu </a:t>
            </a: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atbalsta saņemšan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050920" y="544320"/>
            <a:ext cx="6096240" cy="1035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2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Turpmāk plānotās aktivitātes </a:t>
            </a:r>
            <a:br>
              <a:rPr sz="18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39760" y="1795320"/>
            <a:ext cx="6718320" cy="4510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800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tlaban norisinās darbs pie Ministru kabineta noteikumu grozījumu izstrādes 2015.gada 11.augusta noteikumiem Nr.467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Darbības programmas "Izaugsme un nodarbinātība" 9.1.1. specifiskā atbalsta mērķa "Palielināt nelabvēlīgākā situācijā esošu bezdarbnieku iekļaušanos darba tirgū" 9.1.1.3.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sākuma "Atbalsts sociālajai uzņēmējdarbībai"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īstenošanas noteikumi» ietva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eģistrācija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LM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pasākuma dalībnieku reģistrā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n atbalsta saņemšana ALTUM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zsāksies </a:t>
            </a:r>
            <a:r>
              <a:rPr b="1" lang="lv-LV" sz="16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pēc MK noteikumu Nr.467 grozījumu stāšanās spēkā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581EE3C-BA44-4B16-8AB9-DD525B0E144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Picture 6" descr=""/>
          <p:cNvPicPr/>
          <p:nvPr/>
        </p:nvPicPr>
        <p:blipFill>
          <a:blip r:embed="rId1"/>
          <a:stretch/>
        </p:blipFill>
        <p:spPr>
          <a:xfrm>
            <a:off x="7186680" y="3838680"/>
            <a:ext cx="1728720" cy="17269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7" descr=""/>
          <p:cNvPicPr/>
          <p:nvPr/>
        </p:nvPicPr>
        <p:blipFill>
          <a:blip r:embed="rId2"/>
          <a:stretch/>
        </p:blipFill>
        <p:spPr>
          <a:xfrm>
            <a:off x="6878520" y="1365120"/>
            <a:ext cx="226548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928880" y="603000"/>
            <a:ext cx="7129440" cy="887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2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Informācija biedrībām un nodibinājumi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293760" y="1638360"/>
            <a:ext cx="8393040" cy="4991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2016.gada 15.decembrī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LR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aeimā  pirmajā lasījumā  pieņemt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ās uzņēmējdarbības likum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 kas paredz, ka sociālā uzņēmuma statusu Latvijā varēs iegūt </a:t>
            </a:r>
            <a:r>
              <a:rPr b="0" lang="lv-LV" sz="16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komersant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(plānotā spēkā stāšanās 2018. gada 1. janvārī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Likuma apstiprināšanas un spēkā stāšanās gadījumā,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biedrības un nodibinājumi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 kas projekta ietvaros 2017.gadā būs noslēguši līgumu ar «Altum» par finanšu atbalsta saņemšanu,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varēs turpināt darboties esošajā biedrības un nodibinājuma statusā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līguma darbības laikā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Atkārtotai pretendēšanai finanšu atbalsta saņemšanai projekta ietvaros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no 2018. gada 1. janvāra, biedrībai un nodibinājumam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būs jāpārreģistrējas par komersantu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askaņā ar jauno likum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Biedrības un nodibinājumi tiks informēti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par iespējamām izmaiņām projekta ietvaros un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tālāko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īcību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C2C8A85-76E9-4888-AAD6-692566C399F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366480" y="3225600"/>
            <a:ext cx="8289720" cy="2508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lv-LV" sz="2800" spc="-1" strike="noStrike">
                <a:solidFill>
                  <a:srgbClr val="404040"/>
                </a:solidFill>
                <a:latin typeface="Verdana"/>
                <a:ea typeface="Verdana"/>
              </a:rPr>
              <a:t>Paldi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lv-LV" sz="1400" spc="-1" strike="noStrike">
                <a:solidFill>
                  <a:srgbClr val="000000"/>
                </a:solidFill>
                <a:latin typeface="Verdana"/>
                <a:ea typeface="Verdana"/>
              </a:rPr>
              <a:t>www.lm.gov.l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Raitis Bukovskis</cp:lastModifiedBy>
  <cp:lastPrinted>2017-01-24T12:45:49Z</cp:lastPrinted>
  <dcterms:modified xsi:type="dcterms:W3CDTF">2017-02-13T09:51:00Z</dcterms:modified>
  <cp:revision>420</cp:revision>
  <dc:subject/>
  <dc:title>PowerPoint Presentation</dc:title>
</cp:coreProperties>
</file>