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3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68.xml" ContentType="application/vnd.openxmlformats-officedocument.theme+xml"/>
  <Override PartName="/ppt/theme/theme88.xml" ContentType="application/vnd.openxmlformats-officedocument.theme+xml"/>
  <Override PartName="/ppt/theme/theme76.xml" ContentType="application/vnd.openxmlformats-officedocument.theme+xml"/>
  <Override PartName="/ppt/theme/theme87.xml" ContentType="application/vnd.openxmlformats-officedocument.theme+xml"/>
  <Override PartName="/ppt/theme/theme75.xml" ContentType="application/vnd.openxmlformats-officedocument.theme+xml"/>
  <Override PartName="/ppt/theme/theme86.xml" ContentType="application/vnd.openxmlformats-officedocument.theme+xml"/>
  <Override PartName="/ppt/theme/theme74.xml" ContentType="application/vnd.openxmlformats-officedocument.theme+xml"/>
  <Override PartName="/ppt/theme/theme85.xml" ContentType="application/vnd.openxmlformats-officedocument.theme+xml"/>
  <Override PartName="/ppt/theme/theme73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80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82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1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</p:sldMasterIdLst>
  <p:notesMasterIdLst>
    <p:notesMasterId r:id="rId89"/>
  </p:notesMasterIdLst>
  <p:sldIdLst>
    <p:sldId id="256" r:id="rId90"/>
    <p:sldId id="257" r:id="rId91"/>
    <p:sldId id="258" r:id="rId92"/>
    <p:sldId id="259" r:id="rId93"/>
    <p:sldId id="260" r:id="rId94"/>
    <p:sldId id="261" r:id="rId95"/>
    <p:sldId id="262" r:id="rId96"/>
    <p:sldId id="263" r:id="rId97"/>
    <p:sldId id="264" r:id="rId98"/>
    <p:sldId id="265" r:id="rId99"/>
    <p:sldId id="266" r:id="rId100"/>
    <p:sldId id="267" r:id="rId101"/>
    <p:sldId id="268" r:id="rId102"/>
    <p:sldId id="269" r:id="rId103"/>
    <p:sldId id="270" r:id="rId104"/>
    <p:sldId id="271" r:id="rId105"/>
    <p:sldId id="272" r:id="rId106"/>
    <p:sldId id="273" r:id="rId107"/>
    <p:sldId id="274" r:id="rId108"/>
    <p:sldId id="275" r:id="rId109"/>
    <p:sldId id="276" r:id="rId1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notesMaster" Target="notesMasters/notesMaster1.xml"/><Relationship Id="rId90" Type="http://schemas.openxmlformats.org/officeDocument/2006/relationships/slide" Target="slides/slide1.xml"/><Relationship Id="rId91" Type="http://schemas.openxmlformats.org/officeDocument/2006/relationships/slide" Target="slides/slide2.xml"/><Relationship Id="rId92" Type="http://schemas.openxmlformats.org/officeDocument/2006/relationships/slide" Target="slides/slide3.xml"/><Relationship Id="rId93" Type="http://schemas.openxmlformats.org/officeDocument/2006/relationships/slide" Target="slides/slide4.xml"/><Relationship Id="rId94" Type="http://schemas.openxmlformats.org/officeDocument/2006/relationships/slide" Target="slides/slide5.xml"/><Relationship Id="rId95" Type="http://schemas.openxmlformats.org/officeDocument/2006/relationships/slide" Target="slides/slide6.xml"/><Relationship Id="rId96" Type="http://schemas.openxmlformats.org/officeDocument/2006/relationships/slide" Target="slides/slide7.xml"/><Relationship Id="rId97" Type="http://schemas.openxmlformats.org/officeDocument/2006/relationships/slide" Target="slides/slide8.xml"/><Relationship Id="rId98" Type="http://schemas.openxmlformats.org/officeDocument/2006/relationships/slide" Target="slides/slide9.xml"/><Relationship Id="rId99" Type="http://schemas.openxmlformats.org/officeDocument/2006/relationships/slide" Target="slides/slide10.xml"/><Relationship Id="rId100" Type="http://schemas.openxmlformats.org/officeDocument/2006/relationships/slide" Target="slides/slide11.xml"/><Relationship Id="rId101" Type="http://schemas.openxmlformats.org/officeDocument/2006/relationships/slide" Target="slides/slide12.xml"/><Relationship Id="rId102" Type="http://schemas.openxmlformats.org/officeDocument/2006/relationships/slide" Target="slides/slide13.xml"/><Relationship Id="rId103" Type="http://schemas.openxmlformats.org/officeDocument/2006/relationships/slide" Target="slides/slide14.xml"/><Relationship Id="rId104" Type="http://schemas.openxmlformats.org/officeDocument/2006/relationships/slide" Target="slides/slide15.xml"/><Relationship Id="rId105" Type="http://schemas.openxmlformats.org/officeDocument/2006/relationships/slide" Target="slides/slide16.xml"/><Relationship Id="rId106" Type="http://schemas.openxmlformats.org/officeDocument/2006/relationships/slide" Target="slides/slide17.xml"/><Relationship Id="rId107" Type="http://schemas.openxmlformats.org/officeDocument/2006/relationships/slide" Target="slides/slide18.xml"/><Relationship Id="rId108" Type="http://schemas.openxmlformats.org/officeDocument/2006/relationships/slide" Target="slides/slide19.xml"/><Relationship Id="rId109" Type="http://schemas.openxmlformats.org/officeDocument/2006/relationships/slide" Target="slides/slide20.xml"/><Relationship Id="rId110" Type="http://schemas.openxmlformats.org/officeDocument/2006/relationships/slide" Target="slides/slide21.xml"/><Relationship Id="rId1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 type="dt" idx="25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6" name="PlaceHolder 5"/>
          <p:cNvSpPr>
            <a:spLocks noGrp="1"/>
          </p:cNvSpPr>
          <p:nvPr>
            <p:ph type="ftr" idx="26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PlaceHolder 6"/>
          <p:cNvSpPr>
            <a:spLocks noGrp="1"/>
          </p:cNvSpPr>
          <p:nvPr>
            <p:ph type="sldNum" idx="26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C6A917-887F-44D9-A2B1-1D87B52EF728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C18806-A66E-449C-BAED-4F3D7AA0F3F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82C6D1-0568-450F-9CEB-0F41CE37ECC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ECEF55-D922-4002-AC17-29058E01525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FB6C41-1FC0-490D-B336-D78AF9B22E8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95BFBD3-45FB-4AF5-A5CB-9A5BDF8CBCB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BA4A0D-E96B-4989-8A6F-C7D24F15065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DA534C-F9A1-471C-9C87-857DCF52D8D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EE0E5E-655A-401D-A2D3-3DBA80828DF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C311CE-D8BA-4C37-B2C3-0E88F4B9995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328648-1D90-4BE9-AC3B-0BFD67E28E9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742B7C-5DF7-49D9-92B1-007D8DD4AF7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B65F944-79DE-4AD7-A069-5622D6D5543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670CB8-B4A7-4058-9BBD-F6A99260147C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057CE2-E48F-45AA-9287-192C03985BE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BD6CAB-7148-4239-9CC3-6E175558920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1633C5-CB98-4940-8F66-204F32567B5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64A8D3-469C-4909-8B4C-95DC75F22A3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D4983A-94E3-472C-BE06-91D358C70E1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1C648A-CF66-41CA-BBD7-7884380C2DC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0A6362-B49E-4F54-B970-FDC050D5C1E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5577-AF8F-416F-B1EB-883E9814F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49D4-030E-4836-B6B9-BDFB54C4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B1847-7E7B-4415-A5BE-AC56EC86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42AD5F3E-8CEF-4F0B-A749-520C93F7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61B6C078-A3AF-46C7-8849-1B052902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7F6C9B8E-7308-4338-9890-B3EF3781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30304B99-893D-4BB9-BEED-7C9083F9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CDA64C06-D207-4AAB-B25B-019569F4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B3DD6729-DC1F-4555-B2A8-68ADDFC6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F5A775F1-68C3-461B-9577-2CAC49C2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AFE71439-37A9-4F6C-97AB-6A05C8F1F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661083EA-1CD6-483C-8FF8-334992C32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A4BD9734-25A4-40BF-9C00-A2CE9510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51403-7257-48B1-92BA-C04A74D1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18900CFA-8D28-4A21-B0E2-5C55D962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0583359F-46EA-4532-A3F6-3FD3EF83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DB40611F-8168-432A-96EF-97FC8599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3DDF5C32-6BD5-453C-8A58-C1F7E72B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DB9DF0A3-3012-4773-9698-82A5170D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03BBE26D-7A93-4AB3-A055-9018A3B7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0149D28D-9A0F-4B8F-B63F-2184AD80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79D19DE1-2ADF-43CE-9249-1A71657F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3BA3E9FA-5D85-4A3C-AAE3-E613D1A2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D17E743C-377A-4566-B827-41C3801F8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7F535-3CB5-4BB5-9ED4-87D78039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A5BE7E47-E643-402A-B62C-EAAD5452C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BFFBCE9E-88A4-450B-8416-62FB7ED3A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92CB89D1-F90C-46E6-BC29-FAEEE879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91B4B5B4-6BFA-4A41-AC80-AA401D5D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EDE938BC-573C-4B34-A976-89CC5A17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7FEA5D5A-96EC-40FC-83E0-2EE1E7F1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318B02C5-3FA3-44BD-A899-C6CB4EF5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8D4A2F1F-8D58-417C-A471-F10B77E9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B5097CE6-C1B4-4B38-83A3-1A21EE88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C248AF6F-808E-4F2B-BAEE-6D01BF2C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E9F226-F831-4461-8076-E4AEBD8E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8BEA961D-BEA4-4639-8147-331D0842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6C482D58-B952-4F9E-BDFA-65009034C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D373F22A-82B5-488D-B1F4-87C38F6DD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B7F384B5-DB5B-4FC0-81D1-E89F40E86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234ECA5B-9A87-4208-94FB-EA8ED1D7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0AC047D8-AC44-43DA-9458-51E39BD7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0A20795B-9D81-438E-A868-7348835F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C9ABAE0A-6445-4E35-8BE1-AE6A3873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650A5A78-D23A-4253-A900-C2DBB1F5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036F5DF2-BCCF-448A-BAAD-28DF5D38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2A94F-C05B-4A5D-834B-01117DD5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0A9651CC-1D65-448A-8D95-A7681A85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3E6952A7-B170-4091-8285-4DB79779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858FE8B1-81A1-40A1-AB77-E80EAE63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054C9ADB-41B8-4386-BF54-C59E435C8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58B8F904-4965-4EDC-B240-F676801F9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26177-B9B0-480E-90BA-6114E67E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135D7-1CF5-4147-A587-9E17F296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DF88B-C389-4C7F-9204-7AD0162D8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3FE08-C9CE-4EF0-8D03-3EDEE1E8E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84896-77A9-457C-B2B6-E0DE400CC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8A70-3D89-4297-B994-C323DF76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D17A7B-E2A2-42D4-990D-5AFAB1BA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CFCCE7-963B-4023-95E8-1B5AB380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A9E64-3E90-4FE8-946E-B672E3A2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D4087-F926-45AF-A615-1EE3CA65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4F58CD-6923-4B2D-AA42-DA5CBBC6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B721A-810C-4AC9-BA60-DB9AC2E4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CB2890-42B5-4C60-8A6F-AF8B39BD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0E4775-AA56-4AEC-95E4-99DD484F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31F5D-BCD0-420E-883A-FD18A0FB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29A23-C3A3-44BB-BFD0-ECAA654E5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7293-B571-4B8B-B071-04296CE25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11BA2-7211-4942-B614-E746F0885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3977B-63E4-441C-BEBC-A97D7894E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0A22B-C9E6-4573-B81E-AF6C5001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7B77E-1712-4A16-A05B-503871F2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CF1BD-A359-4F0B-8803-1C930DD0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4D585-F509-44C0-8720-3D33B98C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A4243-C1C7-41AA-B7D6-BC519886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CA539-1524-480A-A3A3-FA0A649A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8628A4-7E89-4E27-A1B7-3BB1921C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CD917-7C43-402B-B13C-A187CA7F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CCB2-FE41-4CF9-8BE6-DF20EE34F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4D79E-7ADC-4CF5-9E44-D8CE19D9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F56C9D-D15D-4FD3-A824-B15A99CB9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BDA38-86AA-434D-AE3E-A88D36BA1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5BFEB0-1837-4EDE-B15C-FD37000E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A6A11F-D42F-44AE-A568-085199A3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CB2AC7-ED12-4902-AF80-8DEA4A03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F028A2-C5FC-4BD7-B73C-51EE27A3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FDA0FA-9D41-4ACE-A658-D2AB5E6D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0F2896-708A-4826-BC4B-30E5C2CE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8A4E69-5B05-4D21-9C2E-01DA22D2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4243-4447-48BD-89F3-91D7DC29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7593EA-099D-4618-BF7D-336414B3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30B004-C711-4E0A-AABB-B5504278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DD7422-1F90-4894-8460-78E3CBA4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4EDD2B-CE96-4FDC-AE60-B86348DA6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D139F3-90A5-456C-9BE3-4B15289B5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67EEC2-0CDB-46B8-AB14-D43E1F68F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D70685-0589-485C-97B0-62E0F384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613F3D-3A7E-47CB-BA26-0CCB6EA4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F8B7BD-4ACE-46FD-B70C-361DF353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F3812E-4ED0-4E89-8302-37626D22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8F03-827A-45FD-84F3-3D05823E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783174-61EE-4D09-8BBD-97F4A001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1CA4C9-92D3-4893-9A69-D11F27B3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C6A50D-3438-49ED-BEC2-BBBF5036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A71B58-77A1-49A0-90AE-DD6DA047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65435C-5FC5-44A8-AEBC-3F1D9C94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70B249-E2A5-4C56-B7B7-4EF2A2433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EAF076-F4F7-473F-8C1F-3A9C7D745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D16CB9-B11F-49C3-9743-BD3D8690D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057621-33EF-4182-87A3-3CFFF1C4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C37F88-5D37-42AC-9D7D-E857F7A1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D1D1-A0A7-44BF-8335-96A25070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F6604B-FAB0-4A4C-97B0-C0F04A91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99EC19-C1F5-4F18-9053-52459C2A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AD0ABA-7AD7-43B0-8A95-2C597254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70B2AE-4D45-4C59-8D28-4CF5F92B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8C1CEB-98B0-4280-9CC7-C0DF4D40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612F35-47A7-4F76-9D13-B880C8EF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6F9FFD-B9DB-49B3-B802-54C669D6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AF4F7C-E2AA-4F1F-8654-71ADA2CD0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D43DAB-24E9-420C-BF74-3F273A801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D69950-5147-4DCA-B1FA-468F33777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0CB3-F292-4375-B9F1-0D7DDDC4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9C3F79-24D7-4928-BC57-AFF6B931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582D01-262E-4437-A7C6-A290453E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27BFF9-7C27-47DB-A097-2E8E20DA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D10589-64A7-4693-87A1-BF7D9777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C61E42-E55F-4DF4-8368-1951123B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E05505-F3F7-4C98-B63C-DEE9856B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F86709-2B13-4820-BB77-9275B5DC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6934E2-98DB-4EDB-B295-0080C1CB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7FDF38-1D23-4FDB-AC14-0B1DDFEB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47D5F2-2440-40D4-941B-4E0717AFC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2D6A-87A5-46C3-A9FE-F5EE13B1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816AC9-80E2-4333-B6BB-A9A0D225E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00AB76-33C8-4FED-836F-84F8348BB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A6E73B-73CD-494F-983C-CFFE0165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C1D3C2-E834-4D4A-A265-50DAE2AA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6D3B2A-7925-4B39-8EE2-0575DBB2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8550D5-3D2D-4DF2-9F76-4E39FDFC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4B4F9D-CE08-4465-BB78-9C83A691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7999C7-D5CB-4B87-B9F0-D0938DED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3600DE-F1FB-479E-A82C-60B10CF6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2490C5-9786-4696-953A-1C4B4D31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3357-73E7-4966-832B-52A10C16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5110A9-247E-4DDB-AFF9-BB11E963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2F83CC-6C49-4684-B0A3-30AC110C8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88AE78-7B62-4764-928E-6C74D7737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8B0857-D566-4926-894A-018A0975E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9F0AAF-F214-4233-B233-49AD9C77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581305-C61C-4C1A-8C1B-0E017A74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068A78-F222-4967-B0EE-4DCF0F33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0E314E-DC62-4349-8DAC-ADDE2BBD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385B3F-173F-4BBA-BF73-000AB5EF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DFDF35-10DD-4B9A-938D-B2CFE5C5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30AC-C03A-4FA2-81B7-00762B0E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4B1E-3D3A-4EEF-B37C-A1C1059B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39E15D-46B0-4D56-988B-399F253F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002276-711B-4E1D-A087-CC4A418A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4008C1-EA6D-4DFB-BD36-7F8482E3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D6D653-044E-4E1C-8C4C-69642D482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A5B291-AE9F-4412-A624-614B7243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FDEA9C-FA96-4CB4-9420-B6B42D249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1DFE99-CA3B-4F43-AA53-60247F18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C571C5-76A6-446C-95EF-D6B2F9CE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B1D8DD-C4C8-4970-B33B-80997C85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1B900C-5835-4E5C-AF6C-266255D9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559B-0AC4-435A-BE43-A99E2FCC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2EC6DE-06FD-4DF9-8792-A265B0B9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4CCF61-32B4-48A8-8564-9EC18400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0D80E3-E53F-4958-9A99-8386508D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D78152-2556-45E7-867A-5A4D8124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1EDBF8-8B45-44BF-9E7D-0155011C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0600AD-6E47-4BA7-A341-8679A223C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36A3FF-45FA-4ACC-A1F2-8D83D1075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A415AE1-75D6-4EEF-B98C-B29872357EE5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601556A-8463-4118-903D-3C8BD04CF754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D2E26F8-67B5-4273-AA6D-EE12CBA32F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73EC-484E-4453-812E-B34C0105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2EDEA8E-37FE-48E0-B516-039165BEEFB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D6C0A54-8E84-4DD7-943B-E5EBD5EBA13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25F337F-E667-4722-BC70-E08689DC4FEB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FD1F6F5-7284-4893-8BC5-F47EEA3C23DF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5FE3E53-EEC6-4209-ABA6-DF0126F3001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8193ED6-EE38-455E-8069-C51556D28142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DD595FB-F287-4CEB-99C9-F5D132DFB868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53BEDB8-D220-4556-B007-B3513DE46A3A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41A6AEE-4120-4608-972D-DCD8FE0993C2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BAA0A96-A85E-4E72-B5ED-D2F53E5F3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1EAA-803A-431A-8C5B-EAAEF05B3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A17398E-F25F-4EB4-9029-1D600BF3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469D6D4-4EAE-4D24-82E0-38CEC2A7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1A5A8D1-D239-4714-92C0-994E7A58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3287AE9-34BE-4F13-BC5B-611AB68D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A4972FD-CEDA-410C-8656-593B2BE7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6D32A76-4954-42BD-BA5B-30493A80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D2A21C2-D946-4803-8A56-5BC2D0E0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B5677A3-50DB-467D-8FBC-F1C9AFB7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FD78D37-5F79-4232-BDE6-A310CE89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6F88372-2EB0-4493-8E56-6B2F575BB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9FC4-AEB6-4750-B0F2-196171E6F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4EDC2B7-6394-44C4-A64A-1AE9B12B3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C54B6DA-531F-4CEC-ADD9-E16DAB734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D5ECD7E-39A0-4CD8-AF02-8C2F90B0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6AE5AD1-3F72-4D3E-9D03-DFD59C08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051E345-A16E-4A3B-8DB8-00A726F6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1246E8C-B643-474B-8649-AF49B572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D205BE8-89DB-48F2-A39F-11B4F4CD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797D281-ED65-4762-B16A-7FC084BE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235B58F-B6B2-4081-B53E-C4AC2427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8DA54F8-0DB5-48B5-97B5-60031362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103B0-D8F9-4E3B-B73E-18D51BB9D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F818ECA-3850-4C16-B9E0-7FD9B9A9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5192979-18A6-45F6-AD6D-836CB760B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F2195A1-2F44-4765-9327-ABF694589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3EE04D7-9D6E-4E4E-AF45-29E99631B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9EA2561-498F-400E-A140-87A6DE03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6577467-8B66-4185-B66B-73EB33F3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1924C8B-BE62-4C3B-A1D0-63189D5E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8423461-644B-4F86-A1B3-D43416E8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F906C82-69D6-4D82-BA70-E669686F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FEA2497-569C-43B2-8F4B-BC4AF4AF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06559-DF0D-4865-961C-5344D715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AD62DC2-5ADD-4E09-BAFC-11ADF590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76699EE-1D8E-4E11-875B-EB27FE0E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A37637C-EEC9-4BAE-B607-CC9E1E49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F3F7DBE-9F6B-4D4C-9B64-16DD1F0CE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D4454AC-EF99-457E-B952-657303B2A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9AD7785-4B09-4DD4-95A8-8B4943062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585138C-0C9F-44BA-92BB-4D00D449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BBB788A-C8D2-4012-8282-769AACF4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75C1563-1D7C-42A0-80DD-56EE3E7C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E6C1FDB-AC02-4BAF-81E3-7241100B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B0FB8-2E01-42F2-AC91-FF94520F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CF13B5C-FFD4-4EDD-BAE6-3ED51C8E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0698EF4-3401-4851-BC6F-F50E4962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7CDE59E-30D8-4DFC-946A-D2C7AFDB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2EE0D73-6CB1-41E5-84B8-6BA2C1C3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8A34C71-68AB-483D-AD35-BD14DA98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3AD2336-4B59-4F4A-A77E-89E0C4B60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AD70C48-96E6-40C7-9283-17FBE4BF4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3254C32-6690-4CD6-B51D-7317961F6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D5FA3F2-35EC-45F8-BD7A-147ED20E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482872E-1DEA-4E48-828B-1CEDCE0E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1179B-5118-4717-B75A-E977888A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2974339-EA89-49F0-9764-174431D6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CA8A97F-8FE7-42EB-B2A8-A27239A0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0AF4222-48A1-4F78-946C-2D54CE14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7B721DD-679E-4C32-9F0D-BC33540B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135F331-D7EF-4500-BD1C-04E690CA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56D71FB-25AF-4284-A275-1DD3117F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2F09FDB-6660-40BF-B669-0FC1D691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215B440-3618-46D8-B81F-8CB3C0145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17953FE-290C-4E64-BC5E-B019C49ED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E0FE59F-3837-44BE-B267-029D654D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FB139-07A8-4FE1-B97C-19DB301B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37F482C-4739-422C-877E-7BA6F04A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697C830-8D60-4ED1-AD73-AC41AA40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3A3662A-FE15-4384-BDA9-C613B11C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DD940AF-F3DA-48E2-9F7E-7383A6DE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074D3F7-CDE3-433D-8657-78779F44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B5DFD62-CE9F-4E55-8B9E-DCE39E8F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4E8ACF7-D308-4315-BDAC-EC757D3D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B17E05F-20CF-4D8D-B015-D24CDBA7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45B460C-ECFA-4024-B459-43507DB1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63687EA-803A-4DC6-88F4-D1B512DF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1C70-18CB-40A1-A8E7-BAA79F68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1CE95-246F-4B4B-9A94-927E3F3F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B065C93-E8FF-4661-91E8-5FC4707A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AB9D56D-0D7A-4079-AFC7-D9228D0D0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B48CB29-4066-4729-8224-C2EFB200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D39E024-8BC4-4EDA-A377-7FCAE2D2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63A69E9-248A-4331-97B2-3FBC2A1A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C529FB0-6FB3-4261-B004-728C7E78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02A690D-6117-43A9-8728-D56CF767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0512213-D8FD-41CC-AE80-F331A4B0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E1155E2-796F-409C-ACF9-F2CBECF0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4318A26-871C-4D51-8D57-5E63A841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8CD5F-D244-46E9-8142-19336A8D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7CED96F-CDB6-4321-A97B-D6FD7271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6F63774-DACE-4669-BA9E-53013F0A4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AE82670-159D-4D40-9FEF-9DE9808D2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4802BEC-D0DC-44DA-8033-D344A106E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658C740-B358-429F-A203-123CBD7B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4FC6377-2464-4394-969D-01763AEC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954FFC6-6836-4E1B-9CC1-826B651D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8D47C52-E9CC-45C5-B483-A2D1CA2B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0AC97B0-AC26-4E45-B1F8-8DA0976F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BF659EB-9AFE-4D3D-9CFC-F0C9CD69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8A51F-5E4D-4BDD-8B9C-9D2102E1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438BB53-2AC2-45DC-A06B-8469D5B9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1A5FB20-BC86-40EF-8607-85C3103E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CEE54A5-7A9F-4AD9-A6E4-B0C5A2C4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92AA8D1-FE98-4EE6-8ABC-C4E921077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AC5DB92-1D82-4552-9D67-FCD2BCC06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659DB63-A2D2-4186-A6FC-69FDB507A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69DA330-CF88-41F2-9D9E-E3369F62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FEAFDD4-6CA7-4D4A-B4CA-84AFD066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64A5B2A-C44A-4365-9D7D-0E4B5CC8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7F4116A-46D7-4B36-A346-3B295F4E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8249E-DD97-49AB-BB56-8CE652A3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3822BC2-F0C1-49AB-AEB0-E6506AB4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3330416-23E6-4DA9-BFB7-15A48BD7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4D1A384-71C5-4677-A7FE-1468BAF1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CBF519D-8FB2-4AFB-9625-ED0B6E2C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6C3551F-613A-473D-A964-46C6EACE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E85DE82-5A39-4FB8-B276-17713FA4A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E8AA87B-BA31-42F5-A29B-AE150BE7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85A4E99-C086-4741-ADFF-9A4524715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04A33E5-B526-46ED-9FB8-5C3EBAC4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D58682D-ABC5-497E-A447-4D6BBCFE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D2390-2D05-4F52-9D18-E34F63E8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6D6A919-09DC-456F-AE0A-0A52C23F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4589F15-CC61-46DE-AF97-4373452E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18C20C5-080C-4E98-8374-5966A144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D42F779-27B2-44F5-8638-28661299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4B4217C-F62E-4F7F-860A-CE37E647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9FFEDB3-4335-4740-B323-26CA5112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033C445-AA48-47CF-B647-F7008AB4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4748D61-9859-4726-B4A2-0ED512849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2C6B5E8-8E19-4E67-AD0C-2615498C9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D13B252-634D-40E7-98EC-5EB1181A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70A0D-AD46-4E1E-81A2-19F4FE094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3838FA3-BC56-4951-881D-65C4CCAE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37F42A5-ACBB-46B2-809D-2A4027EE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A5B4762F-779B-44FB-8810-ED9EDC86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AC2B140-C114-44ED-B003-532E31BD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AAEC3ED7-4864-477D-AADF-E6E7919F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EE93288-8003-454D-9987-07FED976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89B8BB8-3822-4990-B1AC-C7A5EC71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9604C6C9-35B2-4087-BF64-479E34AE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CE832AD-7B71-47E3-BF18-0A2726E5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B255630C-A10E-4EEF-A326-7835ADD50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0E455-5164-408B-B175-06690DC16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CFC6F93-A957-4808-987A-6235CD65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05ED306-A662-4093-B49F-67061FFB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E7076A7-7C54-49F4-BBD1-000C3259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3AEA708-63E4-48F0-AEC8-BB569EEB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6DBAA03-DF27-4DEC-978F-50C8CB1F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89628E0-B125-4DAC-88EE-2C7F4416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52B75AB-1F7D-4D04-9ADE-A60175AF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5D1D8BC-6DB1-4EFA-812C-8EA49177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500DAC2-9EEF-41D2-B521-913209A5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E39B114-D199-419F-8319-61EF0FE3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AB664-DB58-4E51-A47C-91D39A23A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A69457E-B14F-4AD2-B13B-BDDCACCF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30598A3-9BCA-45CA-AB4F-7B6FE9125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321406D-3EE9-4ADB-9533-825EB7206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4146D03-9AB5-4296-8CFA-636E3A21A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FFED0819-2EE8-43DE-A1B9-EF646CD0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1EF6F03-0E33-43FF-9F5F-EDD1B7F3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64FABC1-0C65-4A53-A08B-5789C085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7AD6F3C6-6228-4C29-8AB0-E58DD8CE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3D4AF49-FEA1-4068-8F83-78D2A309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EEB32A2-7878-46B3-9E18-F7CD38FA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ED23F-C612-4764-BDA0-AA71FD8A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39D33414-EB39-4284-91C7-ED1AAB56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4240A045-0CCB-4A3E-AA5F-6B663229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D723C2F-3B66-4C8E-A5FA-5E98A85D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52FA59E3-8C17-4CEA-B819-ECD8A1095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061A8DB-D88D-4FC5-9D39-1BF1CEF61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BBB3D6B-F22D-46FB-B88B-D13AD8863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1CA38E4-6852-48E5-A789-B5F0ADD0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5C40D85-7A63-4B6E-BC3E-775ABAF2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D3D47FA-95B9-44DD-A976-FAFE4CC4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FF1B8B8-AF4E-4632-A303-433897D0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3C0A3-0CFC-4D9E-B485-AC486D12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F15CDEF-FB8F-4A8E-A0D1-FC709E93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91B080E-13B5-4190-B768-A5F7F418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85B34B77-5700-4C6D-99B6-1F0091A8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C2C6DC2-55D5-4795-987D-99095D63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55E73C6-F905-4268-B44E-3AAC0436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3489812-2D4B-4738-960C-728EAC484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0853D3A-A69A-4513-9055-A6013E705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5CD9150B-9DE3-4687-A1C4-3B3EA26DF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BBD64824-EF47-4DEA-BE40-4F31088F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0045EDB1-437B-454A-9F89-8E10E71B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7626-E475-4A16-A0A4-7C9FDE6B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FC090-3029-4EA0-BB36-71B5885A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BDD16BE9-CA43-4CE0-9F0C-48E2C50A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F746069D-40DF-4C61-9615-55983337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E95D4A75-3051-412C-97B7-37C41AC2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54BC7DD2-692E-4B35-8A79-3F0AC052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5A1E839D-A93D-4A17-AF0B-EDE8AABB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9AED72C3-EE63-4648-9F4F-C4725E97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29D739D5-AA8C-41F2-8997-91EEEB24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22B8F105-C344-43E1-B421-3D60CB3E0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B0BE2B3C-9643-4692-AB6E-1AAEF10DC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7462424-ECDB-4C2B-B759-3F9880690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1BDEF-585C-49D1-A872-5421337A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E488D99-C593-4047-B760-2B00412F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9339D04-F4BF-4F68-A1DC-C2653674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2955657-CC36-4E0F-954C-E0896DAA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DDE8775-D5DC-47B7-9BBB-301EA55E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7BFCFED-C04F-494C-AA1E-0B7C357E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C057830-7CC7-40F0-95C0-62ED17FA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E57E219-5541-4456-9045-AE141F2D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D0C92BC-E48D-4E33-8450-624D92FF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732F11C-D870-4C4F-A8AD-DAC7D8F3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6CAF9C9-78E5-41C9-88EB-921413096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527C5-DCBA-4238-8BDC-DAC46C64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BC97F94-B36F-4AE9-8F42-A5473AD96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0120610-2F5D-42DF-BF23-C3E43262A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134E816-1836-4964-A1E2-34A3B229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2A9E9B7-37D2-468C-815F-C55F3501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2814397-FD48-45EE-B8D3-C15E15BE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EB4063D-7EA3-416D-A0D0-BD027EAA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B08D60A-CB86-4957-8F69-8D9F1810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96A82C09-6E9D-47C1-AB12-A1EF9E4F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8EF2C6E-1CE8-4A40-AE74-68F844DB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486A9E8-2424-4C5D-802C-1BCF2795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4EF22-6E49-45FA-8570-CCA35057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7D9CB9D4-8D33-43F0-BBF3-67B55B53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BCC386D2-D258-43DD-B01D-C4D1EC62D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13DB525D-8B09-4879-97ED-80989F9D9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D685B94-5628-49E3-A750-64BB3F907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6751B62-26B1-4B84-A2B6-09FE2955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FC7EF7B-6417-4607-8947-A1B1454B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ADD8293-AA38-4B69-8E67-725131AF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CE01F41-E39A-4E18-85E4-5AEC9876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A1C8C0D-31ED-4CD5-9EAF-23AFAF72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83C4709-0624-41AB-902C-6B66A075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1EF20-7AE0-4870-8273-3A6295AA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5B2DD57-3A0F-4525-9732-49414C8F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8C2EFE8-701D-42E5-9DD0-43A3953B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1FAD8DE-17F9-492C-97FB-E1530A77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57870BE-8DBC-481F-B546-660621851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D0E1389-454F-4160-9A21-D0CC21EC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BF38302F-F7A9-4219-ADB1-BA294BCBE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8BCBC048-04B1-4262-9583-112F6FA3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27368191-FF11-4C7B-B324-C08A1A92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744D8A57-40F4-4A30-BB79-691B89EB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65F521F7-E4B8-412D-BC22-63A9B968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F17A1-FBF6-4472-9D81-1395A018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091A8347-2ABC-4C63-ACEA-BED78463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93308246-D23D-4D65-8ABD-F5AF8E58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468F8C3E-BF32-490B-B970-1CD59A44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4EA7B3EE-3339-4CD1-B6F9-06312CAA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459CF203-A202-4CB2-8722-41DF4528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894D17E7-DF40-40D9-8D51-B7AC77930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0A22FF27-DAD9-4727-A2F9-8E4987431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E2119D8B-25A9-485C-9E0B-13873BB50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C73B354D-7AB8-417C-BC61-C0AA2885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F483A5DF-9688-45B2-A220-8D594F11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11697-09BA-4B62-8980-20EE8A44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026C4A53-A299-4FF2-873E-A9352480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050FB3CB-4B91-4A6C-9182-AFC75167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E309DC1-ABF8-4880-9EDD-5AECC263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E5D3CE0-1619-401A-A2CE-0DD64CDF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43DE28EB-A8EE-4BC9-BF3F-E00FCD2D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B1B479D7-64B8-4157-B32A-26F636DC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4366963A-AAE0-4F69-B2A8-CB49AAD4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6BEC896-BE27-4E1C-8966-607C6EE8F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E1A0E12-9AFF-4124-B219-5A69F873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B0E22954-0C9E-4075-996A-37A9F44B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4E1FF-F9A9-42F7-9A1F-67AF4512B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2B18565F-55AA-4227-A1C2-1896C2D3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11BE0FCA-88EB-4D7A-8F56-18E39B5D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38045C79-8A99-409F-9B1D-4E16271D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13E975D3-249F-4D20-8CD8-F8922642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9A25E4A6-077C-4598-B3C7-0FEDC56C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EBF9DA01-AA0C-414B-BB1B-FF4F4C27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E4296F3-3CFF-4A4F-AA76-428DAC98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0202C0EF-DF64-4825-88DF-2C374BBF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1F9EEDAB-8C4A-43B4-998A-8B007316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2E75F2E5-8BBC-40D5-AB05-4A8B0B0DB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12538-11D1-4BE8-8B1E-2D47C99E6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6B1A0076-BED8-4612-8A01-687CA6EA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7B7F7037-63D6-44B2-81F8-309616658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7C470319-2D06-47D9-BE27-6E7D0603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D8876E6E-0C29-4F1E-8D71-48B665CF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59ACE8A3-412F-441F-8075-4A8581A4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8D2A07C7-23C5-48C5-881D-2E7F7F1D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1EE4771D-AB1F-4761-A84E-31048E09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634A9EB2-0252-49DB-9425-4BE809FE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6E72DD6B-2CD4-4D2B-9425-9B24BB60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7D212F99-4943-4A2B-B601-B3AB66AD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5FB34-8EA3-41C3-B811-BFF77B3C5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1CC07CA8-66C3-4179-BFB4-0AC1EF9D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7ADDE9C7-94AC-4BD3-B660-FFD041FCB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F70C8401-7D76-414E-BCAE-E4A54EBBF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D1C6C22-B479-435C-9C8F-F8C454572002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5EF5662-414E-4841-B75B-23D94C854AA7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91AF105-F7E6-4131-9D34-951A34CC8A88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D200276-E594-47CF-92D0-82CCBC67968D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B8566E1-C512-42B1-968A-001F4AC1697F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B1F1E79-8A5A-4C28-8022-D247E4A9C331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C29219F-6930-4EA9-A808-4C09EDC7BB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5A41-523C-494B-A0F3-A5CC2BAD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3D825-B7BA-4540-B6CD-8B262541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AD6B3C1-C6CE-48D8-893C-7E1A8709D867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57AA9FC-7D70-482D-9A09-7860E63290CA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6F33450-E466-4395-BD6A-7836024A5AB0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2F2AB53-6667-484D-A394-F2EEF087CB5B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0C3CAA6-32BD-495B-B755-DB73F6FD65AE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444C557E-E084-4422-BB1B-9F74467F5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B43B732C-EDD2-43A3-910E-A0F0E8CF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EB0B7532-A77B-48B1-B3D2-C6FF3EE0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AAB319C7-30E9-4140-8DCE-3600FAA3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50644FD5-3E8D-4E64-A69D-86680EF2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ED7D1-AD6A-42AF-AF4A-EE188F4A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013EE080-FBC3-4CAF-A819-A95D5A40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1764CB90-D7E4-43AF-9485-673F7935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E5C53BBB-A6E3-495E-B7CF-2724B01E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866C4F7F-3097-4B22-96B7-27880320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E0896DA8-35F7-4D26-AB0D-91452BA2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76AE8AE8-1106-4943-8CA5-3E3212334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D321CECF-034D-4F10-ABC7-61385BD7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7DEFE615-F56B-4C55-947B-D71EACC33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9B3D7784-836D-4734-86B6-0209FF5F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C4CF1714-5E95-4ACF-822E-8A1F4280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8DB6D-ECC6-49BD-8096-2AC9D78C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A3CAFD8A-FE67-477C-96BE-555B113D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BA5B115C-0777-4F7A-A3B1-249D1334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08C96DCA-C21C-4370-BF9B-78EE4E85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C931FC09-19D0-4F23-BEC5-99627822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DC2CFF2E-CBA2-40BB-A57A-58F22E7C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956D238F-AEA9-4E43-9D84-145A286F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0CE37247-D1E8-4051-A74F-4CC86FC7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06B98CF4-F858-488F-ADF6-A2D88D1B6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A1C197AB-9783-4854-A973-CB8B73A80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AEFA703E-1071-4C97-B947-5F29B5B87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6414D-2CE0-46CE-89C0-21B62BE4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8F4CDCD7-74A2-49E7-9533-5BE5CE9B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5D00FD78-99BE-4F42-A9A6-C898CCFC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A11918EB-44F3-49E1-95CC-DE3FF9EB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130C7483-D77D-4EAD-95E0-A45B7143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ECEA1179-9D6C-4640-A5D7-E54E1F40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6C06AF9A-1FD9-4536-BCAA-7D7170D6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BA4B1B27-FF2B-4953-8AAD-77EAEDD6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3C5B8DCD-9798-46B4-A839-DDCAB3BB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5329DB9E-3025-449E-B37E-3EA877BC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2BA8B789-0C77-4F68-B226-821967494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30876-B480-44A3-82EF-443A91C0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28DB8E10-2280-4E5D-8D82-9BA3EB9DB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45F97F1B-6614-4C58-BB63-B9C1AFAE1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3CDCC1A3-B61E-4DE3-AA00-501DF5D9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CE43051B-5BEA-4D26-BD8A-88FDB944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AD3DA989-F32A-4640-83D3-BA481493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CA7B1505-DBB6-456F-BBA9-8D0E5E34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772BCDF1-B544-4D59-8753-2C3C600A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1536B128-504B-409B-BDD4-7A9A2BE2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CBB12FF7-6F17-4343-80D5-709CECBF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3FDE2291-740A-4A61-864D-3F30E803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E15B6-CF3C-4624-A46E-05719DD7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D71163D3-1CCC-481B-A938-9AF3B526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F620DD55-D04A-454F-A41C-A7D22BC46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8574F54A-58E8-45E3-8B70-05846CFA4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995BAA7A-4CF5-4986-97AC-3D9199BF0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1702957E-13D3-49C5-A6B4-3FA53CB7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E4F3E644-2012-42B6-94B6-5649DB73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4689ECE8-DC7C-4991-AD1A-BE1FA1A8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E097472D-A002-46FF-8248-3A3B9E64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ADDEB034-091B-47E1-9CC1-985883A4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F2FBB840-926A-440D-9FE3-506C84E8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9825D-236B-44FB-B2FA-AA5A06CE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B19DEBFB-A059-406C-808A-3E025A6B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F63492F1-DA91-406E-BCBD-844CE44E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40880923-6C35-460C-806D-4B47F09F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96FEAB9C-6849-4B21-86C8-F33D43D30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1F053E37-2824-45C3-B2C3-4002FCC6B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2B1AAA76-08E2-4D62-9347-BFAB2DC0D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69E93237-8653-4628-A9DA-EF096B80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411C1FEC-A15D-4E32-991C-B527FEC6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EEC470B3-A083-4342-A052-C10FADA6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522FEDFE-B4EE-4447-9A1B-95817CE8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D5C1A-1C6A-4803-B388-AAE2BAF9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0A22CB30-7E61-4973-9B26-CE2B6890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9547F8E8-EAAD-417C-B02B-C3D2B3AA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F9FF2BD9-66A6-43ED-A562-F95E298C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E296932F-412D-44AF-9C69-1D6FBA01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534CCFB9-0BE7-4020-BA18-2C808541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B4B8B6B1-451C-4579-9116-E3E779FA8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9187C72D-5221-4543-85D8-A362C5B1A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A346CB6F-4CC4-4706-9523-453B57B20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A9CE40A8-C8BC-429A-8CF8-619A89E9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C20C345C-99CB-4DB2-9FBC-4C1A9C86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D3B88-FE60-4E16-8E15-C77A2702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ED986F96-35E9-417E-897D-04A9F3FF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D913FA40-8C55-4B91-A9B8-ECA12A77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D29A9E6E-F649-4746-BFAE-319D5E2E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BCE33ED7-9982-47B3-9DB0-BE870024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B6BCCC8D-BA8C-42EA-B6AF-4252D0C6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20FF8693-A43F-41C2-BF98-21EA9C4E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F2363099-98DA-4762-A263-3F257CF2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DC31AC6A-95E9-4E44-8472-602AF720A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6B3ADC24-5847-4FA3-AE12-2CD71741D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A3C1A5A0-6635-4257-A228-9CBFA0810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E6220-FDBB-4517-BAD0-FDC1252EB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55419F60-F7A8-4853-B31C-23C6E4DE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5D319A1F-472F-4695-8CF3-FC5519CE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1C461396-DFD6-4B1B-8FCE-DC5DEC6C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2F52FB05-100F-45C5-B811-C12F4E1A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4746BDD2-7436-44E6-8A3A-2E450A18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6BA2949D-ADDF-4551-81DE-1F52E827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BF354ACD-D672-461D-959E-B5410977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43A2BBC9-54B5-43C6-A1FB-6C9D0E2B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86E928CD-7C55-4048-91E2-23905DB1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B2A13386-B03F-455D-845D-C779C5410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799C-53D2-4110-B158-CB5CA5D6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533A1-0026-4A39-A285-5F32D1087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D779B249-74C8-4A77-B9CF-4F71B3EB6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7041FCC5-081E-453C-9625-72E7CEA9E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D0DD02C6-8B38-4370-877A-A45AD216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FBBAF14E-4767-481C-BF12-31C01A00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CD6D68EE-EF8B-4DCB-B62C-3C9D7E1B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6083926F-E1D0-4DCE-B519-0E04D060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A948ADC4-1E13-47EC-9CC9-024A4A8E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2BD1CAA4-4259-46C3-AD13-4E8430FF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47D7593F-DFC9-4272-AFA2-5FF14973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02B23304-8D56-4500-9387-521966F2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2177A-3DCB-4AC1-B02B-AC82B034C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D9B34813-9ED7-4DF4-A246-7649A4ED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7AF857E2-4103-4CF9-9B13-011C1B507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ACEFE79B-97C8-4826-A987-E65099598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5E3D490A-BAC3-4EED-9EDF-72AC4A383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84EC7071-2C8F-4F78-9FC7-58AC831A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A2B5D053-8A6C-4720-8EAA-5B3611F4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084E9AB0-2775-4C56-81DC-A2507040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516C4EEA-6082-4F13-B241-1BEACDB5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2CDBE825-EA38-441F-AA2E-598DBDDB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65F9C6CD-6917-491A-987F-AF141DD5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3B484-2EB4-4B98-B137-454D6CED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C1DCC24B-2F7D-4D28-A4CD-F87127BD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23D8DCBF-6186-42F8-88FE-35E1F33F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7068A713-23E0-4382-B434-8FA952E4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7895416A-F486-4B96-BC3C-105ED0AFC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5DB9A56C-44AD-4BE3-A144-FE924C09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122709CF-D8F1-4E3E-B921-016616F58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EF322D72-66DD-4B71-A8D3-BCD6EC17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EA975C73-3037-4939-A797-406D3407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31754A47-57A9-4599-A2E7-0415B309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7ED517BD-F948-4A8E-B399-F2E9105A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1F62F-75D1-468D-BF37-919B161D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9BF55BCC-64F8-4DC7-B132-1253E36D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4DAE57BE-6468-4BAC-B0BE-5626D094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A64ABE2D-B5B9-4F1B-BBCF-AE78582E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372B3447-29BE-4440-9313-3F728E10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9AB45ECC-A93B-404C-9205-E61A42C7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1B542F5F-EB93-4291-8F0D-5BBD23B4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FD968AF6-5217-4E1E-90AE-850677F17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E3E4B53E-E6B1-4453-9608-A9D0904FC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FB26374C-FB5E-41C7-B4E0-C1D88874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6732462B-2941-497A-A200-45FB7F72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C3A64-B7C4-4A92-92C9-AB2F97CF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208239A1-AC44-42D8-842D-E2E119F2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7124CD84-928C-4778-AF61-44964331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1EE216A3-61C3-4F6B-B9AE-9C66F2BA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B8BC60BA-03D0-483A-9A8B-149570B1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A86B7F3D-A605-4385-9448-3712B064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495B0FE0-BCB1-4B61-AF65-FF87D06B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CE37A931-5391-4B1C-B75D-E4F75F2A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94B34184-4452-4E40-9343-2215B687A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C82FF3DE-BD2A-4A08-B3A7-62606E626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312084C8-CDE9-48A0-81BA-2BDB16D20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2F651-C6B1-4FE3-9BAE-FA0C2827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AF0AD860-A091-47EE-8FFF-19ADA405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1D68F392-12BB-4BA1-96A6-69BE88EC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A34E1934-96E8-4263-9B59-FAB0EBDC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6511456E-FE77-4F64-AD57-798BB7F4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5B172857-216D-409C-9CB5-18FFAF2F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D59FE402-34C8-4DF0-AD08-9F48F39E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C4F8E3C4-D2DC-41A4-AACB-173004FD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1E28C530-F28B-4908-B7EB-A9FFEA68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04CED388-53F9-40AA-A543-CF4C4FB7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505F7DFA-82F1-494D-826D-935507FB1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D95AA-DFDE-483A-A179-F7DC9CA3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6E577AA7-3654-4BE9-8107-4B3BF8D11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61F01421-FD54-4B3F-9AE7-D87701F02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687EE9A7-3630-4532-A033-21107B0A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1DCA82DC-BA32-46E4-88DE-35B0ADCE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FEEEBD3D-344F-4D1D-AAF7-DF9028EA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C0B7F6AF-4542-4969-BB5A-F4A472ED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6EDB647F-8A1F-4D1C-9331-430BF765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EB9EC24E-2E35-49A1-852D-D8F06C6A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4582BC9A-9AF8-47DA-9ECB-33A8F67E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31DCECDC-77E4-4B86-B425-6DAAA46F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21D91-1BAC-4935-ADC3-488B8771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AA826931-B82A-46EA-B19D-2D816115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22C68022-ABB8-497C-BA62-96669B7D4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BC08B2F5-481C-44F5-9D22-619672047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75F2D0FA-4666-4663-97E5-7608CEE53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2A1BB72B-DA88-4E07-A18D-60F1D4E3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051A5EC0-545E-4145-BDB2-F22E5258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FB7E7508-AE73-4DA1-9E0A-B6566EEA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AD9CE3DF-6625-428B-9CB9-9EAAB5B1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0F947E45-50C7-4069-AD95-529ECBFD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40447A23-D9B2-4F32-B729-9D3C6898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6790A-7C04-49E2-B6F1-FE9F03E3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F968086D-849B-4829-A378-BAC125B3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6A0D3915-B6C7-4DCF-83B5-78989779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98119738-49EB-4204-990C-AC0E4668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B093BEFA-57DD-48F2-A4D2-2C9BA95A5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1D08A5E9-2CAA-4A1B-A3D5-D216548C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E953C3C8-E251-4435-A26D-1D117E618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2110AE3B-9A01-463B-A7AA-ACCF51A9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B6EAA7E0-C8B4-4B11-BC8B-6FFB967D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DBBC1B07-0A2E-4B20-A3A7-F3531826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09AF58F9-C7E8-4D60-9ED7-563E62EF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7AAF9-4F33-46E0-87EA-7E12CAF7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ADF0E7BC-A874-4A90-9F09-62E0A070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F2EE7E72-B610-45D6-B009-B2090DA6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0F5B8A99-22D7-496F-A0CD-16E787F3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FDDC344E-1B9E-472E-B873-F504B3BA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E0DBC0DC-FADB-45EE-BE04-EA1E655B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90732CB2-D0BE-4EB9-90B5-FB25E90E8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5461BE96-8A06-47AF-A295-551ED1EE2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3E3FCCDD-74D1-49A2-A6A6-2B99BC61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C5FC68E5-9B7E-4635-9212-60A1EAC1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9BC89B92-4582-4F67-9B6C-92233926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EC80-98CA-45DD-92C2-35C64F2F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076E6-15D3-47D5-9D3B-0909434B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C045CBE0-5F65-411A-A376-FF56559F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E0C571C3-06FF-43AD-93EF-9B227298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29BC4A7B-DB31-4C6E-B7A7-12E32BCB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EDF09C56-9B94-4FA1-AC25-39BB9AEC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37C23961-19E0-4158-9FCB-B6B9BB00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7BA5E8D5-81E8-4050-BAFA-93851C79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6AFE2887-FB56-4555-A6EF-5E8E466E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53273314-476F-4B7A-A004-D1FA20F98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ABC1BB43-BBAD-41CC-A92F-CCE4FCCFA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5845B297-6B9E-4394-9C19-72C7C3FA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1514B-5C37-4942-AE86-0C970C4A8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31CD6BBB-34E7-4A48-AED5-AFF2E9AE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29E21D56-372A-4088-B16D-CC2AD9CF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52C81970-2ADD-4D5B-8DA1-707A4BBA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C02E4212-F51C-49AF-BFEC-29736F97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B2473492-049D-40C7-857D-3BE35217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FB0231A3-499F-480A-B917-68A87DAB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14B7C460-AEF0-4DF1-9F1A-FDC92DE1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C1852DC1-FF28-4081-A909-CE7A6FF6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E8EC3C33-10B7-408A-A22F-1DB8A4EA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18D8DF85-B418-4C83-B7FF-0F38C4C09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F6CD7-E3F0-4726-AD3A-3A0CE996F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2504CAFA-C243-4571-9707-46C2AAC71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051B2CDE-1E8E-4FFA-9890-812F3CAB0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DC05D545-94B5-40A9-BEB5-0380F798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6C8072C0-EFB9-40E1-854A-AB9BA295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D511D0B1-9CEB-4D4A-A455-4783735E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E8A4D283-7E26-4CFA-A561-EB9EAE00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8E712EE0-B8E0-4BEE-9C32-6CE0D769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B44BEED3-FD57-4201-ABD2-93C8B692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C63078F8-588B-416C-8596-F5042BA2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2AA401DA-B159-421C-B8A3-64BD4928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BFFA1-EBEB-4D55-8A32-30919F77D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583C8592-66E6-49F2-AE48-458F0164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7250F837-5CDD-4274-9891-1172A9F5C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BC1231FB-A15D-445D-9FC7-F2F46F52B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3C9D3051-59A5-416F-9950-746AC0AF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53575EA4-F415-422D-8C26-70D9A1A5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3102704E-CE29-4BF1-9384-B1B41CFE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8C6EFAB7-F1D0-4C04-913D-C4217E6D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1E77255A-27E5-4A07-91C9-9636E045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25DCF487-76E5-4ED6-ABE3-134E3048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0BBC35A0-46D2-4506-8344-C8CAFEED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1C4A4-23A5-436E-888D-0A90D74B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8104D27C-66A2-43EC-9A1C-797705B6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2F546B91-99C7-4DDA-9157-AFDCBCD1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0436A0F5-A593-448D-BFE8-8D04C5BC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15586615-FB88-4881-857C-6599103D3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5CCF3F8C-ED93-4B71-B0B4-2DBA15C5E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EA67000C-1134-4E2F-B653-ADF49593E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C1E3EF92-50B4-4AA0-9FD1-83851E28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F64958FE-0E70-48D6-A359-D67BA1E3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D1A7424A-D43C-46BE-9AFA-EEB3BFCC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4EB7A8F9-E4B6-4947-8565-B5C987F4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EF732-BCFA-4521-903C-4C663DC7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F3D7192B-FF3A-4C6F-A261-F9340C26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149B69A5-FCF2-411F-B19D-06D3246F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1DE786A9-985D-49EE-B8A6-F1BE3096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BE3E5A66-8350-4E8A-A07C-DFF329C1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7F88EE7F-499A-4A17-93EA-DF12892B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62BA7B83-E1C3-4DAE-B287-48718022A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075A3CCE-ABF9-4AFA-BF7D-FB08B728A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CBD83448-99B6-45D9-928F-8AF86DD28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CC2D1DE0-1AF2-4573-B555-AF8EF7D9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0B6C7027-C322-4944-8F75-4EADB5C2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0E143-6458-4D6A-B10D-2A867A74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D3699D56-3442-4301-B54A-885EB663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518715C6-48A3-4745-9203-814B4454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C89A25E2-5D56-4237-9134-B8F7EC14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EB186A9E-B298-4A81-A8C8-27053699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7FF7DBDC-EB2A-4AE4-8937-D78C7BDE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39623E4F-E7EE-49D6-A689-47626907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94A2A6F4-8812-428D-B3CB-4A9AD21F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7F2A13B0-B882-40EF-A05F-3EA71448A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B80FC8A7-44E0-41C3-B2D4-E1083A6F9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3FDAA713-0244-4CE5-A3A2-FEFE40C50C1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BBADB-660B-4A9C-AA69-F0B2B45E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238F1C54-E34E-46D7-8BDE-F47BD3ACE867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A5367C44-AA52-4573-8B5A-DAB292C0710E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77E1BEB0-187B-4B3E-AB01-A747FDAE418A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8CD0D1BD-0CF9-4533-AA4B-49DEDA8B0F7A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3392EDC6-0532-461D-8C87-25264D1307BE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2A7ABF4E-76B7-4645-8A2B-AA19FA47CB36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9E25B63A-7966-4492-B3B2-4B7E2C6FC4AE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25BCD445-B235-44BC-A382-1DFDC2449C59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9C51B9DF-1690-4001-AB61-2B620C47A9C3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0BB34A9E-2665-4FE9-8C34-3ECB2EEB4E4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EEFE0-3A43-4E54-B978-5FCDE8B8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80C22F9C-0C08-491D-B2A8-5378359C7D35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5117265-0EA4-4278-9B50-A06A2F682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9696559-C63C-4F96-816E-B5B836C5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37F121ED-4015-4113-8977-853B5D10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25C46E5-4234-4E66-B65A-E85C29A3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C95233CE-D252-4B32-BF56-5E71081B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A3E6E39F-0514-4E86-858E-F55C27EA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A3577350-FA18-4FCC-B820-7550AC29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346CFB0-983F-4005-A0F0-536A3067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5657AB2-6239-4B82-9971-E0FD36CC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55CA3-EA80-4AA2-BD6F-5445CBD4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90257DC-AF7B-4878-B4A6-BBFE1F87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A4AF3D0-4618-4A53-B14F-69F2FB87C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900A3DA-9AE3-402A-BF42-686F564A4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9FF2F878-F997-498A-852D-4CE6348BA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2CDCDE45-DEF9-4EAB-BBA2-472E5450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41331A0-42EC-481C-A42E-5B1965B1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29A1B57-E456-4459-A302-5744A872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C99B11A-646F-408B-91B6-606607C7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28249DBC-FA48-4567-87FB-F27C980B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3E2F30D-0483-46EA-8271-9E983817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90A5-4FD5-4D47-AE08-A11DEAB5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46F84-092D-4CFD-BF9D-AFF3C1A3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3F25D77-0B64-4373-80AD-8AC87C71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1594338-CDCE-459B-9CF2-478C1269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34A0EC2-DF2B-445F-8EC8-A43670AF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D5CC1A2F-E2C3-4E5C-AFDA-2E1F84A5D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9088FC3-0BE1-4DA7-B748-E65365DC4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84A5F3D-D4FD-4DD8-9784-9B7004006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3B73461-2273-45D8-B691-9E36AB2B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2AE19517-226A-4276-B69E-00A22ED3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302671D-B04F-4440-AB21-1782FC91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E4CA41F-7DD4-4DE3-9253-E6EAE0C4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1BE0B-DE8C-475D-8E08-B8442843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5BE79EF2-654F-4FB3-ABD7-8103E1D0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73733AD-98BB-470F-9129-247E814B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FA0E304-796B-49A9-986A-379B1F4B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48B4C69-27B9-4243-9ED6-D84FBB81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62428DD-04EC-4A5B-AD01-834036E2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19800F2-2C7E-4BF6-87DE-F5181F069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8C572D6-D5BC-43A2-8F7D-BC3E515B6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45707FC-2B27-48FB-80D4-2865B6EC2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FAAECB48-E82F-4102-89C3-ED3E8F84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CF7C505-7EAB-44E2-A6B9-7C6A7E2D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2ED74-6D54-433E-A538-FE46C531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83A34E68-FA30-4398-B460-88DD3D5E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821A1F9-11BF-4B88-B367-54D9730A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04E3DB0-B5A5-4585-8F70-01DA8FE8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BA14F6B-975A-4C44-BB4F-897B29EB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5196B09E-260F-4834-B7ED-B3CBFC4C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EFF58D2-14EE-48D8-8DDB-43EB5817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C24EF35-BD9D-4AEC-B4D4-439E4202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18C53E7-AF95-45D7-B29A-15B656E97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A415439E-C5D7-4CA2-9CD0-FE75972E7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BB1F9FB-A0B8-4DC5-8C4F-2000E2FD4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A4047-4B6C-49E1-8E66-9059E71C5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EB53896-94E0-4A1F-971B-BAACBEE3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05B937EB-A0EE-4696-BC1F-32387FF2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94AD810D-792C-4135-AD4A-290B656F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5AA29071-731C-4613-A8B8-C0F8A61E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1BCB4F8-0C0E-41E5-8E74-056219FC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1CA879CB-1766-4285-BEDF-E8926A0B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9486E718-D029-4846-B01E-A8511F0B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8857166-2528-4D2A-9295-36149019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14F8312C-DDF3-4147-B693-A8ED7634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AFE98D7-1764-4193-AF1A-C86E36989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EBC0C-09DE-4D2B-BB63-97DF2751F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A70A7D3-2EE8-4B7B-93FF-8C41FB127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EC03CC9-E67F-4136-A5E4-9DA0A6CD4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C6C275D-AD13-48E6-8FCB-308C2C48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2FAC36F-0DDB-4CF5-B520-27E17A38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DDB4A28-E135-43A8-BDB2-A70DB8D6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69D62A8-DDBD-45DA-8F4D-4BD2E08E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A752DB6-B84E-4B50-A211-D7B43948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53B2651-A349-460F-A508-FA2ED934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CCDECBF-CBC2-42B0-B8D2-3E0B9266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3CDB2F3-B0AE-4603-AE0A-3281EFAA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53468-F7FA-45BE-B350-97133F534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AD8A40E0-0469-43CA-A50A-2F8E58E5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3211AA9-67C9-4082-B8B4-98FA394FA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3006340B-8F28-4214-921A-251E777E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8904B41E-7A9C-4152-8606-F7D30615E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852C7B7-150C-40B2-A889-5385C4C8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5235898-127B-4171-8C2C-F246149F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D6A7357-4A87-4D68-9A14-2B07B73C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3926A62-7209-4BB8-80AF-3ACF0A29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80FF9CD9-714C-453E-987E-E99C3FFA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ABE2095-6771-4FF0-8DA5-BB238852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E9A1C-C997-432A-88BC-4B98E6B9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0F44D18-D87F-414D-8931-1A4D34E5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0240AD3-1E06-42B8-B89D-A1833EF5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C6CA026-E90F-4C5D-BEFE-DFE945EE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3F56F98-1C7C-46AC-97AF-D0929F298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5FE83B4-E8CD-403B-BA9E-92CD8A2B0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7FC89FC-904C-4706-8253-DAC560A04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C8BA801-091D-4AA6-9414-B1241AE2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61A7123-EACE-4CBC-A5BF-176EF053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5B32E13-81B5-482F-8195-5E3A4F8E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5AE6C81-1E81-4A19-8976-3A32B6B4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9149D-D727-4307-9FEF-4EC0984A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5975B645-87D5-4F52-889A-6C7C405E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63AFE0DA-6C53-4F0F-BE89-D6F954FF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04C6000-E6A0-493D-AD9C-B1A20145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67D2BA4-6C6A-41A9-A8DF-41A089BA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250D4C80-83A3-4C3C-BA1D-46CBA3EE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E3132713-DAE4-4612-B29E-EE90E287E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DFB72A0-8C66-48F0-A67F-0ADAB766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E386CAE-D04B-4EE1-85B6-A9590A32B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B722795F-F54E-4346-AAE4-90D7995E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9D544CF-65D7-42AF-91A1-DE4844AC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5DFD0-205C-4F7E-B122-4FF96DA5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F4C84956-2112-4FD1-8E82-F5A59005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DE7AE07-A18D-4602-95C3-B1E56F27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EEB4ED27-3AAE-4ED4-8EB4-2832DF9A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EEAA1794-AC4F-40A7-98D9-D980628D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3AC14A78-678B-4D03-8F75-982B3E01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B26A1B51-9CB4-456C-8B37-62DF0A3D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EEC3C68C-3484-4CC0-B74D-6EF721C6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3F78370C-676B-4240-A288-C6CB078CE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6FA69C8-3A24-488D-95A2-F92A21646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6C7FD6C-0949-45A4-8A1B-74D58EED2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81324-51B2-44E3-91BC-5F1C94B5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CB617C6F-92E3-4D8A-AB58-EE1235B4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F9CFCAF2-137D-43E3-8B35-AA85E9A0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014CB7FD-0AAE-4A2B-8E3E-6C8CFFF2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9C2DDC1-FD8B-4DDA-8F53-3A2B8D1A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1F5C2BA0-502D-4A9A-9943-2D491947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21041CEA-624C-48A0-A1C8-D1E64AB2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4ECD0A60-22D7-4596-9C6A-2540E340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FE35BE3-251E-4A25-A829-FC6DC6FB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CE5C8E18-A5A0-4694-AF9B-DC75558F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5583582-2E34-48C9-AC9E-321C60505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6BEC-1BD1-4A93-A596-4D28A2D1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177AF-D820-4A14-ACBB-210F34AF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7686E6B8-93A2-40AD-89E7-BABF40A24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6FE3A7CA-9D99-4CB0-873C-8048877D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BA482D16-EB28-4930-AE81-BAF95E7A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DED57CD8-91B9-4153-ADC1-97865182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29FA4CF-1774-4588-8989-303BA7C9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01880BB6-E2EA-4D5E-B890-48771992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1B7B24F-1FEC-46DC-8C06-F1E7AFDC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16004107-97FF-417A-93B8-1C4627B7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7B5CB25F-37BF-427A-9A18-F35E4E14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A03651BA-5246-4935-BAA7-CC6A0526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EAA93-2F98-4904-9EF2-1819ACAF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96FBC79A-0910-4F37-A581-8CB8A9EE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C4D069F1-1434-49D5-84CC-DC8457583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A80AB9A3-C8A0-4D82-BC62-5954F4146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AEAA8C32-BE8D-41A0-BD0D-9628669A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FED0071-F0BE-473A-93C1-F84EE84B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5ECEDD8B-4910-4A25-9FDF-9D521CCE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22547D3C-74E7-4348-8845-DE38A404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4DF68F1D-B017-43E7-B0A9-A5DF9D14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BAE93C2E-F231-4DA9-AC5C-1C8A2FC0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44C88A0C-A6DB-4562-81EF-54580E04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2322D-38F3-4953-9D23-6171EFE5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94743AEA-7165-458B-BBF3-C959C3A6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A23CC0CC-0DDF-4DE5-9BD4-7C5DF3F8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7AB0DE16-B647-435D-9922-28B08C8B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FAAFD01E-AA41-4E28-A7F2-6E4B148D9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4ECDBEC7-2023-4245-BC81-81617C6D0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AE7F89ED-6BFB-40C3-A2C9-F95F1532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1CA47DC9-91B9-4FFB-B384-191CEA6F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F031AA66-4BA1-4BDE-9398-99062DAC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191F8001-FCDC-4CD1-9762-DEB94EF0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01A7D229-B919-4CBB-802D-209B221E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B578E-CA69-482D-A5B6-5512F9A0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90752EAD-A920-4AFF-A696-C1AF2B74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279B04D5-B043-49BB-B2FB-14B42EF4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54AA3555-AF89-4D77-8C79-F3DCE137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E5FBE2BF-ECE4-4140-8823-244A21A4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BC903007-BC23-47A1-AD99-516D091C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7C724820-6324-4C88-B3ED-76A7ECDDC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77F3F59-86EE-4AC3-9346-FA7D6F92E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6409D630-3A7C-40F1-9783-E15774BE6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33F3BCE4-C31C-40A3-AD7F-F4790240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0138A707-7D6E-4C1B-949F-E39EC43A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99B64-4EEB-4A2B-A545-09448FC7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FE6F9644-8C95-4B7A-A3DF-5DBD03ED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D521F73D-D1A5-4B45-99D3-A4072E3C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2EB591CC-271E-4DD3-8B52-75C0FBFD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3C7CE316-43E5-429E-AB6B-1A7AB4B3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09CD7D88-EC3F-4107-AF35-FE87BB6A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97C4C2C6-64FB-4860-A75E-B836B3A9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1252EC6D-DF8F-4ED3-9734-956C4AC2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58E8663-FD8C-4DC8-9743-792099186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DDAD6438-C302-4923-B9ED-2BBAEEEDD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21BBA046-6C81-4E56-864D-6BF20C008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1C026-C8BF-4EE9-9D3F-DE4EDDAB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177C45A3-7BE0-4214-AAE1-ED881A9A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01FA30E7-9D84-47FF-83D2-9B376351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DA48C997-A4D3-44E0-AE48-B2F36241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410D8C57-8207-423D-8993-CDDBC1AC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72177944-A631-470F-8CBB-DDDE9D3B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E247A10E-0840-4201-ACA0-F0FD32D6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5D5652FB-257C-46F8-BD48-A59D55E4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4B1ED698-1C6A-4D26-89DF-599C0E67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8315DFA3-366D-422C-BA50-1CF464C6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2E96742C-39DC-4691-A66D-7E66B145C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5F0C2-5762-497E-81ED-C3F571683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DCD5EA88-0B39-441D-B49E-B3188944E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54013784-34DD-4348-82A0-F44C099B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C792F2A6-A0C9-4FB0-8954-CF186F4B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BCD74B9C-87ED-402D-9FC6-03175A00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D52C64D5-0050-4216-B6BD-ED43F537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268F638F-9EA5-4CE6-A224-A4FC8FEA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4DB1597C-0B4F-4A8A-9906-FF00A5E5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030D56F6-3939-4BE3-B4D4-7BB38662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C95B90BB-0164-43B3-9294-1C12700E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AB2E81EE-9306-4455-9EB8-F41AE501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DDB32C-FBBC-45B5-93EC-647FCD3C6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8A694982-3D09-46E2-B19A-ED01DECA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20377261-3EB1-4B04-B9CD-8B483B26E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564F4FED-2C2C-476F-8BD4-65900D02E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DB807071-A66A-4FA4-AF92-05A316E2F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886D0288-A360-41DD-80E8-1574B50F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6C335496-D1A5-4024-A50A-75659AA0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22F61D25-E28A-4C86-8107-D7C70B6B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ACDC98DE-B7F0-474D-83EC-99E0741D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9A3CC630-168B-4BB9-915F-8C78001C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AE569E79-F562-4F22-B98A-3D7B2528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513D3-7600-4556-8729-27372F48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BE3A2363-39C4-4ABF-8EC2-F7E88C5F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52E53C94-AE0C-436F-A651-7DFE084E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B2F13F13-3BE6-423F-A9F2-4DED8EC9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44693AA3-DBEC-45B3-A8EC-0C6C2ACF6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66921E49-C7BA-4729-A328-A7D837AA7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7926C809-EB63-4506-B7E1-CEDB116A9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C4F97085-7ED3-4274-A04B-7BA33DB7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CA8A7302-EE7D-4552-AB83-8D7E1541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83EAD024-F938-4C06-8F92-A407030E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EF8D56DF-A372-45B3-9DC3-0784CCF1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2225BD-6819-40C2-9D82-FE1C0C0A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90139567-21C1-4438-B0AA-67E68763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2AA1262D-EC8F-4BEB-BED5-F77CE754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C2B43529-834E-4681-A28A-0885BA54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F521CA1B-92E3-4B1D-A457-9C0CA3FD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424AC702-83C2-471B-9F11-4E97D398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08AC6A8C-9DF0-46C4-B3F0-E02816194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15E75CB7-07EC-4754-A0CC-C3143328A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5FB19819-39D0-4731-8D23-58581F3D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2EF2ED74-F053-472A-A08C-70D84F72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7FD5F60C-629C-49FE-91AA-351D1A23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57.xml"/><Relationship Id="rId4" Type="http://schemas.openxmlformats.org/officeDocument/2006/relationships/slideLayout" Target="../slideLayouts/slideLayout758.xml"/><Relationship Id="rId5" Type="http://schemas.openxmlformats.org/officeDocument/2006/relationships/slideLayout" Target="../slideLayouts/slideLayout759.xml"/><Relationship Id="rId6" Type="http://schemas.openxmlformats.org/officeDocument/2006/relationships/slideLayout" Target="../slideLayouts/slideLayout760.xml"/><Relationship Id="rId7" Type="http://schemas.openxmlformats.org/officeDocument/2006/relationships/slideLayout" Target="../slideLayouts/slideLayout761.xml"/><Relationship Id="rId8" Type="http://schemas.openxmlformats.org/officeDocument/2006/relationships/slideLayout" Target="../slideLayouts/slideLayout762.xml"/><Relationship Id="rId9" Type="http://schemas.openxmlformats.org/officeDocument/2006/relationships/slideLayout" Target="../slideLayouts/slideLayout763.xml"/><Relationship Id="rId10" Type="http://schemas.openxmlformats.org/officeDocument/2006/relationships/slideLayout" Target="../slideLayouts/slideLayout764.xml"/><Relationship Id="rId11" Type="http://schemas.openxmlformats.org/officeDocument/2006/relationships/slideLayout" Target="../slideLayouts/slideLayout765.xml"/><Relationship Id="rId12" Type="http://schemas.openxmlformats.org/officeDocument/2006/relationships/slideLayout" Target="../slideLayouts/slideLayout766.xml"/><Relationship Id="rId13" Type="http://schemas.openxmlformats.org/officeDocument/2006/relationships/slideLayout" Target="../slideLayouts/slideLayout767.xml"/><Relationship Id="rId14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69.xml"/><Relationship Id="rId4" Type="http://schemas.openxmlformats.org/officeDocument/2006/relationships/slideLayout" Target="../slideLayouts/slideLayout770.xml"/><Relationship Id="rId5" Type="http://schemas.openxmlformats.org/officeDocument/2006/relationships/slideLayout" Target="../slideLayouts/slideLayout771.xml"/><Relationship Id="rId6" Type="http://schemas.openxmlformats.org/officeDocument/2006/relationships/slideLayout" Target="../slideLayouts/slideLayout772.xml"/><Relationship Id="rId7" Type="http://schemas.openxmlformats.org/officeDocument/2006/relationships/slideLayout" Target="../slideLayouts/slideLayout773.xml"/><Relationship Id="rId8" Type="http://schemas.openxmlformats.org/officeDocument/2006/relationships/slideLayout" Target="../slideLayouts/slideLayout774.xml"/><Relationship Id="rId9" Type="http://schemas.openxmlformats.org/officeDocument/2006/relationships/slideLayout" Target="../slideLayouts/slideLayout775.xml"/><Relationship Id="rId10" Type="http://schemas.openxmlformats.org/officeDocument/2006/relationships/slideLayout" Target="../slideLayouts/slideLayout776.xml"/><Relationship Id="rId11" Type="http://schemas.openxmlformats.org/officeDocument/2006/relationships/slideLayout" Target="../slideLayouts/slideLayout777.xml"/><Relationship Id="rId12" Type="http://schemas.openxmlformats.org/officeDocument/2006/relationships/slideLayout" Target="../slideLayouts/slideLayout778.xml"/><Relationship Id="rId13" Type="http://schemas.openxmlformats.org/officeDocument/2006/relationships/slideLayout" Target="../slideLayouts/slideLayout779.xml"/><Relationship Id="rId14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2B45-6D1F-4DDA-B30D-102E09DD49A8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4CDADC-A4EA-4DFB-AD74-DF1A8A6C183C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B2AD76-9A30-4604-9FAB-99A669D78E7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C44DA0-C607-4382-BAB0-C919A56E8EF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C4A1EB-4095-4C90-974C-A8EF387C4DF7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39303D-B108-481E-98C1-BF096F37268A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3E9286-98D5-4BB1-9871-E072B5FC39A7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2D2EF6-5589-4FA5-BFA7-C9A636589AA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E93CA4-756F-4E25-BD08-79C696C9D96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C46761-4EE9-4E35-B565-844E76DB075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0328-7B2C-40FB-8810-6AC15E25B0E5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380C5E-83E7-41D7-9544-A2AE02033AC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dt" idx="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 type="ftr" idx="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 type="sldNum" idx="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73FE3A-9892-49B5-B468-D32201C0F00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C5C23A-4197-4102-8149-CD4D9AF749C2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dt" idx="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ftr" idx="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 type="sldNum" idx="6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06E3D5-5791-49F3-98D5-294E3F7B89A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7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C90CA5-60A3-44BB-AFC3-80F9A2549D2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CC29A5-1FEA-4FBD-AB23-28CFDADD325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dt" idx="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 type="ftr" idx="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 type="sldNum" idx="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7BB0C2-0723-47AA-88D7-6ABA934AA88A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 type="dt" idx="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 type="ftr" idx="7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 type="sldNum" idx="8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97121A-534F-494F-B57E-D0F084C82F8C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dt" idx="8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 type="ftr" idx="8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 type="sldNum" idx="8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C360DF-4953-41BA-A14C-81650A6CAF3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dt" idx="8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ftr" idx="8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 type="sldNum" idx="8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44F093-1845-42CB-B3CC-1C7F7AD7E52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F6E3-1729-48CD-ADD4-778C09774F6D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dt" idx="8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 type="ftr" idx="8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 type="sldNum" idx="8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A8847D-0508-4FEF-894C-A3278971B82C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9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9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9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07875D-1138-4F20-A8BB-B0AD8EF4632C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dt" idx="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ftr" idx="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 type="sldNum" idx="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F1B888-F712-4CDA-A23F-62120CA6FB0A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 type="dt" idx="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 type="ftr" idx="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 type="sldNum" idx="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745C0E-8420-43E5-BA07-9AD6A4C23F4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dt" idx="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 type="ftr" idx="1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 type="sldNum" idx="1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CB5276-4D8B-484C-86FF-D0B5CC706686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dt" idx="1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 type="ftr" idx="1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 type="sldNum" idx="1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E06C2D-D1F7-4C79-96D3-8E24668FC04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 type="dt" idx="1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 type="ftr" idx="1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 type="sldNum" idx="1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CB46EE-372D-4C90-83B9-A798716582E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1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1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1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40D868-F8A1-4DE2-AA30-701EB55CB42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 type="dt" idx="1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 type="ftr" idx="1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 type="sldNum" idx="1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0760DC-6F84-4458-957D-BB5763720ABA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 type="dt" idx="1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 type="ftr" idx="1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 type="sldNum" idx="1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07BACB-504C-476F-9A8F-08876483717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C3970B-B337-4AF1-B20E-F68720F46D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 type="dt" idx="1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 type="ftr" idx="1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5"/>
          <p:cNvSpPr>
            <a:spLocks noGrp="1"/>
          </p:cNvSpPr>
          <p:nvPr>
            <p:ph type="sldNum" idx="1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E6A710-2C0C-4DC3-8415-E7A787F30757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 type="dt" idx="1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 type="ftr" idx="1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5"/>
          <p:cNvSpPr>
            <a:spLocks noGrp="1"/>
          </p:cNvSpPr>
          <p:nvPr>
            <p:ph type="sldNum" idx="1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842D7E-73C9-473A-9569-624A59B2A99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 type="ftr" idx="1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 type="dt" idx="1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 type="ftr" idx="1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5"/>
          <p:cNvSpPr>
            <a:spLocks noGrp="1"/>
          </p:cNvSpPr>
          <p:nvPr>
            <p:ph type="sldNum" idx="1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D46F4A-5A99-4C26-B0DE-AC9CDD1A9C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 type="dt" idx="1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 type="ftr" idx="1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5"/>
          <p:cNvSpPr>
            <a:spLocks noGrp="1"/>
          </p:cNvSpPr>
          <p:nvPr>
            <p:ph type="sldNum" idx="1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C5CD45-24BD-4BC8-B47B-7166642BD5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 type="dt" idx="1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 type="ftr" idx="1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 type="sldNum" idx="1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4F6A74-90E5-4A37-970A-159375CB19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 type="dt" idx="1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 type="ftr" idx="1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 type="sldNum" idx="1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BFD31E-6D6E-482A-B877-1AF0841821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 type="dt" idx="1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 type="ftr" idx="1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5"/>
          <p:cNvSpPr>
            <a:spLocks noGrp="1"/>
          </p:cNvSpPr>
          <p:nvPr>
            <p:ph type="sldNum" idx="1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013EEB-61EB-4237-8F66-66E83CABB1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 type="dt" idx="1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PlaceHolder 4"/>
          <p:cNvSpPr>
            <a:spLocks noGrp="1"/>
          </p:cNvSpPr>
          <p:nvPr>
            <p:ph type="ftr" idx="1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5"/>
          <p:cNvSpPr>
            <a:spLocks noGrp="1"/>
          </p:cNvSpPr>
          <p:nvPr>
            <p:ph type="sldNum" idx="1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374D00-C895-49BF-8B91-F2DD9AA89B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 type="dt" idx="1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 type="ftr" idx="1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5"/>
          <p:cNvSpPr>
            <a:spLocks noGrp="1"/>
          </p:cNvSpPr>
          <p:nvPr>
            <p:ph type="sldNum" idx="1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315EE3-7750-4D8E-ACB2-D0767BE1F7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BB35-06F2-48C0-9567-7EC749DFB159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 type="dt" idx="1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 type="ftr" idx="1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5"/>
          <p:cNvSpPr>
            <a:spLocks noGrp="1"/>
          </p:cNvSpPr>
          <p:nvPr>
            <p:ph type="sldNum" idx="1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4A1612-A7DE-4A66-96B6-947626BA0D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 type="dt" idx="1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 type="ftr" idx="1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5"/>
          <p:cNvSpPr>
            <a:spLocks noGrp="1"/>
          </p:cNvSpPr>
          <p:nvPr>
            <p:ph type="sldNum" idx="1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748FC8-C9B6-4C48-B9FF-2F6B3E00DE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 type="dt" idx="1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 type="ftr" idx="1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5"/>
          <p:cNvSpPr>
            <a:spLocks noGrp="1"/>
          </p:cNvSpPr>
          <p:nvPr>
            <p:ph type="sldNum" idx="1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7BE19F-93FA-4A34-A7B6-DBFE339226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 type="dt" idx="1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 type="ftr" idx="1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5"/>
          <p:cNvSpPr>
            <a:spLocks noGrp="1"/>
          </p:cNvSpPr>
          <p:nvPr>
            <p:ph type="sldNum" idx="1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29780A-B20A-4D35-AFA2-C6199D11AF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 type="dt" idx="1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4"/>
          <p:cNvSpPr>
            <a:spLocks noGrp="1"/>
          </p:cNvSpPr>
          <p:nvPr>
            <p:ph type="ftr" idx="1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5"/>
          <p:cNvSpPr>
            <a:spLocks noGrp="1"/>
          </p:cNvSpPr>
          <p:nvPr>
            <p:ph type="sldNum" idx="1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C7B1C7-00DD-4BD9-80D9-3B83EE5C7B1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 type="dt" idx="1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 type="ftr" idx="1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 type="sldNum" idx="1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1FFB6D-3312-47E2-809B-5E29E448DD4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 type="dt" idx="1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PlaceHolder 4"/>
          <p:cNvSpPr>
            <a:spLocks noGrp="1"/>
          </p:cNvSpPr>
          <p:nvPr>
            <p:ph type="ftr" idx="1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5"/>
          <p:cNvSpPr>
            <a:spLocks noGrp="1"/>
          </p:cNvSpPr>
          <p:nvPr>
            <p:ph type="sldNum" idx="1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D90C52-0353-419F-AA51-BFABE839996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 type="dt" idx="1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 type="ftr" idx="1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 type="sldNum" idx="1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EF4D28-46AE-4A2E-AEC0-009CCFE3E81C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 type="dt" idx="1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 type="ftr" idx="1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PlaceHolder 5"/>
          <p:cNvSpPr>
            <a:spLocks noGrp="1"/>
          </p:cNvSpPr>
          <p:nvPr>
            <p:ph type="sldNum" idx="1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82C58E-D286-4CAE-9582-B5BB61A37B0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3" name="PlaceHolder 3"/>
          <p:cNvSpPr>
            <a:spLocks noGrp="1"/>
          </p:cNvSpPr>
          <p:nvPr>
            <p:ph type="dt" idx="1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PlaceHolder 4"/>
          <p:cNvSpPr>
            <a:spLocks noGrp="1"/>
          </p:cNvSpPr>
          <p:nvPr>
            <p:ph type="ftr" idx="1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5" name="PlaceHolder 5"/>
          <p:cNvSpPr>
            <a:spLocks noGrp="1"/>
          </p:cNvSpPr>
          <p:nvPr>
            <p:ph type="sldNum" idx="1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4154C0-3986-41A5-B7F4-1EB79F169B3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9CBC6E-222C-4AF7-AD3D-E9173AD78CE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AF6CF9-EDEF-4A11-811F-0DD353EF3F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 type="dt" idx="1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PlaceHolder 4"/>
          <p:cNvSpPr>
            <a:spLocks noGrp="1"/>
          </p:cNvSpPr>
          <p:nvPr>
            <p:ph type="ftr" idx="1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7" name="PlaceHolder 5"/>
          <p:cNvSpPr>
            <a:spLocks noGrp="1"/>
          </p:cNvSpPr>
          <p:nvPr>
            <p:ph type="sldNum" idx="1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6AF464-42DD-48F4-893B-78B54F0E1A2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 type="dt" idx="1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PlaceHolder 4"/>
          <p:cNvSpPr>
            <a:spLocks noGrp="1"/>
          </p:cNvSpPr>
          <p:nvPr>
            <p:ph type="ftr" idx="1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8" name="PlaceHolder 5"/>
          <p:cNvSpPr>
            <a:spLocks noGrp="1"/>
          </p:cNvSpPr>
          <p:nvPr>
            <p:ph type="sldNum" idx="1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FACFFD-53C8-41D1-8896-A0FE759B368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 type="dt" idx="1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 type="ftr" idx="1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PlaceHolder 5"/>
          <p:cNvSpPr>
            <a:spLocks noGrp="1"/>
          </p:cNvSpPr>
          <p:nvPr>
            <p:ph type="sldNum" idx="1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CD714C-408A-42DE-ACEC-BB6F1B57391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8" name="PlaceHolder 3"/>
          <p:cNvSpPr>
            <a:spLocks noGrp="1"/>
          </p:cNvSpPr>
          <p:nvPr>
            <p:ph type="dt" idx="1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PlaceHolder 4"/>
          <p:cNvSpPr>
            <a:spLocks noGrp="1"/>
          </p:cNvSpPr>
          <p:nvPr>
            <p:ph type="ftr" idx="1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0" name="PlaceHolder 5"/>
          <p:cNvSpPr>
            <a:spLocks noGrp="1"/>
          </p:cNvSpPr>
          <p:nvPr>
            <p:ph type="sldNum" idx="1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CD19D5-DCE0-4B0B-8598-B7EAEB99B5B7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 type="dt" idx="1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4"/>
          <p:cNvSpPr>
            <a:spLocks noGrp="1"/>
          </p:cNvSpPr>
          <p:nvPr>
            <p:ph type="ftr" idx="1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PlaceHolder 5"/>
          <p:cNvSpPr>
            <a:spLocks noGrp="1"/>
          </p:cNvSpPr>
          <p:nvPr>
            <p:ph type="sldNum" idx="1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D1B69F-7C7B-48A0-92BC-546C076E3D9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3"/>
    <p:sldLayoutId id="2147484469" r:id="rId4"/>
    <p:sldLayoutId id="2147484470" r:id="rId5"/>
    <p:sldLayoutId id="2147484471" r:id="rId6"/>
    <p:sldLayoutId id="2147484472" r:id="rId7"/>
    <p:sldLayoutId id="2147484473" r:id="rId8"/>
    <p:sldLayoutId id="2147484474" r:id="rId9"/>
    <p:sldLayoutId id="2147484475" r:id="rId10"/>
    <p:sldLayoutId id="2147484476" r:id="rId11"/>
    <p:sldLayoutId id="2147484477" r:id="rId12"/>
    <p:sldLayoutId id="2147484478" r:id="rId13"/>
    <p:sldLayoutId id="2147484479" r:id="rId14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 type="sldNum" idx="19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PlaceHolder 4"/>
          <p:cNvSpPr>
            <a:spLocks noGrp="1"/>
          </p:cNvSpPr>
          <p:nvPr>
            <p:ph type="ftr" idx="1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3"/>
    <p:sldLayoutId id="2147484482" r:id="rId4"/>
    <p:sldLayoutId id="2147484483" r:id="rId5"/>
    <p:sldLayoutId id="2147484484" r:id="rId6"/>
    <p:sldLayoutId id="2147484485" r:id="rId7"/>
    <p:sldLayoutId id="2147484486" r:id="rId8"/>
    <p:sldLayoutId id="2147484487" r:id="rId9"/>
    <p:sldLayoutId id="2147484488" r:id="rId10"/>
    <p:sldLayoutId id="2147484489" r:id="rId11"/>
    <p:sldLayoutId id="2147484490" r:id="rId12"/>
    <p:sldLayoutId id="2147484491" r:id="rId13"/>
    <p:sldLayoutId id="2147484492" r:id="rId14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dt" idx="1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1707-5C6A-41B9-8847-5D2BF58C3390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ftr" idx="1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3" name="PlaceHolder 5"/>
          <p:cNvSpPr>
            <a:spLocks noGrp="1"/>
          </p:cNvSpPr>
          <p:nvPr>
            <p:ph type="sldNum" idx="1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16B7-A0CC-4998-A822-3350C3A9F29D}" type="slidenum">
              <a:rPr b="0" lang="en-US" sz="10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 type="dt" idx="1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FD11-C91F-471D-8BFC-5D5CC7F71960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 type="ftr" idx="1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4" name="PlaceHolder 5"/>
          <p:cNvSpPr>
            <a:spLocks noGrp="1"/>
          </p:cNvSpPr>
          <p:nvPr>
            <p:ph type="sldNum" idx="1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AF7E-449A-46C4-A872-93E2D8CF8741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 type="dt" idx="1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1901-8337-4771-AC67-00F9AA739A1A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PlaceHolder 4"/>
          <p:cNvSpPr>
            <a:spLocks noGrp="1"/>
          </p:cNvSpPr>
          <p:nvPr>
            <p:ph type="ftr" idx="2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PlaceHolder 5"/>
          <p:cNvSpPr>
            <a:spLocks noGrp="1"/>
          </p:cNvSpPr>
          <p:nvPr>
            <p:ph type="sldNum" idx="2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5003-914A-4170-BDBA-D4DFA626935B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4" name="PlaceHolder 3"/>
          <p:cNvSpPr>
            <a:spLocks noGrp="1"/>
          </p:cNvSpPr>
          <p:nvPr>
            <p:ph type="dt" idx="2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388D-D67C-461F-AA32-CAB0847E054F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PlaceHolder 4"/>
          <p:cNvSpPr>
            <a:spLocks noGrp="1"/>
          </p:cNvSpPr>
          <p:nvPr>
            <p:ph type="ftr" idx="2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6" name="PlaceHolder 5"/>
          <p:cNvSpPr>
            <a:spLocks noGrp="1"/>
          </p:cNvSpPr>
          <p:nvPr>
            <p:ph type="sldNum" idx="2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B836-B93A-4AB9-ADF9-D26A94CBB63F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DFD541-A20C-46B8-B432-EC0569A102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5" name="PlaceHolder 3"/>
          <p:cNvSpPr>
            <a:spLocks noGrp="1"/>
          </p:cNvSpPr>
          <p:nvPr>
            <p:ph type="dt" idx="2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D9C5-DEF3-4D64-8315-98934FED9335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4"/>
          <p:cNvSpPr>
            <a:spLocks noGrp="1"/>
          </p:cNvSpPr>
          <p:nvPr>
            <p:ph type="ftr" idx="2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7" name="PlaceHolder 5"/>
          <p:cNvSpPr>
            <a:spLocks noGrp="1"/>
          </p:cNvSpPr>
          <p:nvPr>
            <p:ph type="sldNum" idx="2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57BD-E032-46FF-9EAF-A3F89D1E6E61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 type="dt" idx="2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66E0-C8B3-4110-84AC-B489F5EB2154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PlaceHolder 4"/>
          <p:cNvSpPr>
            <a:spLocks noGrp="1"/>
          </p:cNvSpPr>
          <p:nvPr>
            <p:ph type="ftr" idx="2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8" name="PlaceHolder 5"/>
          <p:cNvSpPr>
            <a:spLocks noGrp="1"/>
          </p:cNvSpPr>
          <p:nvPr>
            <p:ph type="sldNum" idx="2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E248-F91E-4EAA-9867-503F75C573D2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 type="dt" idx="2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CA92-5C18-45C3-8C4B-992E74C5C999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 type="ftr" idx="2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9" name="PlaceHolder 5"/>
          <p:cNvSpPr>
            <a:spLocks noGrp="1"/>
          </p:cNvSpPr>
          <p:nvPr>
            <p:ph type="sldNum" idx="2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55E4-C619-4F5D-B5EC-291C2B98B231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 type="dt" idx="2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DC55-CDA7-4B19-85A0-AD585CB215A4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PlaceHolder 4"/>
          <p:cNvSpPr>
            <a:spLocks noGrp="1"/>
          </p:cNvSpPr>
          <p:nvPr>
            <p:ph type="ftr" idx="2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0" name="PlaceHolder 5"/>
          <p:cNvSpPr>
            <a:spLocks noGrp="1"/>
          </p:cNvSpPr>
          <p:nvPr>
            <p:ph type="sldNum" idx="2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00A7-7FEB-4E99-B8CB-BB130186F17D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9" name="PlaceHolder 3"/>
          <p:cNvSpPr>
            <a:spLocks noGrp="1"/>
          </p:cNvSpPr>
          <p:nvPr>
            <p:ph type="dt" idx="2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2CB9-51FE-4FB2-ACC1-1BE4F98CE3BF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PlaceHolder 4"/>
          <p:cNvSpPr>
            <a:spLocks noGrp="1"/>
          </p:cNvSpPr>
          <p:nvPr>
            <p:ph type="ftr" idx="2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1" name="PlaceHolder 5"/>
          <p:cNvSpPr>
            <a:spLocks noGrp="1"/>
          </p:cNvSpPr>
          <p:nvPr>
            <p:ph type="sldNum" idx="2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BD73-DD60-4649-BF7C-B8BFA7DED3E5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 type="dt" idx="2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AEA5-8543-4F76-AAC4-E67562B10C85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 type="ftr" idx="2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2" name="PlaceHolder 5"/>
          <p:cNvSpPr>
            <a:spLocks noGrp="1"/>
          </p:cNvSpPr>
          <p:nvPr>
            <p:ph type="sldNum" idx="2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5B65-9CD4-4EFF-8D69-87E797D1B2B7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1" name="PlaceHolder 3"/>
          <p:cNvSpPr>
            <a:spLocks noGrp="1"/>
          </p:cNvSpPr>
          <p:nvPr>
            <p:ph type="dt" idx="2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E520-50E7-4ED4-B7BE-F8A98376304B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PlaceHolder 4"/>
          <p:cNvSpPr>
            <a:spLocks noGrp="1"/>
          </p:cNvSpPr>
          <p:nvPr>
            <p:ph type="ftr" idx="2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3" name="PlaceHolder 5"/>
          <p:cNvSpPr>
            <a:spLocks noGrp="1"/>
          </p:cNvSpPr>
          <p:nvPr>
            <p:ph type="sldNum" idx="2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CF7D-E464-4A2B-899A-391DD96503AE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 type="dt" idx="2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 type="ftr" idx="2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4" name="PlaceHolder 5"/>
          <p:cNvSpPr>
            <a:spLocks noGrp="1"/>
          </p:cNvSpPr>
          <p:nvPr>
            <p:ph type="sldNum" idx="2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4210E2-54B5-4532-93E8-BC2BDF482B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3" name="PlaceHolder 3"/>
          <p:cNvSpPr>
            <a:spLocks noGrp="1"/>
          </p:cNvSpPr>
          <p:nvPr>
            <p:ph type="dt" idx="2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PlaceHolder 4"/>
          <p:cNvSpPr>
            <a:spLocks noGrp="1"/>
          </p:cNvSpPr>
          <p:nvPr>
            <p:ph type="ftr" idx="2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5" name="PlaceHolder 5"/>
          <p:cNvSpPr>
            <a:spLocks noGrp="1"/>
          </p:cNvSpPr>
          <p:nvPr>
            <p:ph type="sldNum" idx="2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96AE5C-4352-4AE9-A5F8-91FFAE212A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 type="dt" idx="2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 type="ftr" idx="2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6" name="PlaceHolder 5"/>
          <p:cNvSpPr>
            <a:spLocks noGrp="1"/>
          </p:cNvSpPr>
          <p:nvPr>
            <p:ph type="sldNum" idx="2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1EBD53-CB75-4F1E-829B-B009B913CB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F3283E-8096-4716-BE06-055478F9886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5" name="PlaceHolder 3"/>
          <p:cNvSpPr>
            <a:spLocks noGrp="1"/>
          </p:cNvSpPr>
          <p:nvPr>
            <p:ph type="dt" idx="2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PlaceHolder 4"/>
          <p:cNvSpPr>
            <a:spLocks noGrp="1"/>
          </p:cNvSpPr>
          <p:nvPr>
            <p:ph type="ftr" idx="2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7" name="PlaceHolder 5"/>
          <p:cNvSpPr>
            <a:spLocks noGrp="1"/>
          </p:cNvSpPr>
          <p:nvPr>
            <p:ph type="sldNum" idx="2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E2F929-FF37-42C2-B568-5B6A24EA6B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 type="dt" idx="2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 type="ftr" idx="2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8" name="PlaceHolder 5"/>
          <p:cNvSpPr>
            <a:spLocks noGrp="1"/>
          </p:cNvSpPr>
          <p:nvPr>
            <p:ph type="sldNum" idx="2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1DADED-256E-4B98-9122-0793CE4DA5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7" name="PlaceHolder 3"/>
          <p:cNvSpPr>
            <a:spLocks noGrp="1"/>
          </p:cNvSpPr>
          <p:nvPr>
            <p:ph type="dt" idx="2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PlaceHolder 4"/>
          <p:cNvSpPr>
            <a:spLocks noGrp="1"/>
          </p:cNvSpPr>
          <p:nvPr>
            <p:ph type="ftr" idx="2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9" name="PlaceHolder 5"/>
          <p:cNvSpPr>
            <a:spLocks noGrp="1"/>
          </p:cNvSpPr>
          <p:nvPr>
            <p:ph type="sldNum" idx="2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EA81EB-AA0B-44B2-944D-377616FE78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8" name="PlaceHolder 3"/>
          <p:cNvSpPr>
            <a:spLocks noGrp="1"/>
          </p:cNvSpPr>
          <p:nvPr>
            <p:ph type="dt" idx="24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PlaceHolder 4"/>
          <p:cNvSpPr>
            <a:spLocks noGrp="1"/>
          </p:cNvSpPr>
          <p:nvPr>
            <p:ph type="ftr" idx="2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0" name="PlaceHolder 5"/>
          <p:cNvSpPr>
            <a:spLocks noGrp="1"/>
          </p:cNvSpPr>
          <p:nvPr>
            <p:ph type="sldNum" idx="2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0D0A36-6D05-48B0-BBEA-4441A9CC19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9" name="PlaceHolder 3"/>
          <p:cNvSpPr>
            <a:spLocks noGrp="1"/>
          </p:cNvSpPr>
          <p:nvPr>
            <p:ph type="dt" idx="24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PlaceHolder 4"/>
          <p:cNvSpPr>
            <a:spLocks noGrp="1"/>
          </p:cNvSpPr>
          <p:nvPr>
            <p:ph type="ftr" idx="24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1" name="PlaceHolder 5"/>
          <p:cNvSpPr>
            <a:spLocks noGrp="1"/>
          </p:cNvSpPr>
          <p:nvPr>
            <p:ph type="sldNum" idx="24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68C5DA-FBF2-4361-A085-76A9B2EEFE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0" name="PlaceHolder 3"/>
          <p:cNvSpPr>
            <a:spLocks noGrp="1"/>
          </p:cNvSpPr>
          <p:nvPr>
            <p:ph type="dt" idx="2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PlaceHolder 4"/>
          <p:cNvSpPr>
            <a:spLocks noGrp="1"/>
          </p:cNvSpPr>
          <p:nvPr>
            <p:ph type="ftr" idx="2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2" name="PlaceHolder 5"/>
          <p:cNvSpPr>
            <a:spLocks noGrp="1"/>
          </p:cNvSpPr>
          <p:nvPr>
            <p:ph type="sldNum" idx="2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AB28EC-90ED-4A72-A429-1CEDAEBC08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1" name="PlaceHolder 3"/>
          <p:cNvSpPr>
            <a:spLocks noGrp="1"/>
          </p:cNvSpPr>
          <p:nvPr>
            <p:ph type="dt" idx="25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PlaceHolder 4"/>
          <p:cNvSpPr>
            <a:spLocks noGrp="1"/>
          </p:cNvSpPr>
          <p:nvPr>
            <p:ph type="ftr" idx="25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3" name="PlaceHolder 5"/>
          <p:cNvSpPr>
            <a:spLocks noGrp="1"/>
          </p:cNvSpPr>
          <p:nvPr>
            <p:ph type="sldNum" idx="2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E98F82-9814-40B4-9C0A-6723EE719B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2" name="PlaceHolder 3"/>
          <p:cNvSpPr>
            <a:spLocks noGrp="1"/>
          </p:cNvSpPr>
          <p:nvPr>
            <p:ph type="dt" idx="25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PlaceHolder 4"/>
          <p:cNvSpPr>
            <a:spLocks noGrp="1"/>
          </p:cNvSpPr>
          <p:nvPr>
            <p:ph type="ftr" idx="25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4" name="PlaceHolder 5"/>
          <p:cNvSpPr>
            <a:spLocks noGrp="1"/>
          </p:cNvSpPr>
          <p:nvPr>
            <p:ph type="sldNum" idx="25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690C3F-7AD5-4790-8D53-F6F5352E38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9339C0-2DB3-49B9-8A47-603F7266B8AA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649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78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49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637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0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google.lv/url?sa=i&amp;rct=j&amp;q=&amp;esrc=s&amp;frm=1&amp;source=images&amp;cd=&amp;cad=rja&amp;uact=8&amp;ved=0CAcQjRw&amp;url=http://www1.basket.lv/lsbl/lsbl/news/3377&amp;ei=PcgjVa6NFMmsswHS_IDYBw&amp;bvm=bv.89947451,d.bGg&amp;psig=AFQjCNEwfTVpJbmHWhTqLq4-9EerOE5Z6Q&amp;ust=142849476037143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0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0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0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PlaceHolder 1"/>
          <p:cNvSpPr>
            <a:spLocks noGrp="1"/>
          </p:cNvSpPr>
          <p:nvPr>
            <p:ph type="title"/>
          </p:nvPr>
        </p:nvSpPr>
        <p:spPr>
          <a:xfrm>
            <a:off x="237600" y="1152360"/>
            <a:ext cx="8726760" cy="24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04920" indent="0" algn="ctr">
              <a:spcBef>
                <a:spcPts val="1199"/>
              </a:spcBef>
              <a:spcAft>
                <a:spcPts val="1800"/>
              </a:spcAft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Century Gothic"/>
                <a:ea typeface="MS PGothic"/>
              </a:rPr>
              <a:t>Eiropas Sociālā fonda projekts</a:t>
            </a:r>
            <a:br>
              <a:rPr sz="2800"/>
            </a:br>
            <a:r>
              <a:rPr b="0" lang="lv-LV" sz="2800" spc="-1" strike="noStrike">
                <a:solidFill>
                  <a:srgbClr val="ffffff"/>
                </a:solidFill>
                <a:latin typeface="Century Gothic"/>
                <a:ea typeface="MS PGothic"/>
              </a:rPr>
              <a:t>«Atbalsts sociālajai uzņēmējdarbībai»</a:t>
            </a:r>
            <a:br>
              <a:rPr sz="2800"/>
            </a:br>
            <a:r>
              <a:rPr b="0" lang="lv-LV" sz="2000" spc="-1" strike="noStrike">
                <a:solidFill>
                  <a:srgbClr val="ffffff"/>
                </a:solidFill>
                <a:latin typeface="Century Gothic"/>
                <a:ea typeface="MS PGothic"/>
              </a:rPr>
              <a:t>vienošanās Nr. 9.1.1.3/15/I/001 </a:t>
            </a:r>
            <a:br>
              <a:rPr sz="3600"/>
            </a:br>
            <a:br>
              <a:rPr sz="3600"/>
            </a:br>
            <a:r>
              <a:rPr b="1" lang="lv-LV" sz="3600" spc="-1" strike="noStrike">
                <a:solidFill>
                  <a:srgbClr val="ffffff"/>
                </a:solidFill>
                <a:latin typeface="Century Gothic"/>
                <a:ea typeface="MS PGothic"/>
              </a:rPr>
              <a:t>Finanšu atbalsta saņemšanas nosacījumi</a:t>
            </a:r>
            <a:br>
              <a:rPr sz="2800"/>
            </a:br>
            <a:br>
              <a:rPr sz="1800"/>
            </a:br>
            <a:endParaRPr b="1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9" name="PlaceHolder 2"/>
          <p:cNvSpPr>
            <a:spLocks noGrp="1"/>
          </p:cNvSpPr>
          <p:nvPr>
            <p:ph type="subTitle"/>
          </p:nvPr>
        </p:nvSpPr>
        <p:spPr>
          <a:xfrm>
            <a:off x="1069560" y="3674880"/>
            <a:ext cx="68929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80" name="Title 1"/>
          <p:cNvSpPr/>
          <p:nvPr/>
        </p:nvSpPr>
        <p:spPr>
          <a:xfrm>
            <a:off x="520560" y="2408400"/>
            <a:ext cx="79930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1" name="Rectangle 3"/>
          <p:cNvSpPr/>
          <p:nvPr/>
        </p:nvSpPr>
        <p:spPr>
          <a:xfrm>
            <a:off x="3009960" y="3772080"/>
            <a:ext cx="570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2" name="Picture 6" descr=""/>
          <p:cNvPicPr/>
          <p:nvPr/>
        </p:nvPicPr>
        <p:blipFill>
          <a:blip r:embed="rId1"/>
          <a:stretch/>
        </p:blipFill>
        <p:spPr>
          <a:xfrm>
            <a:off x="150840" y="5668920"/>
            <a:ext cx="5246640" cy="10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Atbalsta saņemšanas proces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09" name="Picture 4" descr=""/>
          <p:cNvPicPr/>
          <p:nvPr/>
        </p:nvPicPr>
        <p:blipFill>
          <a:blip r:embed="rId1"/>
          <a:stretch/>
        </p:blipFill>
        <p:spPr>
          <a:xfrm>
            <a:off x="1990800" y="2619360"/>
            <a:ext cx="1685880" cy="1571760"/>
          </a:xfrm>
          <a:prstGeom prst="rect">
            <a:avLst/>
          </a:prstGeom>
          <a:ln w="0">
            <a:noFill/>
          </a:ln>
        </p:spPr>
      </p:pic>
      <p:sp>
        <p:nvSpPr>
          <p:cNvPr id="3610" name="TextBox 3"/>
          <p:cNvSpPr/>
          <p:nvPr/>
        </p:nvSpPr>
        <p:spPr>
          <a:xfrm>
            <a:off x="5705640" y="4805280"/>
            <a:ext cx="16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ALT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1" name=""/>
          <p:cNvSpPr txBox="1"/>
          <p:nvPr/>
        </p:nvSpPr>
        <p:spPr>
          <a:xfrm>
            <a:off x="5610240" y="2619360"/>
            <a:ext cx="291456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Labklājības ministrija</a:t>
            </a:r>
            <a:endParaRPr b="0" lang="en-US" sz="24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12" name="Rectangle 5"/>
          <p:cNvSpPr/>
          <p:nvPr/>
        </p:nvSpPr>
        <p:spPr>
          <a:xfrm>
            <a:off x="2181240" y="421956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Uzņēmu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3" name="Picture 10" descr=""/>
          <p:cNvPicPr/>
          <p:nvPr/>
        </p:nvPicPr>
        <p:blipFill>
          <a:blip r:embed="rId2"/>
          <a:stretch/>
        </p:blipFill>
        <p:spPr>
          <a:xfrm>
            <a:off x="4687920" y="1589040"/>
            <a:ext cx="1141560" cy="1116000"/>
          </a:xfrm>
          <a:prstGeom prst="rect">
            <a:avLst/>
          </a:prstGeom>
          <a:ln w="0">
            <a:noFill/>
          </a:ln>
        </p:spPr>
      </p:pic>
      <p:pic>
        <p:nvPicPr>
          <p:cNvPr id="3614" name="Picture 11" descr=""/>
          <p:cNvPicPr/>
          <p:nvPr/>
        </p:nvPicPr>
        <p:blipFill>
          <a:blip r:embed="rId3"/>
          <a:stretch/>
        </p:blipFill>
        <p:spPr>
          <a:xfrm>
            <a:off x="4687920" y="3973680"/>
            <a:ext cx="1101600" cy="1062000"/>
          </a:xfrm>
          <a:prstGeom prst="rect">
            <a:avLst/>
          </a:prstGeom>
          <a:ln w="0">
            <a:noFill/>
          </a:ln>
        </p:spPr>
      </p:pic>
      <p:cxnSp>
        <p:nvCxnSpPr>
          <p:cNvPr id="3615" name="Straight Arrow Connector 9"/>
          <p:cNvCxnSpPr/>
          <p:nvPr/>
        </p:nvCxnSpPr>
        <p:spPr>
          <a:xfrm flipV="1">
            <a:off x="3743280" y="2418840"/>
            <a:ext cx="838800" cy="5292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16" name="Straight Arrow Connector 16"/>
          <p:cNvCxnSpPr/>
          <p:nvPr/>
        </p:nvCxnSpPr>
        <p:spPr>
          <a:xfrm>
            <a:off x="3676680" y="3886200"/>
            <a:ext cx="867600" cy="5342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17" name="Straight Arrow Connector 22"/>
          <p:cNvCxnSpPr/>
          <p:nvPr/>
        </p:nvCxnSpPr>
        <p:spPr>
          <a:xfrm>
            <a:off x="5238360" y="2847960"/>
            <a:ext cx="1080" cy="9626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Atbalsta saņemšanas soļ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19" name=""/>
          <p:cNvSpPr txBox="1"/>
          <p:nvPr/>
        </p:nvSpPr>
        <p:spPr>
          <a:xfrm>
            <a:off x="752040" y="1343160"/>
            <a:ext cx="74487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retendent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reģistrējas LM Pasākuma dalībnieku reģistrā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iesakās ALTUM granta finansējuma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iesniedzot pieteikuma dokumentus ALTUM reģionālajā centrā vai konsultāciju birojā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LTU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izvērtē iesniegtos dokumentu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izvērtē biznesa plānu, atbilstību komercdarbības atbalsta nosacījumiem un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ieņem  lēmumu par granta finansējuma  piešķiršan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LTU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un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noslēdz Granta līgum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biznesa projekta īstenošana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20" name="Down Arrow 4"/>
          <p:cNvSpPr/>
          <p:nvPr/>
        </p:nvSpPr>
        <p:spPr>
          <a:xfrm>
            <a:off x="4305240" y="2028960"/>
            <a:ext cx="466920" cy="209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1" name="Down Arrow 8"/>
          <p:cNvSpPr/>
          <p:nvPr/>
        </p:nvSpPr>
        <p:spPr>
          <a:xfrm>
            <a:off x="4305240" y="3495600"/>
            <a:ext cx="466920" cy="209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2" name="Down Arrow 9"/>
          <p:cNvSpPr/>
          <p:nvPr/>
        </p:nvSpPr>
        <p:spPr>
          <a:xfrm>
            <a:off x="4305240" y="5162400"/>
            <a:ext cx="466920" cy="209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TextBox 1"/>
          <p:cNvSpPr/>
          <p:nvPr/>
        </p:nvSpPr>
        <p:spPr>
          <a:xfrm>
            <a:off x="324000" y="119880"/>
            <a:ext cx="79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800" spc="-1" strike="noStrike">
                <a:solidFill>
                  <a:srgbClr val="ffffff"/>
                </a:solidFill>
                <a:latin typeface="Century Gothic"/>
              </a:rPr>
              <a:t>Konsultācijas un apkalpošana visā Latvij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4" name="Picture 2" descr=""/>
          <p:cNvPicPr/>
          <p:nvPr/>
        </p:nvPicPr>
        <p:blipFill>
          <a:blip r:embed="rId2"/>
          <a:stretch/>
        </p:blipFill>
        <p:spPr>
          <a:xfrm>
            <a:off x="1422360" y="1125360"/>
            <a:ext cx="662292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c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TextBox 1"/>
          <p:cNvSpPr/>
          <p:nvPr/>
        </p:nvSpPr>
        <p:spPr>
          <a:xfrm>
            <a:off x="982800" y="1773360"/>
            <a:ext cx="74372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Century Gothic"/>
              </a:rPr>
              <a:t>Granta pieteikuma dokumentu izvērtēšan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Century Gothic"/>
              </a:rPr>
              <a:t>Grantu izsniegša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Ilona Beizītere, ALTUM Kredītu un garantiju 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       departamenta analītiķ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Iesniedzamie dokumenti ALTUM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7" name=""/>
          <p:cNvSpPr txBox="1"/>
          <p:nvPr/>
        </p:nvSpPr>
        <p:spPr>
          <a:xfrm>
            <a:off x="714240" y="1304640"/>
            <a:ext cx="760104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Granta pieteikums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Biznesa plān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jāapraksta esošā un plānotā uzņēmējdarbība, iecerētais biznesa projekts, jāpamato nepieciešamais grants, tā izlietojums un apmēr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Naudas plūsma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parāda biznesa projekta ieviešanu finansiālā izteiksmē vismaz par 2-4 gadiem un demonstrē finansiālos rezultātus gan projekta ieviešanas laikā, gan pēc tā beigā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Sociālās ietekmes izvērtējum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biznesa projekta līmenī (par šo </a:t>
            </a: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tzinumu sniedz LM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Citi dokumenti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atbilstoši projekta, uzņēmuma veidam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u veidlapas būs pieejamas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Biznesa plāns – plānotā projekta aprakst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9" name=""/>
          <p:cNvSpPr txBox="1"/>
          <p:nvPr/>
        </p:nvSpPr>
        <p:spPr>
          <a:xfrm>
            <a:off x="714240" y="1305000"/>
            <a:ext cx="7601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1.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Vispārīgā informācija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2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Uzņēmuma apraksts un mērķ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3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dukta / pakalpojuma aprakst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4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Tirgus un konkurentu aprakst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5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dukta / pakalpojuma realizācija un mārketing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6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jekta realizācijas apraksts, apjoms un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nepieciešamā finansējuma pamatojum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7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jekta riski un problēma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8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Cita būtiska informācija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a veidlapa būs pieejama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Naudas plūsma – projekta gaita finansiālā izteiksmē 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1" name=""/>
          <p:cNvSpPr txBox="1"/>
          <p:nvPr/>
        </p:nvSpPr>
        <p:spPr>
          <a:xfrm>
            <a:off x="714240" y="1305000"/>
            <a:ext cx="7601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1.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u veidlapas būs pieejamas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32" name="Picture 1" descr=""/>
          <p:cNvPicPr/>
          <p:nvPr/>
        </p:nvPicPr>
        <p:blipFill>
          <a:blip r:embed="rId2"/>
          <a:stretch/>
        </p:blipFill>
        <p:spPr>
          <a:xfrm>
            <a:off x="270000" y="615960"/>
            <a:ext cx="8767800" cy="61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saņēmēja/ projekta dzīvotspējas izvērtējum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4" name=""/>
          <p:cNvSpPr txBox="1"/>
          <p:nvPr/>
        </p:nvSpPr>
        <p:spPr>
          <a:xfrm>
            <a:off x="301680" y="1257480"/>
            <a:ext cx="829944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Biznesa dzīvotspēja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izvērtē noteiktus finanšu analīzes kritērijus, pamatojoties uz klienta iesniegto naudas plūsmu, biznesa plānā norādīto informāciju par projekta realizācij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Finanšu izvērtējums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gada pārskatu vai ienākumu deklarāciju izvērtēšan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vai nav nonācis grūtībās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VID nodokļu nomaksa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Uzņēmuma un īpašnieku, dalībnieku kredītvēstur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Uzsācēju gadījumā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Īpašnieku, dalībnieku kredītvēstur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epriekšējā pieredz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Līdzdalība projekt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spēja ieguldīt savus līdzekļus vai piesaistīt līdzfinansējumu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privātpersonas, ārējs finansējums, bankas aizdevums u.tml.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Citas pārbaude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-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saistītās personas, politiski nozīmīgās personas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Granta izsniegšanas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6" name=""/>
          <p:cNvSpPr txBox="1"/>
          <p:nvPr/>
        </p:nvSpPr>
        <p:spPr>
          <a:xfrm>
            <a:off x="394920" y="1247400"/>
            <a:ext cx="8177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līdzekļus izsniedz tikai mērķiem, kas norādīti Granta līgum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izmaksas saskaņā ar Granta līguma nosacījumie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Granta izsniegšanas veidi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1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Rēķinu apmaksa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līdzekļu pārskaitījumi uz preču piegādātāja/ pakalpojumu sniedzēja kontu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iesniedzamie dokumenti: </a:t>
            </a:r>
            <a:r>
              <a:rPr b="1" i="1" lang="lv-LV" sz="1800" spc="-1" strike="noStrike">
                <a:solidFill>
                  <a:srgbClr val="00467f"/>
                </a:solidFill>
                <a:latin typeface="Century Gothic"/>
              </a:rPr>
              <a:t>rēķini, līgumi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, ja apmaksā pakalpojumu, pērk ražošanas iekārtu, preci gatavo pēc pasūtījum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2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eikto izmaksu kompensācija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ret pamatojošiem rēķiniem, līgumiem,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papildu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: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maksājumu uzdevum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konta izraksti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3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Granta avanss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Apgrozāmiem līdzekļ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– nelieliem maksājumiem, dokumenti jāiesniedz pēc izmaksām: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tskaite par izlietojumu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pievienojot rēķinus, līgumus, maksājumu uzdevumus, kontu izrakstus, čekus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Darba algā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lgu sarakst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darba līgumi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ākamiem maksājumiem: maksājumu uzdevumi, kontu izraksti u.tml.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Granta nosacījumu uzraudzība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8" name=""/>
          <p:cNvSpPr txBox="1"/>
          <p:nvPr/>
        </p:nvSpPr>
        <p:spPr>
          <a:xfrm>
            <a:off x="542880" y="1419120"/>
            <a:ext cx="78105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LTUM nodrošina atbalstītā biznesa projekta uzraudzību projekta īstenošanas periodā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Biznesa projektu uzskata par realizētu, ja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līdzekļi izlietoti atbilstoši Granta līgumā norādītajam mērķi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un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uzņēmums darbojas atbilstoši biznesa plānā noteiktaja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izlietojuma atskaite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pēc biznesa projekta apguve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jānorāda projekta faktiskās kopējās izmaksas, t.sk., savs līdzfinansējums, izmaksu sadalījums pa posteņiem, sasniegtie saimnieciskie un sociālās ietekmes rādītāj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Neatbilstība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ja konstatē Granta līguma nosacījumu īstenošanas neatbilstības, ALTUM nepieciešamības gadījumā prasa skaidrojumus vai situācijas labošanu, lemj par izmaksātā granta daļēju vai pilnīgu atmaksas pieprasījum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3" name="Rectangle 11"/>
          <p:cNvSpPr/>
          <p:nvPr/>
        </p:nvSpPr>
        <p:spPr>
          <a:xfrm>
            <a:off x="762120" y="4133880"/>
            <a:ext cx="733716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Aizdev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Kredītu garantij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Riska kapitā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Nefinanšu: konsultācijas, mentor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1f497d"/>
                </a:solidFill>
                <a:latin typeface="Century Gothic"/>
                <a:ea typeface="Times New Roman"/>
              </a:rPr>
              <a:t>ALTUM atbalsta </a:t>
            </a:r>
            <a:r>
              <a:rPr b="1" lang="lv-LV" sz="2000" spc="-1" strike="noStrike" u="sng">
                <a:solidFill>
                  <a:srgbClr val="1f497d"/>
                </a:solidFill>
                <a:uFillTx/>
                <a:latin typeface="Century Gothic"/>
                <a:ea typeface="Times New Roman"/>
              </a:rPr>
              <a:t>ekonomiski pamatotus un dzīvotspējīgus biznesa projektus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4" name="TextBox 1"/>
          <p:cNvSpPr/>
          <p:nvPr/>
        </p:nvSpPr>
        <p:spPr>
          <a:xfrm>
            <a:off x="571680" y="149400"/>
            <a:ext cx="28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Par ALT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5" name="Rectangle 43"/>
          <p:cNvSpPr/>
          <p:nvPr/>
        </p:nvSpPr>
        <p:spPr>
          <a:xfrm>
            <a:off x="4670280" y="2362320"/>
            <a:ext cx="2851200" cy="676080"/>
          </a:xfrm>
          <a:prstGeom prst="rect">
            <a:avLst/>
          </a:prstGeom>
          <a:solidFill>
            <a:srgbClr val="0046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MV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6" name="Rectangle 44"/>
          <p:cNvSpPr/>
          <p:nvPr/>
        </p:nvSpPr>
        <p:spPr>
          <a:xfrm>
            <a:off x="1371600" y="3146400"/>
            <a:ext cx="3054240" cy="663480"/>
          </a:xfrm>
          <a:prstGeom prst="rect">
            <a:avLst/>
          </a:prstGeom>
          <a:solidFill>
            <a:srgbClr val="ca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entury Gothic"/>
                <a:ea typeface="Times New Roman"/>
              </a:rPr>
              <a:t>Lauksaimniek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7" name="Rectangle 45"/>
          <p:cNvSpPr/>
          <p:nvPr/>
        </p:nvSpPr>
        <p:spPr>
          <a:xfrm>
            <a:off x="4670280" y="3146400"/>
            <a:ext cx="2851200" cy="663480"/>
          </a:xfrm>
          <a:prstGeom prst="rect">
            <a:avLst/>
          </a:prstGeom>
          <a:solidFill>
            <a:srgbClr val="6bc2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Iedzīvotāj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8" name="Rectangle 46"/>
          <p:cNvSpPr/>
          <p:nvPr/>
        </p:nvSpPr>
        <p:spPr>
          <a:xfrm>
            <a:off x="1371600" y="2362320"/>
            <a:ext cx="3054240" cy="676080"/>
          </a:xfrm>
          <a:prstGeom prst="rect">
            <a:avLst/>
          </a:prstGeom>
          <a:solidFill>
            <a:srgbClr val="00ac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Biznes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uzsācēj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9" name="Taisnstūris 1"/>
          <p:cNvSpPr/>
          <p:nvPr/>
        </p:nvSpPr>
        <p:spPr>
          <a:xfrm>
            <a:off x="466560" y="136224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alstij piederoša attīstības finanšu institūcija, kas papildina privātā finanšu tirgus piedāvājum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9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4200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ALTUM un sociālie uzņēmumi –</a:t>
            </a:r>
            <a:r>
              <a:rPr b="0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 ir piemēri!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0" name="Rectangle 2"/>
          <p:cNvSpPr/>
          <p:nvPr/>
        </p:nvSpPr>
        <p:spPr>
          <a:xfrm>
            <a:off x="314280" y="1333440"/>
            <a:ext cx="8501040" cy="47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Mīksto rotaļlietu ražošan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Liepāj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Uzņēmums nodarbina cilvēkus n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Liepājas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neredzīgo biedrīb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2012.g. -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Starta programma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izdevum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ekārtām rotaļlietu ražošanai, telp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prīkojumam, apgrozāmiem līdzekļi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Specializētā transporta pakalpojum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cilvēkiem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r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īpašām vajadzībā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(kustību, redzes traucējumi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ēc operācijām utml.)- vizītes pie ārstiem, atpūta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zglītības pasākumu apmeklējum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2 piemēr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(Rīgā, Code)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Starta programma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Šve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mikrokreditēšanas programma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aizdevumi speciāl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transporta iegādei (2012. un 2013.g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1" name="Picture 2" descr="C:\Users\andrejs.buharins\Documents\78748.jpg"/>
          <p:cNvPicPr/>
          <p:nvPr/>
        </p:nvPicPr>
        <p:blipFill>
          <a:blip r:embed="rId1"/>
          <a:stretch/>
        </p:blipFill>
        <p:spPr>
          <a:xfrm>
            <a:off x="5429160" y="1400040"/>
            <a:ext cx="2809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2" name="Picture 2" descr="C:\Users\andrejs.buharins\AppData\Local\Microsoft\Windows\INetCache\Content.Outlook\CWR7DW9Z\186 (2) (6).jpg"/>
          <p:cNvPicPr/>
          <p:nvPr/>
        </p:nvPicPr>
        <p:blipFill>
          <a:blip r:embed="rId2"/>
          <a:stretch/>
        </p:blipFill>
        <p:spPr>
          <a:xfrm>
            <a:off x="399960" y="3781440"/>
            <a:ext cx="209556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3" name="TextBox 1"/>
          <p:cNvSpPr/>
          <p:nvPr/>
        </p:nvSpPr>
        <p:spPr>
          <a:xfrm>
            <a:off x="895320" y="895320"/>
            <a:ext cx="72057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36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Century Gothic"/>
              </a:rPr>
              <a:t>andrejs.buharins@altum.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Century Gothic"/>
              </a:rPr>
              <a:t>Ilona.beizitere@altum.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Century Gothic"/>
              </a:rPr>
              <a:t>www.altum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4" name="Picture 2" descr=""/>
          <p:cNvPicPr/>
          <p:nvPr/>
        </p:nvPicPr>
        <p:blipFill>
          <a:blip r:embed="rId1"/>
          <a:stretch/>
        </p:blipFill>
        <p:spPr>
          <a:xfrm>
            <a:off x="3220920" y="38606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3645" name="Picture 3" descr=""/>
          <p:cNvPicPr/>
          <p:nvPr/>
        </p:nvPicPr>
        <p:blipFill>
          <a:blip r:embed="rId2"/>
          <a:stretch/>
        </p:blipFill>
        <p:spPr>
          <a:xfrm>
            <a:off x="4221000" y="3860640"/>
            <a:ext cx="578160" cy="579600"/>
          </a:xfrm>
          <a:prstGeom prst="rect">
            <a:avLst/>
          </a:prstGeom>
          <a:ln w="0">
            <a:noFill/>
          </a:ln>
        </p:spPr>
      </p:pic>
      <p:pic>
        <p:nvPicPr>
          <p:cNvPr id="3646" name="Picture 4" descr=""/>
          <p:cNvPicPr/>
          <p:nvPr/>
        </p:nvPicPr>
        <p:blipFill>
          <a:blip r:embed="rId3"/>
          <a:stretch/>
        </p:blipFill>
        <p:spPr>
          <a:xfrm>
            <a:off x="5219640" y="3860640"/>
            <a:ext cx="579600" cy="5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0" name="PlaceHolder 1"/>
          <p:cNvSpPr>
            <a:spLocks noGrp="1"/>
          </p:cNvSpPr>
          <p:nvPr>
            <p:ph type="title"/>
          </p:nvPr>
        </p:nvSpPr>
        <p:spPr>
          <a:xfrm>
            <a:off x="447840" y="115560"/>
            <a:ext cx="85881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Finanšu atbalsts sociāliem uzņēmumiem </a:t>
            </a:r>
            <a:r>
              <a:rPr b="0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(2017 – 2022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91" name="Title 2"/>
          <p:cNvSpPr/>
          <p:nvPr/>
        </p:nvSpPr>
        <p:spPr>
          <a:xfrm>
            <a:off x="558720" y="1343160"/>
            <a:ext cx="781380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12 milj</a:t>
            </a:r>
            <a:r>
              <a:rPr b="0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. </a:t>
            </a: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EUR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- kopējais finansējums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grant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programmas ietvar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200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– plānotais atbalstīto sociālo uzņēmumu ska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             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(+ 20 – uzsācēji/ LM ideju konkursa uzvarētāj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ALTUM – LM sadarbības partneri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grantu administrēšan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grantu pieteikumu/ biznesa plānu pieņemšana, izvērtēšana,  atbalsta piešķirša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izsniegtā atbalsta uzraudzība, kontrole, atbalsta saņēmēju datu iegūšana un iesniegšana L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2017.g. maijs/ jūnij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–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provizoriskais lai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 finanšu atbalsta uzsākšana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(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priekšdarb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: MK noteikumu Nr.467 grozījumu apstiprināšana/ LM un ALTUM iekšējās procedūras/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LM reģistra darbības uzsākšan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Rectangle 1"/>
          <p:cNvSpPr/>
          <p:nvPr/>
        </p:nvSpPr>
        <p:spPr>
          <a:xfrm>
            <a:off x="426240" y="11592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pretenden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3" name="Taisnstūris 2"/>
          <p:cNvSpPr/>
          <p:nvPr/>
        </p:nvSpPr>
        <p:spPr>
          <a:xfrm>
            <a:off x="895320" y="1380960"/>
            <a:ext cx="7265880" cy="49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Uz atbalstu var pretendēt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Century Gothic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i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biedrības, nodibinājumi un komersanti (SIA, AS), kuri atbilst noteiktajiem sociālo uzņēmumu kritērijiem un ir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reģistrēti LM Pasākumu dalībnieku reģistrā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Century Gothic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Sociālās uzņēmējdarbības uzsācēji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fiziskas personas, kuras plāno uzsākt sociālo uzņēmējdarbību, ir piedalījušās/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uzvarējušas LM rīkotā ideju konkurs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u atbalsts paredzēts dzīvotspējīgu un ilgtspējīgu sociālo uzņēmumu biznesa projektu īstenošana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(</a:t>
            </a:r>
            <a:r>
              <a:rPr b="1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s nav pabalsts!</a:t>
            </a: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4" name="Rectangle 1"/>
          <p:cNvSpPr/>
          <p:nvPr/>
        </p:nvSpPr>
        <p:spPr>
          <a:xfrm>
            <a:off x="449640" y="115920"/>
            <a:ext cx="35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āmās izmak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5" name="Taisnstūris 2"/>
          <p:cNvSpPr/>
          <p:nvPr/>
        </p:nvSpPr>
        <p:spPr>
          <a:xfrm>
            <a:off x="914400" y="1751040"/>
            <a:ext cx="724680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Ilgtermiņa ieguldīj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av ierobežojumu uz ieguldījumu veidiem, var finansēt arī nemateriālos ieguldījumu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pgrozāmie līdzekļ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pmācību/ konsultāciju izdev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Darba alg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6" name="Picture 5" descr="http://www1.basket.lv/images/u/7b/survey_checklist_r_r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4960" y="4613400"/>
            <a:ext cx="1143000" cy="98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7" name="Rectangle 1"/>
          <p:cNvSpPr/>
          <p:nvPr/>
        </p:nvSpPr>
        <p:spPr>
          <a:xfrm>
            <a:off x="437760" y="115920"/>
            <a:ext cx="33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Nozaru ierobežoju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8" name="Taisnstūris 2"/>
          <p:cNvSpPr/>
          <p:nvPr/>
        </p:nvSpPr>
        <p:spPr>
          <a:xfrm>
            <a:off x="676440" y="1562040"/>
            <a:ext cx="729612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Grantu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tbalstu nepiešķir šādās nozarēs vai jomā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Sistemātisku darījumu veikšana ar vērtspapīriem, nekustamiem īpašumiem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izņemot telpu iznomāšanu/ izīrēšan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Finanšu un apdrošināšanas darbīb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Sprāgstvielu, ieroču, munīcijas ražošana/ tirdzniec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lkoholisko dzērienu, tabakas izstrādājumu ražošana/ tirdzniec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zartspēles, derīb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Citas jomas, kas apdraud sabiedrības drošību un veselīb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9" name="Attēls 3" descr=""/>
          <p:cNvPicPr/>
          <p:nvPr/>
        </p:nvPicPr>
        <p:blipFill>
          <a:blip r:embed="rId2"/>
          <a:stretch/>
        </p:blipFill>
        <p:spPr>
          <a:xfrm>
            <a:off x="7686720" y="1247760"/>
            <a:ext cx="1114560" cy="91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Rectangle 1"/>
          <p:cNvSpPr/>
          <p:nvPr/>
        </p:nvSpPr>
        <p:spPr>
          <a:xfrm>
            <a:off x="464400" y="11592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apmē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1" name="Taisnstūris 2"/>
          <p:cNvSpPr/>
          <p:nvPr/>
        </p:nvSpPr>
        <p:spPr>
          <a:xfrm>
            <a:off x="590400" y="1238400"/>
            <a:ext cx="7867800" cy="50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Grantu apmērs no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5 tūkst. EUR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līdz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200 tūkst. 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tbalstu nosaka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tbilstoši uzņēmuma saimnieciskās darbības apmēram un darbības pieredze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prēķinātais atbalst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nepārsniedz 50% no pēdējo 3 gadu vidējā apgrozījum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va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pēdējo 3 gadu vidējā bilances vērtība x 1.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Atbalsta aprēķinam izvēlas lielāko aprēķināto vērtīb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20 tūkst. EUR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- maksimālais atbalsts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jaundibināt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Pasākuma dalībniekiem/ uzsācējie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50 tūkst. EUR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– maksimālais atbalsts Pasākuma dalībniekiem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ar darbības laiku līdz 3 gad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apildus grantam biznesa projekta īstenošanā atbalsta saņēmējam jāpiesaista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10% līdzfinansējum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savi resursi/ ārējs finansējums, kas nav komercdarbības atbalst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Darba algas izmaksu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3" name=""/>
          <p:cNvSpPr txBox="1"/>
          <p:nvPr/>
        </p:nvSpPr>
        <p:spPr>
          <a:xfrm>
            <a:off x="395280" y="1456920"/>
            <a:ext cx="804528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464400" indent="-325440">
              <a:spcBef>
                <a:spcPts val="4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Darba integrācijas uzņēmumiem (DIU)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5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100%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no nodarbināto atlīdzības apmēr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epārsniedzot vidējo darba samaksu profesijā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99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uz visu biznesa projekta īstenošanas period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(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5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lāno nodarbināt vismaz 2 darbinieku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to skaits nav mazāks par: 1) 40% no ikgadējā vidējā darbinieku skaita, ja nodarbinās nelabvēlīgā situācijā esošus bezdarbniekus; 50% - ja nodarbinās personas ar invaliditāti, garīga rakstura traucējumiem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asākuma dalībniekiem, kuri nav DIU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80%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no nodarbināto atlīdzības apmēr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epārsniedzot vidējo darba samaksu profesijā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uz 6 mēnešiem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Informāciju par vidējo darba samaksu profesijā ALTUM un Pasākuma dalībnieki var iegūt publiskās datu bāzē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04" name="Attēls 1" descr=""/>
          <p:cNvPicPr/>
          <p:nvPr/>
        </p:nvPicPr>
        <p:blipFill>
          <a:blip r:embed="rId1"/>
          <a:stretch/>
        </p:blipFill>
        <p:spPr>
          <a:xfrm>
            <a:off x="7515360" y="1123920"/>
            <a:ext cx="1333440" cy="8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Citi būtiski atbalsta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6" name=""/>
          <p:cNvSpPr txBox="1"/>
          <p:nvPr/>
        </p:nvSpPr>
        <p:spPr>
          <a:xfrm>
            <a:off x="609480" y="1638360"/>
            <a:ext cx="763920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4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Biznesa projekta īstenošanas periods –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tbalsta saņēmējs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ar saņemt finanšu atbalstu vairāk nekā vienu reizi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ja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tbalstītais projekts ir sekmīgi realizēts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, ko apliecina par iepriekšējo biznesa projektu iesniegta atskaite, gada pārskats par pilnu gadu pēc projekta īstenošanas beigā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ir izpildīti visi iepriekšējā finanšu atbalsta līguma nosacījum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07" name="Attēls 1" descr=""/>
          <p:cNvPicPr/>
          <p:nvPr/>
        </p:nvPicPr>
        <p:blipFill>
          <a:blip r:embed="rId1"/>
          <a:stretch/>
        </p:blipFill>
        <p:spPr>
          <a:xfrm>
            <a:off x="6105600" y="4664160"/>
            <a:ext cx="2143080" cy="1427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8T07:08:15Z</dcterms:created>
  <dc:creator>Aira Leite</dc:creator>
  <dc:description/>
  <dc:language>en-US</dc:language>
  <cp:lastModifiedBy>Sistēmas Windows lietotājs</cp:lastModifiedBy>
  <cp:lastPrinted>2017-01-31T07:32:04Z</cp:lastPrinted>
  <dcterms:modified xsi:type="dcterms:W3CDTF">2017-05-03T08:06:16Z</dcterms:modified>
  <cp:revision>253</cp:revision>
  <dc:subject/>
  <dc:title>PowerPoint Presentation</dc:title>
</cp:coreProperties>
</file>