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18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6208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27000" y="744120"/>
            <a:ext cx="496728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200" rIns="8820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6208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B2AAAD0-8EF0-4759-AB31-686800E3B0DF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ymbol zastępczy numeru slajdu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C490187-8A2F-449B-AF24-7C9A19BFA5AD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ymbol zastępczy numeru slajdu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DE3CA32-E026-4EFC-B90F-54BE50109B7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D4D9-3B20-4322-93C4-3AABF4C0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D7D7-1113-4F33-A6C9-D8F59297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7831-FBA0-461A-9F1A-451D13D52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7F4C-72DB-43E7-89B3-E8F96AE55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5D3A-244D-4F80-A1C5-A3949128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78CC-4ABE-49C8-B0AC-43EED4BB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9214-297F-4FC4-88B8-7A4254AF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4C49-F59A-4992-A425-7CDE9BBD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4667-D581-4317-852F-0AC8A5C8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DEE4-187D-4C67-A96E-615256C9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7A46-10B3-49F1-965A-64B39CDF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66A3-F176-434F-957A-22053278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8174-A58E-4D88-94EE-253705D6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2005-E526-4646-A9CC-BCB491CC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28BA-8C17-45BF-A63B-0127A156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6A70-7B61-4F07-A443-B2B56F85B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5948-6AA8-47BF-AC64-7558307F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2282-7C1F-4961-837B-A4E27AFE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F501-B253-404C-A954-C2E8C58F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94DD-371D-45EE-96ED-8B4A6E12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0E9B-F7A4-425A-B521-EF66747F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7776-2810-46B4-92A0-3ACA79AA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4A74-0355-469F-A537-0242AD4C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A752-8319-4F5E-8A24-8A6E12BA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9837-2BFA-41F3-BCF1-627A5B6D05C8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4B02-B9EC-4B5C-886B-EACF47534DBF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250920" y="981000"/>
            <a:ext cx="87138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993366"/>
                </a:solidFill>
                <a:latin typeface="Calibri"/>
              </a:rPr>
              <a:t>Long term senior policy approach in Pol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3366"/>
                </a:solidFill>
                <a:latin typeface="Calibri"/>
              </a:rPr>
              <a:t>for 2014-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993366"/>
                </a:solidFill>
                <a:latin typeface="Calibri"/>
              </a:rPr>
              <a:t> </a:t>
            </a:r>
            <a:r>
              <a:rPr b="1" i="1" lang="pl-PL" sz="2000" spc="-1" strike="noStrike">
                <a:solidFill>
                  <a:srgbClr val="993366"/>
                </a:solidFill>
                <a:latin typeface="Calibri"/>
              </a:rPr>
              <a:t>Marzena Breza PhD, Director of the Department of Senior Policy, </a:t>
            </a:r>
            <a:br>
              <a:rPr sz="2000"/>
            </a:br>
            <a:r>
              <a:rPr b="1" i="1" lang="pl-PL" sz="2000" spc="-1" strike="noStrike">
                <a:solidFill>
                  <a:srgbClr val="993366"/>
                </a:solidFill>
                <a:latin typeface="Calibri"/>
              </a:rPr>
              <a:t>Ministry of Labour and Social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cc"/>
                </a:solidFill>
                <a:latin typeface="Calibri"/>
              </a:rPr>
              <a:t>Seminar on active age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cc"/>
                </a:solidFill>
                <a:latin typeface="Calibri"/>
              </a:rPr>
              <a:t>Project „Latvia: </a:t>
            </a:r>
            <a:r>
              <a:rPr b="1" lang="en-US" sz="1400" spc="-1" strike="noStrike">
                <a:solidFill>
                  <a:srgbClr val="0033cc"/>
                </a:solidFill>
                <a:latin typeface="Calibri"/>
              </a:rPr>
              <a:t>Developing a Comprehensive Active Ageing Strate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alibri"/>
              </a:rPr>
              <a:t>for Longer and Better Working Lives</a:t>
            </a:r>
            <a:r>
              <a:rPr b="1" lang="pl-PL" sz="1400" spc="-1" strike="noStrike">
                <a:solidFill>
                  <a:srgbClr val="0033cc"/>
                </a:solidFill>
                <a:latin typeface="Calibri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Title 1"/>
          <p:cNvGrpSpPr/>
          <p:nvPr/>
        </p:nvGrpSpPr>
        <p:grpSpPr>
          <a:xfrm>
            <a:off x="0" y="0"/>
            <a:ext cx="5797440" cy="907920"/>
            <a:chOff x="0" y="0"/>
            <a:chExt cx="5797440" cy="907920"/>
          </a:xfrm>
        </p:grpSpPr>
        <p:pic>
          <p:nvPicPr>
            <p:cNvPr id="91" name="Titl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0" y="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9"/>
          <p:cNvSpPr/>
          <p:nvPr/>
        </p:nvSpPr>
        <p:spPr>
          <a:xfrm>
            <a:off x="611280" y="5516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33cc"/>
                </a:solidFill>
                <a:latin typeface="Calibri"/>
              </a:rPr>
              <a:t>Riga, April 7th 2014</a:t>
            </a:r>
            <a:r>
              <a:rPr b="0" lang="pl-PL" sz="1800" spc="-1" strike="noStrike">
                <a:solidFill>
                  <a:srgbClr val="0033cc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159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162" name="Tytuł 1"/>
          <p:cNvSpPr/>
          <p:nvPr/>
        </p:nvSpPr>
        <p:spPr>
          <a:xfrm>
            <a:off x="0" y="113364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Government Programme for Social Participation of Senior Citizens 2012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324000" y="2855880"/>
            <a:ext cx="8569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ole tekstowe 1"/>
          <p:cNvSpPr/>
          <p:nvPr/>
        </p:nvSpPr>
        <p:spPr>
          <a:xfrm>
            <a:off x="942840" y="2949480"/>
            <a:ext cx="7150320" cy="41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The Programme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is based on open calls for proposal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the organisations that operate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 the area of public benef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n-governmental organ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Organizations run by churches and religious commu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ocial cooper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ssociations of local government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mpanies (including sport clubs) which generate profits intended only to cover their  statutory objectives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(private enterprises are exclude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166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169" name="Tytuł 1"/>
          <p:cNvSpPr/>
          <p:nvPr/>
        </p:nvSpPr>
        <p:spPr>
          <a:xfrm>
            <a:off x="0" y="113364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Summary of the Programme 2012-2013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24000" y="2855880"/>
            <a:ext cx="8569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ole tekstowe 1"/>
          <p:cNvSpPr/>
          <p:nvPr/>
        </p:nvSpPr>
        <p:spPr>
          <a:xfrm>
            <a:off x="468360" y="2276640"/>
            <a:ext cx="784872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2 editions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f call for proposals (in 2012 and 20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About </a:t>
            </a: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3200 offers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ub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About </a:t>
            </a: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1700 projects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co-fina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Total budget: PLN 60 mln (</a:t>
            </a: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EUR 14 mln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ubsidies vary from PLN 20 000 to 200 000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EUR 4700 to 47800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pplying organizations are obliged to cover 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at least 10%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f thier projects’ value (financial or human resour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173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5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176" name="Tytuł 1"/>
          <p:cNvSpPr/>
          <p:nvPr/>
        </p:nvSpPr>
        <p:spPr>
          <a:xfrm>
            <a:off x="0" y="113364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Summary of the Programme 2012-2013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324000" y="2855880"/>
            <a:ext cx="8569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ole tekstowe 1"/>
          <p:cNvSpPr/>
          <p:nvPr/>
        </p:nvSpPr>
        <p:spPr>
          <a:xfrm>
            <a:off x="1033560" y="2855880"/>
            <a:ext cx="714996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ost projects were submitted under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iorities I on education </a:t>
            </a: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(about 40%)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I on integration </a:t>
            </a: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(about 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iorities III on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ocial participation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nd IV on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ocial services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ere scarcely represented </a:t>
            </a: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(about 10% in to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Most projects were based on integration or direct individual services. More emphasis should be put on </a:t>
            </a:r>
            <a:r>
              <a:rPr b="1" i="1" lang="pl-PL" sz="1800" spc="-1" strike="noStrike">
                <a:solidFill>
                  <a:srgbClr val="ff0000"/>
                </a:solidFill>
                <a:latin typeface="Calibri"/>
              </a:rPr>
              <a:t>active participation</a:t>
            </a:r>
            <a:r>
              <a:rPr b="0" lang="pl-PL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eg. voluntee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180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183" name="Tytuł 1"/>
          <p:cNvSpPr/>
          <p:nvPr/>
        </p:nvSpPr>
        <p:spPr>
          <a:xfrm>
            <a:off x="0" y="113364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Polish Government initiatives for 2014-20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Senior Pac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324000" y="2855880"/>
            <a:ext cx="8569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ole tekstowe 1"/>
          <p:cNvSpPr/>
          <p:nvPr/>
        </p:nvSpPr>
        <p:spPr>
          <a:xfrm>
            <a:off x="541440" y="2637000"/>
            <a:ext cx="7654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overnment Program for 50+ - labour market participation of 50+ and 60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overnment Program on social participation 2014-2020 (a. 70 mln eu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0000"/>
                </a:solidFill>
                <a:uFillTx/>
                <a:latin typeface="Calibri"/>
              </a:rPr>
              <a:t>Long-term senior policy approach 2014-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Active participation of social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bjaśnienie prostokątne 2"/>
          <p:cNvSpPr/>
          <p:nvPr/>
        </p:nvSpPr>
        <p:spPr>
          <a:xfrm>
            <a:off x="6659640" y="4869000"/>
            <a:ext cx="1536480" cy="1584360"/>
          </a:xfrm>
          <a:prstGeom prst="wedgeRectCallout">
            <a:avLst>
              <a:gd name="adj1" fmla="val -93361"/>
              <a:gd name="adj2" fmla="val -5679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useful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 for the New financial perspective 2014-2020 on region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188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191" name="Tytuł 1"/>
          <p:cNvSpPr/>
          <p:nvPr/>
        </p:nvSpPr>
        <p:spPr>
          <a:xfrm>
            <a:off x="0" y="113364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Government Programme for Social Participation of Senior Citizens for 2014-20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24000" y="2637000"/>
            <a:ext cx="85690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The Programme was introduced in December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Based on the results of its previous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Total budget 2014: a. 10 mln 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Total budget in 2014-2020: a. 70 mln 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9"/>
          <p:cNvSpPr/>
          <p:nvPr/>
        </p:nvSpPr>
        <p:spPr>
          <a:xfrm>
            <a:off x="611280" y="98100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93366"/>
                </a:solidFill>
                <a:latin typeface="Calibri"/>
              </a:rPr>
              <a:t>Edition 2014 of the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Title 1"/>
          <p:cNvGrpSpPr/>
          <p:nvPr/>
        </p:nvGrpSpPr>
        <p:grpSpPr>
          <a:xfrm>
            <a:off x="0" y="0"/>
            <a:ext cx="5797440" cy="907920"/>
            <a:chOff x="0" y="0"/>
            <a:chExt cx="5797440" cy="907920"/>
          </a:xfrm>
        </p:grpSpPr>
        <p:pic>
          <p:nvPicPr>
            <p:cNvPr id="195" name="Titl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7"/>
          <p:cNvSpPr/>
          <p:nvPr/>
        </p:nvSpPr>
        <p:spPr>
          <a:xfrm>
            <a:off x="324000" y="1700280"/>
            <a:ext cx="864072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Budget limitations were introduced within each priority of the Programme to provide wider diversity of the projects co-financed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Priority I. Education of senior citizens – 30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Priority II.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al activity promoting integration within senior generation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between generations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– 40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Priority III. Social participation of senior citizens – 15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Priority IV.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al services for older citizens (external)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– 15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200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203" name="Tytuł 1"/>
          <p:cNvSpPr/>
          <p:nvPr/>
        </p:nvSpPr>
        <p:spPr>
          <a:xfrm>
            <a:off x="0" y="113364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Long term senior policy approach in Poland 2014-20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324000" y="3284640"/>
            <a:ext cx="8569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ole tekstowe 2"/>
          <p:cNvSpPr/>
          <p:nvPr/>
        </p:nvSpPr>
        <p:spPr>
          <a:xfrm>
            <a:off x="468360" y="2276640"/>
            <a:ext cx="8207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Framework document introduced in December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ocument is composed of following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     Demographical situation in Poland – current state, main challeng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     Health and independent liv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      Professional activity of people over age 5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      Educational, social and cultural activity of senior citize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)      silver econom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)      intergenerational re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207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9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210" name="Tytuł 1"/>
          <p:cNvSpPr/>
          <p:nvPr/>
        </p:nvSpPr>
        <p:spPr>
          <a:xfrm>
            <a:off x="0" y="113364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Active ageing policy vs. European Social Fund 2014-20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324000" y="3284640"/>
            <a:ext cx="8569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ole tekstowe 2"/>
          <p:cNvSpPr/>
          <p:nvPr/>
        </p:nvSpPr>
        <p:spPr>
          <a:xfrm>
            <a:off x="324000" y="2543040"/>
            <a:ext cx="871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ctive and healty ageing priority – our main go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Care services – standards, trainings for caregivers, ageing in place approach, ICT in care, involvement of people 50+, L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Reasearch initiatives on age fiendly work envir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Other initiatives on regional level (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7"/>
          <p:cNvSpPr/>
          <p:nvPr/>
        </p:nvSpPr>
        <p:spPr>
          <a:xfrm>
            <a:off x="1547640" y="3216240"/>
            <a:ext cx="576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1f497d"/>
                </a:solidFill>
                <a:latin typeface="Calibri"/>
              </a:rPr>
              <a:t>Thank you for your att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Calibri"/>
              </a:rPr>
              <a:t>Marzena Breza (marzena.breza@mpips.gov.p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Calibri"/>
              </a:rPr>
              <a:t>Olga Richter (olga.richter@mpips.gov.pl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Calibri"/>
              </a:rPr>
              <a:t>www.mpips.gov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1f497d"/>
                </a:solidFill>
                <a:latin typeface="Calibri"/>
              </a:rPr>
              <a:t>www.senior.gov.p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Title 1"/>
          <p:cNvGrpSpPr/>
          <p:nvPr/>
        </p:nvGrpSpPr>
        <p:grpSpPr>
          <a:xfrm>
            <a:off x="0" y="0"/>
            <a:ext cx="5797440" cy="907920"/>
            <a:chOff x="0" y="0"/>
            <a:chExt cx="5797440" cy="907920"/>
          </a:xfrm>
        </p:grpSpPr>
        <p:pic>
          <p:nvPicPr>
            <p:cNvPr id="215" name="Titl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96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99" name="Tytuł 1"/>
          <p:cNvSpPr/>
          <p:nvPr/>
        </p:nvSpPr>
        <p:spPr>
          <a:xfrm>
            <a:off x="0" y="113364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324000" y="2855880"/>
            <a:ext cx="8569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ole tekstowe 9"/>
          <p:cNvSpPr/>
          <p:nvPr/>
        </p:nvSpPr>
        <p:spPr>
          <a:xfrm>
            <a:off x="468360" y="2276640"/>
            <a:ext cx="842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emographic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EY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olish Government initiatives for 2012-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olish Government initiatives for 2014-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EU Funds for 2014-2020 vs. Demographic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103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106" name="Tytuł 1"/>
          <p:cNvSpPr/>
          <p:nvPr/>
        </p:nvSpPr>
        <p:spPr>
          <a:xfrm>
            <a:off x="0" y="113364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Demographic situation in Pol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– </a:t>
            </a: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basic facts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324000" y="2855880"/>
            <a:ext cx="8569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619280" y="4221000"/>
          <a:ext cx="5897520" cy="731880"/>
        </p:xfrm>
        <a:graphic>
          <a:graphicData uri="http://schemas.openxmlformats.org/drawingml/2006/table">
            <a:tbl>
              <a:tblPr/>
              <a:tblGrid>
                <a:gridCol w="1006560"/>
                <a:gridCol w="904680"/>
                <a:gridCol w="873360"/>
                <a:gridCol w="682560"/>
                <a:gridCol w="766800"/>
                <a:gridCol w="873000"/>
                <a:gridCol w="790560"/>
              </a:tblGrid>
              <a:tr h="244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–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–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–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–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2437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-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2437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sp>
        <p:nvSpPr>
          <p:cNvPr id="109" name="pole tekstowe 3"/>
          <p:cNvSpPr/>
          <p:nvPr/>
        </p:nvSpPr>
        <p:spPr>
          <a:xfrm>
            <a:off x="1187280" y="2781360"/>
            <a:ext cx="7488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Table 1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proportion of age groups in EU-27 and in Poland, in 2011 (in %) (as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31.12.20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ource: own study based on Eurostat (demo_pjanin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ole tekstowe 4"/>
          <p:cNvSpPr/>
          <p:nvPr/>
        </p:nvSpPr>
        <p:spPr>
          <a:xfrm>
            <a:off x="1547640" y="5157720"/>
            <a:ext cx="60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Increasing </a:t>
            </a:r>
            <a:r>
              <a:rPr b="1" lang="en-GB" sz="1400" spc="-1" strike="noStrike">
                <a:solidFill>
                  <a:srgbClr val="7030a0"/>
                </a:solidFill>
                <a:latin typeface="Calibri"/>
              </a:rPr>
              <a:t>life expectancy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(average for women 8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and 72,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for men in 201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bjaśnienie prostokątne 2"/>
          <p:cNvSpPr/>
          <p:nvPr/>
        </p:nvSpPr>
        <p:spPr>
          <a:xfrm>
            <a:off x="7451640" y="4941720"/>
            <a:ext cx="1584360" cy="1079640"/>
          </a:xfrm>
          <a:prstGeom prst="wedgeRectCallout">
            <a:avLst>
              <a:gd name="adj1" fmla="val -68671"/>
              <a:gd name="adj2" fmla="val -4876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Relatively ’young’ as for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113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116" name="Tytuł 1"/>
          <p:cNvSpPr/>
          <p:nvPr/>
        </p:nvSpPr>
        <p:spPr>
          <a:xfrm>
            <a:off x="0" y="113364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Demographic situation in Pol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– </a:t>
            </a: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basic facts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324000" y="2855880"/>
            <a:ext cx="8569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ole tekstowe 3"/>
          <p:cNvSpPr/>
          <p:nvPr/>
        </p:nvSpPr>
        <p:spPr>
          <a:xfrm>
            <a:off x="1332000" y="2565360"/>
            <a:ext cx="6840360" cy="11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able 2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pulation prognostics 2010–2035 according to age group (in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urce: Source: own study based on data from Central Statistical Office, Prognoza ludności na lata 2008–2035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806400" y="3427560"/>
          <a:ext cx="8229600" cy="1280880"/>
        </p:xfrm>
        <a:graphic>
          <a:graphicData uri="http://schemas.openxmlformats.org/drawingml/2006/table">
            <a:tbl>
              <a:tblPr/>
              <a:tblGrid>
                <a:gridCol w="1282680"/>
                <a:gridCol w="1157400"/>
                <a:gridCol w="1158840"/>
                <a:gridCol w="1157400"/>
                <a:gridCol w="1157040"/>
                <a:gridCol w="1158840"/>
                <a:gridCol w="1157400"/>
              </a:tblGrid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83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–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–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–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9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6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83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 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 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sp>
        <p:nvSpPr>
          <p:cNvPr id="120" name="pole tekstowe 4"/>
          <p:cNvSpPr/>
          <p:nvPr/>
        </p:nvSpPr>
        <p:spPr>
          <a:xfrm>
            <a:off x="1116000" y="5084640"/>
            <a:ext cx="705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edian of age will increase from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8 in 2010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48 in 20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 population dependency ratio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ll increase from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6 people in post-working a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er 100 people in working age in 2010 to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6 people in 2035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122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125" name="Tytuł 1"/>
          <p:cNvSpPr/>
          <p:nvPr/>
        </p:nvSpPr>
        <p:spPr>
          <a:xfrm>
            <a:off x="0" y="113364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European Year for Active Ageing and Solidarity Between Generations 2012 in Poland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324000" y="2855880"/>
            <a:ext cx="8569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Obraz 3" descr="ey_banner_en.png"/>
          <p:cNvPicPr/>
          <p:nvPr/>
        </p:nvPicPr>
        <p:blipFill>
          <a:blip r:embed="rId3"/>
          <a:stretch/>
        </p:blipFill>
        <p:spPr>
          <a:xfrm>
            <a:off x="3492360" y="2662200"/>
            <a:ext cx="2684520" cy="574560"/>
          </a:xfrm>
          <a:prstGeom prst="rect">
            <a:avLst/>
          </a:prstGeom>
          <a:ln w="0">
            <a:noFill/>
          </a:ln>
        </p:spPr>
      </p:pic>
      <p:sp>
        <p:nvSpPr>
          <p:cNvPr id="128" name="pole tekstowe 1"/>
          <p:cNvSpPr/>
          <p:nvPr/>
        </p:nvSpPr>
        <p:spPr>
          <a:xfrm>
            <a:off x="1116000" y="3762360"/>
            <a:ext cx="7149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EY 2012 in Poland includ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events on central level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Ministries and other central public bod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8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events on regional level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regional authorit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bout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115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vents on local level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local NGO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bout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events organisied by the Universities of Third 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bout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280 events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ere included in the official calender of EY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130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133" name="Tytuł 1"/>
          <p:cNvSpPr/>
          <p:nvPr/>
        </p:nvSpPr>
        <p:spPr>
          <a:xfrm>
            <a:off x="0" y="113364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European Year for Active Ageing and Solidarity Between Generations 2012 in Poland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324000" y="2855880"/>
            <a:ext cx="8569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Obraz 3" descr="ey_banner_en.png"/>
          <p:cNvPicPr/>
          <p:nvPr/>
        </p:nvPicPr>
        <p:blipFill>
          <a:blip r:embed="rId3"/>
          <a:stretch/>
        </p:blipFill>
        <p:spPr>
          <a:xfrm>
            <a:off x="3492360" y="2662200"/>
            <a:ext cx="2684520" cy="574560"/>
          </a:xfrm>
          <a:prstGeom prst="rect">
            <a:avLst/>
          </a:prstGeom>
          <a:ln w="0">
            <a:noFill/>
          </a:ln>
        </p:spPr>
      </p:pic>
      <p:sp>
        <p:nvSpPr>
          <p:cNvPr id="136" name="pole tekstowe 1"/>
          <p:cNvSpPr/>
          <p:nvPr/>
        </p:nvSpPr>
        <p:spPr>
          <a:xfrm>
            <a:off x="1116000" y="3573360"/>
            <a:ext cx="7149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EY 2012 in Pol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ctive ageing issues were introduced into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ide public dab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The Year of Third Age Univer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rst steps were taken to establish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government actions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n the field of active and healthy ag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epartment of Senior Policy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as established within the Ministry of Labour and Social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The Government Programme for Social Participation of Older Citizens 2012-2013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as int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138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141" name="Tytuł 1"/>
          <p:cNvSpPr/>
          <p:nvPr/>
        </p:nvSpPr>
        <p:spPr>
          <a:xfrm>
            <a:off x="0" y="113364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Polish Government initiatives for 2012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324000" y="2855880"/>
            <a:ext cx="8569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ole tekstowe 1"/>
          <p:cNvSpPr/>
          <p:nvPr/>
        </p:nvSpPr>
        <p:spPr>
          <a:xfrm>
            <a:off x="611280" y="2349360"/>
            <a:ext cx="7654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First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overnment Program on social participation 2012-2013 (15 mln eu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Council for Senior Policy – advisory body to the Minister (NGOs, social partners, government central, regional and local lev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145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148" name="Tytuł 1"/>
          <p:cNvSpPr/>
          <p:nvPr/>
        </p:nvSpPr>
        <p:spPr>
          <a:xfrm>
            <a:off x="0" y="113364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Governement Programme for Social Participation of Senior Citizens 2012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324000" y="2855880"/>
            <a:ext cx="8569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ole tekstowe 1"/>
          <p:cNvSpPr/>
          <p:nvPr/>
        </p:nvSpPr>
        <p:spPr>
          <a:xfrm>
            <a:off x="942840" y="2949480"/>
            <a:ext cx="7150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The Programme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as introduced in August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ts main objectiv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sustain activity of seniors after quitting labour mar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provide them conditions for sharing their knowledge, skills and experience within their generation as well as with other gene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empower people experiencing dependency due to health reasons and other obsta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help them play new significant social roles – promoting self-help and self-organ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152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155" name="Tytuł 1"/>
          <p:cNvSpPr/>
          <p:nvPr/>
        </p:nvSpPr>
        <p:spPr>
          <a:xfrm>
            <a:off x="12600" y="91116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Priorities and actions of the Program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324000" y="2855880"/>
            <a:ext cx="8569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826920" y="2133720"/>
          <a:ext cx="7561440" cy="4751280"/>
        </p:xfrm>
        <a:graphic>
          <a:graphicData uri="http://schemas.openxmlformats.org/drawingml/2006/table">
            <a:tbl>
              <a:tblPr/>
              <a:tblGrid>
                <a:gridCol w="1973520"/>
                <a:gridCol w="5587920"/>
              </a:tblGrid>
              <a:tr h="1346040">
                <a:tc>
                  <a:txBody>
                    <a:bodyPr lIns="45720" rIns="457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ority 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ducation of </a:t>
                      </a: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lder citiz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ctr">
                      <a:noAutofit/>
                    </a:bodyPr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verse educational offer providing knowledge in different areas (including law, economy, health, prophylaxis, sport, tourism and new technologies), educational programs on active ageing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raining of volunteer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raining of assistant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motion of volunteering of competency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motion of educational offer among senior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0600">
                <a:tc>
                  <a:txBody>
                    <a:bodyPr lIns="45720" rIns="457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ority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cial </a:t>
                      </a: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rticipatio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moting integration within senior generation and between gener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ctr">
                      <a:noAutofit/>
                    </a:bodyPr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cial activity of 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nior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, including volunteering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hysical activity of 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lder citizen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, tourism and recreatio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ngaging different generations in cultural activity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uilding social networks based on intergenerational volunteering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radicating e-exclusion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200">
                <a:tc>
                  <a:txBody>
                    <a:bodyPr lIns="45720" rIns="457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ority 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cial participation of </a:t>
                      </a: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lder citiz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ctr">
                      <a:noAutofit/>
                    </a:bodyPr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niors’ activity for local communities (development of civil society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ivity supporting participation in social/public life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fo-help network (to build positive image of ageing)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560">
                <a:tc>
                  <a:txBody>
                    <a:bodyPr lIns="45720" rIns="457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ority 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cial services for </a:t>
                      </a: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lder citizens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(extern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ctr">
                      <a:noAutofit/>
                    </a:bodyPr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raining of volunteers and assistants in field of helping 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lder citizn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pporting various forms of self-hel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pporting families in help for 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nior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based on voluntary assistance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crease of access to social services in various areas: custody, culture, education, sport and touris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8:14:23Z</dcterms:created>
  <dc:creator>Hania</dc:creator>
  <dc:description/>
  <dc:language>en-US</dc:language>
  <cp:lastModifiedBy>Marzena Breza</cp:lastModifiedBy>
  <cp:lastPrinted>2014-04-03T14:09:38Z</cp:lastPrinted>
  <dcterms:modified xsi:type="dcterms:W3CDTF">2014-04-07T08:33:45Z</dcterms:modified>
  <cp:revision>433</cp:revision>
  <dc:subject/>
  <dc:title>Slide 1</dc:title>
</cp:coreProperties>
</file>