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F7D-A09C-4F72-8310-C4F7727A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F17-ED87-45AC-8A94-5502438E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092-AE32-4FE5-B735-60393628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F23-01E0-46FC-B1D3-C824B933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EE7-3F2D-479F-92A6-1CD861D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200-CF80-4C72-9F8F-63174544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0F41-816A-4399-9C6B-89AB6DA5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156-6C8B-4B14-8FFC-974E074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3C4D-6D7D-43DB-BF94-7CB37D1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199A-528D-4D93-80E2-FF1FD39B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08B-563E-48D3-B886-43C15A3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5C9-1DAC-4BA1-8993-BD3F02DC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96C4-9B50-4739-BFBD-6B32541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9161-7B23-4042-9AF5-7E2ED04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AEA-DCEC-4FB2-BB86-6F5BAA99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094-BC6B-41BF-9852-58B0979F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0F0-EA58-44FE-B9B4-8B3D7F92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67340-789B-4692-ABC6-65B80480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25486-2600-458C-9CAC-524DA7E4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F087A-7FCA-4B1B-A567-159395B5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E24CE-93BC-49AE-A4BD-50F4EC85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E9E0B-0316-4029-8341-ABEE0F2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9ED-83B7-434A-8D9B-BDD0174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05E69-0DE7-4832-87EB-79DF7F9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B3720-0C4A-47CD-BBDA-EE535AA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70682-B816-4658-AB76-BDBAA45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52210-E049-47E0-8B2F-79E283D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A727C-45B0-4451-BCBC-8FE19236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79614-FC56-4A61-856F-4D366785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83873-5D09-44DF-9E10-F4F70901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70A5-7A28-43FA-A3E0-0CDF7B1C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1B91-DDB3-416E-9B81-E7AE89D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2233-2802-4800-8464-780627F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ED2-DF70-4FE5-A69A-B7AA33F1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BBD6-5E12-4264-8FBC-A7D5BD9A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49E7-D72A-405F-B503-DF10046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1053-2E37-406C-93AF-347B3E74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F3B2-4EA6-434A-82CF-BC78077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E572-303F-4740-B839-6F6FDE8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6BCF-3ABD-4A15-B38A-86B01C4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35D7-64A3-41FA-A2F9-DEBCAFB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CF1C-E33D-47AC-A1DF-3DCB5891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B854-B13F-4BA1-AA3D-91358EF4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71DC2-8C3A-47F7-A914-F82DFF12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03E-96BF-4CC1-87DE-D6F9FE3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37E2C-1354-4598-9B52-D08EB19D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1B639-9B6F-4EB8-81D3-E44C67EA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29DD1-D4A0-4386-9599-2FFCC7C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9925F-345C-4EEE-9E26-1BD886C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7E51E-9623-49EA-A5A8-066E2918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8235F-F042-4B87-9354-898BCDA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02D24-BA56-43EB-8168-E2A636B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E101C-D9B5-420D-9FC2-91115A8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859B9-3E31-41E3-AC9C-CC3C6405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29909-2995-469C-A06F-9BF71D89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E98-437E-4023-83A3-4B3FB8E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E6781-2B40-48F9-A7E9-F17E402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D843D-40DF-4745-B522-B72ED59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74AF6-9BA9-4E81-9053-76A2590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3E69C-8CD4-46FF-9875-41B92F74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2C149-3CAD-48B8-BF54-4E229229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52FCC-CA84-4C43-A11E-ED0C02F7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A51F8-AABB-4DE5-989C-9A805A42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CF4C1-8A53-43E6-9505-873E028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57C57-CF5C-43A2-B13E-3CB8151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2F2AA-1CCA-48C9-A699-22F184F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AF3-5883-407C-9248-2CB7812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32283-FA44-43B6-A65C-730C729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06FDA-9DED-426A-B03A-D7982E9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7A88D-6C1A-43F0-B8AF-61C209D6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5CBE8-56BC-4BB1-94EF-96CA5E1D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B0DD9-32F5-48BA-B070-5D8C52D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04E24-974F-4755-9CDE-35CF1D2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D0CE2-93F7-4704-BA6A-689A1CF0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5AB10-D211-4534-AE59-5DEBAF1F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DC7DB-3ADA-46D5-8803-2888EF3E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DA691-0D51-4479-896C-3083238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A50-DFDB-4BD4-AC1D-FDF6A8AE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BC621-690A-4285-8766-73DE284A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87655-9414-4432-B1A0-ECE7659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F2A9C-95EB-4CB9-A5BF-7582E481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34196-BF56-4A30-9A79-89506B2B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F1DF0-99FA-4D47-8044-247A8665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916-879C-4543-A961-E396B2B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8356-6829-4EA4-B20A-2BAFD6BC54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E48-4106-4CE1-917B-6C63EC8CCF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45E4-5BAB-484D-9B1C-DFFE6CDA87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e9ec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A58-5351-4895-ACFA-5E59501446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64B-BC50-4FAC-BCCE-2271168A0C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8C3-E2BC-4FA0-9177-2337A781EFA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2E8-7AA3-45EB-A2A7-6856936800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EMPLOYMENT STATUS AT OLDER AGES IN ROMANIA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19720" y="43434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Asta Zvinie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Sr. Social Protection Speciali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May 9</a:t>
            </a:r>
            <a:r>
              <a:rPr b="1" lang="en-US" sz="2000" spc="-1" strike="noStrike" baseline="30000">
                <a:solidFill>
                  <a:srgbClr val="464653"/>
                </a:solidFill>
                <a:latin typeface="Century Schoolbook"/>
                <a:ea typeface="宋体"/>
              </a:rPr>
              <a:t>th</a:t>
            </a: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,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1333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ANK YOU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URBAN / RURAL DIVIDE IN EMPLOYMENT STATUS</a:t>
            </a:r>
            <a:br>
              <a:rPr sz="2700"/>
            </a:b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4" name="Content Placeholder 3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076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POTENTIAL OF VARIOUS GROUPS TO INCREASE EMPLOY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IMPACT OF EDUCATION ON EARLY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378000" y="1523880"/>
            <a:ext cx="8308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OSER LOOK AT OLDER POPULATION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LEADING CAUSES OF DISABILITY, 2013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845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OPINIONS: PEOPLE SHOULD BE ABLE TO CONTINUE WORKING AFTER PENSION ELIGIBILITY </a:t>
            </a: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OPINIONS: WOULD LIKE TO WORK LONGER, INTERESTED IN PARTIAL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6" name="Content Placeholder 10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3809880" cy="4870440"/>
          </a:xfrm>
          <a:prstGeom prst="rect">
            <a:avLst/>
          </a:prstGeom>
          <a:ln w="0">
            <a:noFill/>
          </a:ln>
        </p:spPr>
      </p:pic>
      <p:pic>
        <p:nvPicPr>
          <p:cNvPr id="367" name="Chart 11" descr=""/>
          <p:cNvPicPr/>
          <p:nvPr/>
        </p:nvPicPr>
        <p:blipFill>
          <a:blip r:embed="rId2"/>
          <a:stretch/>
        </p:blipFill>
        <p:spPr>
          <a:xfrm>
            <a:off x="4419720" y="1603440"/>
            <a:ext cx="3730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TO SUMMARIZE: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560" y="1143000"/>
            <a:ext cx="8381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st of informal economy is rural non-cash economy, very hard to formal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urban setting HALF of people without jobs are aged 55-6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rly retirement is more prevalent among less educated, HALF of which happens through disability pr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oportion of population without a job or pension DECREASES with age, so pension eligibility criteria could be tighten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proval of work at older ages is at 30%-40% and can reach 70% among older more educated people, especially wo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mand for partial retirement is especially strong among older women, but the number of partial contracts is low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easiest way to achieve tangible results is by finding ways to postpone full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4:03:59Z</dcterms:created>
  <dc:creator>wb23018</dc:creator>
  <dc:description/>
  <dc:language>en-US</dc:language>
  <cp:lastModifiedBy>Asta Zviniene</cp:lastModifiedBy>
  <dcterms:modified xsi:type="dcterms:W3CDTF">2014-05-08T23:35:12Z</dcterms:modified>
  <cp:revision>327</cp:revision>
  <dc:subject/>
  <dc:title>Rethinking social insurance</dc:title>
</cp:coreProperties>
</file>