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6C7-9446-4770-B0C7-51B6E48C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10E-9CE4-446B-8DAD-FF8DA7F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2CE-ED00-422D-8DCB-AE4CBD73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668-B13B-4806-8B57-B7C56EAB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8E34-EC4D-415C-BAAE-77968E71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3AA-A7F1-4DCD-BF38-66B7083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A0B4-B552-4430-BC0B-6C6FE70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B5B-4845-4A56-8A1D-9D2E2B0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A1B8-DEE8-41D5-BB4D-306E904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B5D9-43A1-4BFA-B947-A596437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37A3-1812-4FA5-ABAB-CC0D1C6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49E-FAD7-4D05-ACF5-67E52925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F492-A1D4-4DDD-AB8C-0ADB4CD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A927-489A-40BC-A351-707EA4B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3EAD-7885-42FE-A6EF-C6E4C688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06B9-B728-4E9C-8224-545D4786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6E60-B0B7-4F7C-A97F-50EEECD5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31BA3-CCA0-474F-9D4E-AD6A0C1F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01B3E-4D41-4A17-BBEB-FDFD05EF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6CC6A-4D5D-4CCA-BDA3-F17DA915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152D3-FC2A-422E-A44C-2074400E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AB2F0-96DE-4615-8E3E-28ABAA0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C85-A3A1-47F3-89BA-F9A44AD3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BE9C9-0F2C-450E-8B11-B8AA25B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BC233-93B6-46C8-9C7D-2DF6803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039DC-13E6-4CB6-857F-87BE394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E57B2-5EB3-4299-8460-C619A85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FAB29-3BF8-4DB4-960D-4DFB0B2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10976-291A-4109-B878-3F4C6DA3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B51E8-C5EC-425B-89E3-D98C8381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CACA-CC20-4721-9EB4-9D8F31B9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3722-DB97-420D-9EC2-67C9FEE0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C082-35B6-4AFE-8FD8-2F2AF8FC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826-0AD6-48D8-99E6-42CD71B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7BB9-813F-4D3C-ADEE-995C19F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CED8-172B-4CCB-A5C2-4672242B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084D-8324-443C-B923-82065A0E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EB71-C122-44EE-9F3A-EFC5E3A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530C-6757-4E37-9FCE-5970FCF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D8AF-78DA-4131-A98B-8B9678A9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108A-6106-4842-AEEB-081A0FD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5F72-FE4E-4328-B892-C61DAA0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F529-C480-4FEC-BBA2-FD4C93FE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0E58F-F7FF-41B1-8E19-C64CFCD0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5DB-995B-4871-8CE6-349C336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31531-016E-4202-A3EC-FFACDAB1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E162E-B1E6-4031-BF37-A2B3BFA2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4D205-493C-42CD-A367-941079DA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7C5CF-0A70-4608-9ACF-867CD24B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F7A01-1D04-4D53-9E62-BD73ABD2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CFD31-9B94-41AF-A56B-222CBF47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095C2-A899-4E7C-999E-7EEDBC3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31DA2-6945-46EF-BD6E-EC469C1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061A8-A08C-450F-B560-322CE1A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410FB-0BE3-4108-A3C6-17917BCA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3B3-987E-4762-B627-03394012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86A4A-BC29-4163-93C4-02A2E417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8E7E2-040C-4E8D-8CB8-3F8AA4D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B035C-6456-44A0-8290-D068CA4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70598-8C4F-4296-8F7C-F17E6C9E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34027-7C02-4AA6-AF7C-A50F1CD9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3F9CA-4407-4B38-AB08-986B626A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F3CEF-1B05-4687-A26F-3F51576B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81B85-F0DC-4E98-973C-E8005CA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8481C-3689-4437-AAE2-75DD614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0E4EF-0192-4264-9056-781299A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AB9-B02A-4FA0-84DC-3CB150F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B64E2-2BF4-46A5-B287-9FA5F637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D35BE-ECCA-4DC0-B9C6-1623D26F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C9210-0561-46A0-85BE-783172DA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3E592-1E06-48D7-B051-6E9837D6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4F24C-5C7F-4346-BC61-47AAE663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E3418-4EB5-43A2-9FB8-6D56FB4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E81FF-24D5-42E8-BF33-D71A94C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B28DB-66BE-4C5B-AAB4-AA58C02B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E3B0E-C6AB-4258-9598-835E02F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0B316-0057-44EE-8ADF-640FB17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1C2-CE0F-4D48-B2A6-21E2D00D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3E786-99DF-4111-918A-1F3C94F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DDD57-799B-40DA-858C-12CE4A7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DEAE9-1A28-4181-8D28-34FE29CB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15E88-6CC1-4CA2-B851-C6B5B58C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DB4A4-2C3E-42EC-B189-E538374E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56F-6AAB-4075-A15C-19CAC02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676-746B-4840-87DD-49262F2B5D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76A-14B0-4C38-9509-8B75603581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3BB-72F5-4547-B29E-9476C389DD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de9e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e9ec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446-1361-4F9A-A67A-B53D023ECEB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BA60-1FE5-4093-99ED-FF00D54673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CE2F-0A5A-455D-8780-1DD01D4755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C8B-2FEF-4F69-B78C-0646183E7B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EMPLOYMENT STATUS AT OLDER AGES IN ROMANIA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419720" y="434340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Asta Zvinie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Sr. Social Protection Speciali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e World Ban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May 9</a:t>
            </a:r>
            <a:r>
              <a:rPr b="1" lang="en-US" sz="2000" spc="-1" strike="noStrike" baseline="30000">
                <a:solidFill>
                  <a:srgbClr val="464653"/>
                </a:solidFill>
                <a:latin typeface="Century Schoolbook"/>
                <a:ea typeface="宋体"/>
              </a:rPr>
              <a:t>th</a:t>
            </a: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,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133360"/>
            <a:ext cx="73911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ANK YOU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URBAN / RURAL DIVIDE IN EMPLOYMENT STATUS</a:t>
            </a:r>
            <a:br>
              <a:rPr sz="2700"/>
            </a:b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4" name="Content Placeholder 3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076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POTENTIAL OF VARIOUS GROUPS TO INCREASE EMPLOY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IMPACT OF EDUCATION ON EARLY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378000" y="1523880"/>
            <a:ext cx="8308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OSER LOOK AT OLDER POPULATION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LEADING CAUSES OF DISABILITY, 2013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845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OPINIONS: PEOPLE SHOULD BE ABLE TO CONTINUE WORKING AFTER PENSION ELIGIBILITY </a:t>
            </a: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OPINIONS: WOULD LIKE TO WORK LONGER, INTERESTED IN PARTIAL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6" name="Content Placeholder 10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3809880" cy="4870440"/>
          </a:xfrm>
          <a:prstGeom prst="rect">
            <a:avLst/>
          </a:prstGeom>
          <a:ln w="0">
            <a:noFill/>
          </a:ln>
        </p:spPr>
      </p:pic>
      <p:pic>
        <p:nvPicPr>
          <p:cNvPr id="367" name="Chart 11" descr=""/>
          <p:cNvPicPr/>
          <p:nvPr/>
        </p:nvPicPr>
        <p:blipFill>
          <a:blip r:embed="rId2"/>
          <a:stretch/>
        </p:blipFill>
        <p:spPr>
          <a:xfrm>
            <a:off x="4419720" y="1603440"/>
            <a:ext cx="3730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TO SUMMARIZE: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560" y="1143000"/>
            <a:ext cx="8381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st of informal economy is rural non-cash economy, very hard to formaliz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urban setting HALF of people without jobs are aged 55-6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arly retirement is more prevalent among less educated, HALF of which happens through disability pro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oportion of population without a job or pension DECREASES with age, so pension eligibility criteria could be tighten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pproval of work at older ages is at 30%-40% and can reach 70% among older more educated people, especially wo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mand for partial retirement is especially strong among older women, but the number of partial contracts is low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easiest way to achieve tangible results is by finding ways to postpone full retir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4:03:59Z</dcterms:created>
  <dc:creator>wb23018</dc:creator>
  <dc:description/>
  <dc:language>en-US</dc:language>
  <cp:lastModifiedBy>Asta Zviniene</cp:lastModifiedBy>
  <dcterms:modified xsi:type="dcterms:W3CDTF">2014-05-08T23:35:12Z</dcterms:modified>
  <cp:revision>327</cp:revision>
  <dc:subject/>
  <dc:title>Rethinking social insurance</dc:title>
</cp:coreProperties>
</file>