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03C-C6B9-4000-9ECE-8A68162E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0C1-9953-4B77-8074-F141848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D89-9E5B-4673-9061-9D88666F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3C2-1F97-4F25-AC30-ED65EBC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2680-0E01-4967-A903-28867627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198-1FBE-46B9-82E6-7E42943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3653-26A3-4388-B597-67A9485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E08-5EAB-46B8-ABCD-2C0EFBE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FE6-7592-4898-AC73-9341C53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19EB-50C8-41DE-B023-B11B95D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19E-BB84-4D82-B568-4368A4F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9BC-968E-432B-B2BC-3F92B49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EEA6-0D46-4F94-8A5D-D3FB7A5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ACF-1547-47F4-BD3E-25D5B7C4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438-4C95-4B6E-A68D-5ECADF58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E2D-BF6A-4D5A-99C3-82E20F2D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795B-72FF-4A9A-839F-8BC354D5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BDC-1D6B-4662-A273-3445766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B5E-1742-4BC9-B147-90D74A8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579-05F6-4304-978D-A48B44D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834-D165-40DA-BEBE-E21C9568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BF7-027E-4F2E-9276-6EA8014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019-6D97-423E-9576-4CDFD85E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9D9-1BB9-4CFA-9FC2-61D8FC2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DC4D-4D8A-4834-A1E1-403CDECBE2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536-3DC5-4C48-A3E0-1F7A89AF80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</a:rPr>
              <a:t>Polish Pension Syst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Main features after recent reform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iga, 18 Dec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 – pension amou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calculated in the old-scheme amount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. 24% of the base amount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. 1.3% of the assessment basis for each contributory year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. 0.7% of the assessment basis for each non-contributory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 amount equals 100% of average wage from the preceding year, fixed annually 1 M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Common pension system in Poland – new sche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irst pillar – Z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a public body –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compuls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current contrib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95760" y="2124000"/>
            <a:ext cx="409104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Second pillar – OF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 of Open Pension Funds – OF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– General Pension Societies (PT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62600" y="1413000"/>
            <a:ext cx="370368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Third Pillar – private initiati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Occupational Pension Programmes (PPE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Retirement Accounts (IK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Pension Security Accounts (IKZ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(usually insurance compan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New scheme - choice of ins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between 1949 and 1969 could choose whether they wanted to join II pillar or n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after 1969 had an obligation to transfer part of their contribution to II pill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rom 2014 all members of OFEs have choice whether they want to continue saving in I and II pillar or just in the I pi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New scheme – entitlement and amou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Entitlement is acquired after reaching the statutory retirement age (from the 2013 reform – up to 67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proper contributory and non-contributory period is required only in the case of increasing the pension up to the level of the guaranteed minimum pen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amount of the old-age pension received from the new scheme is the sum of collected and indexed contributions and the indexed initial capital divided by the average life expectancy expressed in mo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insurance contribution equalls 19,52% of basic sal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old scheme contribution is transferred directly to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new scheme contribution is divided and transfer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mpletely to ZU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ally to ZUS and O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only in Z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1640" y="2492280"/>
            <a:ext cx="8208000" cy="3556080"/>
            <a:chOff x="431640" y="2492280"/>
            <a:chExt cx="8208000" cy="3556080"/>
          </a:xfrm>
        </p:grpSpPr>
        <p:cxnSp>
          <p:nvCxnSpPr>
            <p:cNvPr id="137" name="_s59405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284800" y="3164760"/>
              <a:ext cx="711720" cy="221004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75120" y="3164400"/>
              <a:ext cx="711720" cy="221076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9400"/>
            <p:cNvSpPr/>
            <p:nvPr/>
          </p:nvSpPr>
          <p:spPr>
            <a:xfrm>
              <a:off x="2642040" y="249228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43164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59402"/>
            <p:cNvSpPr/>
            <p:nvPr/>
          </p:nvSpPr>
          <p:spPr>
            <a:xfrm>
              <a:off x="485136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ZUS sub-account:7,3%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in ZUS and O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22320" y="2206800"/>
            <a:ext cx="7755840" cy="3778560"/>
            <a:chOff x="922320" y="2206800"/>
            <a:chExt cx="7755840" cy="3778560"/>
          </a:xfrm>
        </p:grpSpPr>
        <p:cxnSp>
          <p:nvCxnSpPr>
            <p:cNvPr id="145" name="_s63501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779080" y="273780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63500"/>
            <p:cNvCxnSpPr>
              <a:stCxn id="149" idx="0"/>
              <a:endCxn id="147" idx="2"/>
            </p:cNvCxnSpPr>
            <p:nvPr/>
          </p:nvCxnSpPr>
          <p:spPr>
            <a:xfrm flipV="1">
              <a:off x="4800240" y="3717360"/>
              <a:ext cx="360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63499"/>
            <p:cNvCxnSpPr>
              <a:stCxn id="151" idx="0"/>
              <a:endCxn id="147" idx="2"/>
            </p:cNvCxnSpPr>
            <p:nvPr/>
          </p:nvCxnSpPr>
          <p:spPr>
            <a:xfrm flipH="1" flipV="1" rot="5400000">
              <a:off x="3064680" y="273816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63495"/>
            <p:cNvSpPr/>
            <p:nvPr/>
          </p:nvSpPr>
          <p:spPr>
            <a:xfrm>
              <a:off x="3636720" y="220680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63496"/>
            <p:cNvSpPr/>
            <p:nvPr/>
          </p:nvSpPr>
          <p:spPr>
            <a:xfrm>
              <a:off x="9223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63497"/>
            <p:cNvSpPr/>
            <p:nvPr/>
          </p:nvSpPr>
          <p:spPr>
            <a:xfrm>
              <a:off x="36367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sub-account: 4,38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8"/>
            <p:cNvSpPr/>
            <p:nvPr/>
          </p:nvSpPr>
          <p:spPr>
            <a:xfrm>
              <a:off x="635148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OFE account: 2,9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ension Systems in Pola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highest number of insured in Poland is in the Universal Pension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eptions for some professional groups included in the Universal Pension System, e.g. miners, teachers, railways employee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lusions from the Universal Pension System, e.g.: uniformed services, farmer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Bridging old-age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instrument of tackling the unemploy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result of the withdrawal of the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cquired by only limited group of employees who performed work in special conditions or special character (e.g. miners, steel mills workers, divers, fisherme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Uniformed Servic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Police, Armed Forces, State Fire Service, etc.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servic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Maintained by special institutions, e.g. Ministry of Internal Affairs Pensions Institution (ZER MSW) or Military Pensions Bureaus (WB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1880" y="2516040"/>
            <a:ext cx="3814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armer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gally based in the Act of 20 December 1990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on social insurance of farmer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tained by the special institution – Agricultural Social Insurance Fund (K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27840" y="4154400"/>
            <a:ext cx="1793880" cy="1903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4960" y="1628640"/>
            <a:ext cx="29826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secutors and judg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common courts, The Supreme Court and the prosecu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intained by the Ministry’s of Justice Department of Human Resources (Retired Judges and Prosecutors Divi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60920" y="2206800"/>
            <a:ext cx="40258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rect construction of the pension schemes: the longer you work – the more you will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ssibility of receiving pension and performing 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ather low amount of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ithdrawal of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mitation of the access to the bridging p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Dis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longation of the retirement ag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ow salaries in the national econom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fficulties on the labour mark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ack of confidence to state instit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iredness of lif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3 Octo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the social insurance system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2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7 Decem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pensions from the Social Insurance Fund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0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1 Nov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funded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4, text 1097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8 August 1997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organisation and operation of old-age pension fund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989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9 Dec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bridging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08 No. 237, text 1656, as amende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statistic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ocial Insurance Institution pays benefits to       4.5 million of pensioners in Poland, but the number is decl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mount of pensions paid from the Social Insurance Fund (FUS) equalled approx.            10.2 billion of PLN (approx. 2.43 billion EU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verage monthly pension delivered equalled 2050 PLN (approx. 485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index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nual indexation carried out from 1 Mar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fixed indexation rate (in 2014 – 101,6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dexation rate is established annually by the Tripartite Commission for Socio-Economic Issues or, if not agreed by the members of the Commission - by the regulation of the Council of Min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dex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 factor of the indexation rate – infaltion r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igher infation – higher index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ue to the low inflation rate in Poland, from 2015 there will be percentage indexation with guaranteed minimum increase of 36 PLN (approx. 8 EUR) for all benefits lower than 3333,33 PLN (approx. 788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– general inform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-age pension scheme was reformed in 19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ld-age pension schemes operating parale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 scheme - for persons born before                1 January 194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ew scheme - for persons born after               31 December 19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Pay-as-you-g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Vulnerable to demographic thr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1880" y="2540160"/>
            <a:ext cx="38149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itlement to pension is acquired af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) reaching the statutory retirement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5 years for 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) completing contributory and non-contributory peri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5 years for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09:55:30Z</dcterms:created>
  <dc:creator>Dominik Komorek</dc:creator>
  <dc:description/>
  <dc:language>en-US</dc:language>
  <cp:lastModifiedBy>Dominik Komorek</cp:lastModifiedBy>
  <dcterms:modified xsi:type="dcterms:W3CDTF">2014-12-12T07:26:48Z</dcterms:modified>
  <cp:revision>40</cp:revision>
  <dc:subject/>
  <dc:title>Polish Pension System</dc:title>
</cp:coreProperties>
</file>