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1D3E-0B75-4832-989E-D18813B4D04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30B8-D357-4622-A918-725B646E06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8DD-8E63-476F-AEE3-BB49E9A0E9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452-1464-4CBF-8CC4-38A90DAE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675-D77D-4798-B9BD-62786BF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3C1-0E29-412E-A5D7-0FA9C21C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C61-D7F4-4B19-A277-ED9360CC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9FF-160B-4AC1-B993-FF7A9804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3DD-27B4-407E-AB86-D9995298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715-37DC-4838-8A25-BAB20F4E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F6B-A812-403B-983E-BE22E7E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7252-795B-46AC-A9B6-CF80745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1C2-8907-4A5B-975A-99B0533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32DD-9154-46D5-9046-D6D80CE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DC8-BB57-4B48-8084-2DB8C05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0C8-758D-4202-B24D-6C5D244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EBD-D091-45A7-8C92-606EA9A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3DE-9568-46C7-8310-612029E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B5CE-EAEE-423C-AC76-8C7E5938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F72E-3D4B-40B3-8C6D-7131072C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6D2-6E49-4171-91F6-EA5BE10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B11-A683-4C60-96CA-94EB889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CD0-DADB-4EC3-A489-EFB2AE3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C4C-B71D-4E5D-B6CB-CFCF7A8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A55-2C9E-47FC-8A60-F25A28F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014-C7B1-4698-903E-B5CE204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4A2-33A5-4B60-B762-0F9B1939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9801-CB6E-4824-AD9A-B5BD118DA264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815-E1D3-4988-BF72-7B282D663366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CF5F-8DB5-47A6-9B7A-6E7029EBCC5B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ADB-B95C-43EE-9938-9201D47B7749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2f5897"/>
                </a:solidFill>
                <a:latin typeface="Palatino Linotype"/>
              </a:rPr>
              <a:t>Pension system in Latvia 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Jana Muizniec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Ministry of Welfare of Latvia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Riga, 18</a:t>
            </a:r>
            <a:r>
              <a:rPr b="0" i="1" lang="en-US" sz="2200" spc="-1" strike="noStrike" baseline="30000">
                <a:solidFill>
                  <a:srgbClr val="898989"/>
                </a:solidFill>
                <a:latin typeface="Century Gothic"/>
              </a:rPr>
              <a:t>th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December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, 201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D91-A723-4F5F-BC60-C3BA063FA7D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8E2-9DF3-4BA3-879A-F2B2343F0DE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8" name="Content Placeholder 6" descr=""/>
          <p:cNvPicPr/>
          <p:nvPr/>
        </p:nvPicPr>
        <p:blipFill>
          <a:blip r:embed="rId2"/>
          <a:stretch/>
        </p:blipFill>
        <p:spPr>
          <a:xfrm>
            <a:off x="262080" y="1573200"/>
            <a:ext cx="5803920" cy="461952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5" descr=""/>
          <p:cNvPicPr/>
          <p:nvPr/>
        </p:nvPicPr>
        <p:blipFill>
          <a:blip r:embed="rId3"/>
          <a:stretch/>
        </p:blipFill>
        <p:spPr>
          <a:xfrm>
            <a:off x="5894280" y="1627200"/>
            <a:ext cx="3305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57200" y="1052640"/>
          <a:ext cx="8229600" cy="593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33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148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17,5 thousand active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ntribution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in 201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 (5% in 2015, 6% from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9 billions euro (7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GDP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50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04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967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  <p:sp>
        <p:nvSpPr>
          <p:cNvPr id="13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912-9206-4732-8CE3-C2A5D7D073BA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509256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5136-BB3E-4D93-A3E5-5B96CBD85DC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7160"/>
          </a:xfrm>
          <a:prstGeom prst="rect">
            <a:avLst/>
          </a:prstGeom>
          <a:ln w="0">
            <a:noFill/>
          </a:ln>
        </p:spPr>
      </p:pic>
      <p:pic>
        <p:nvPicPr>
          <p:cNvPr id="137" name="Content Placeholder 3" descr=""/>
          <p:cNvPicPr/>
          <p:nvPr/>
        </p:nvPicPr>
        <p:blipFill>
          <a:blip r:embed="rId2"/>
          <a:stretch/>
        </p:blipFill>
        <p:spPr>
          <a:xfrm>
            <a:off x="347760" y="1579680"/>
            <a:ext cx="8394480" cy="466884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AE4-7F45-432D-B9F0-0DADD785667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57200" y="1052640"/>
          <a:ext cx="8229600" cy="4927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36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7 thousand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.8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1 million euro (1% of GDP 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11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1008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37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988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4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E28-7C84-4A07-BEC4-784E0ECA95C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2" descr=""/>
          <p:cNvPicPr/>
          <p:nvPr/>
        </p:nvPicPr>
        <p:blipFill>
          <a:blip r:embed="rId2"/>
          <a:stretch/>
        </p:blipFill>
        <p:spPr>
          <a:xfrm>
            <a:off x="384120" y="974880"/>
            <a:ext cx="8107560" cy="51638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04B4-4041-46D2-80D0-0AAB21753E48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1620720" y="19080"/>
            <a:ext cx="6201000" cy="14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224000" y="981000"/>
            <a:ext cx="6588000" cy="5877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46C4-A1B1-4624-8E7F-5F49335CAF4D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1817640" y="2349360"/>
            <a:ext cx="593640" cy="287640"/>
          </a:xfrm>
          <a:custGeom>
            <a:avLst/>
            <a:gdLst>
              <a:gd name="textAreaLeft" fmla="*/ 86760 w 593640"/>
              <a:gd name="textAreaRight" fmla="*/ 506880 w 5936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594067" h="288036">
                <a:moveTo>
                  <a:pt x="0" y="144018"/>
                </a:moveTo>
                <a:lnTo>
                  <a:pt x="0" y="144018"/>
                </a:lnTo>
                <a:cubicBezTo>
                  <a:pt x="0" y="223556"/>
                  <a:pt x="132986" y="288036"/>
                  <a:pt x="297034" y="288036"/>
                </a:cubicBezTo>
                <a:cubicBezTo>
                  <a:pt x="461081" y="288036"/>
                  <a:pt x="594068" y="223556"/>
                  <a:pt x="594068" y="144018"/>
                </a:cubicBezTo>
                <a:cubicBezTo>
                  <a:pt x="594068" y="64479"/>
                  <a:pt x="461081" y="0"/>
                  <a:pt x="297034" y="0"/>
                </a:cubicBezTo>
                <a:cubicBezTo>
                  <a:pt x="132986" y="0"/>
                  <a:pt x="0" y="64479"/>
                  <a:pt x="0" y="144017"/>
                </a:cubicBezTo>
                <a:lnTo>
                  <a:pt x="0" y="144018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901800" y="291960"/>
            <a:ext cx="7613640" cy="131148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16AA-1D28-4517-965D-27C25235459F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2" name="Content Placeholder 4"/>
          <p:cNvGrpSpPr/>
          <p:nvPr/>
        </p:nvGrpSpPr>
        <p:grpSpPr>
          <a:xfrm>
            <a:off x="1187280" y="1628640"/>
            <a:ext cx="7291440" cy="4525920"/>
            <a:chOff x="1187280" y="1628640"/>
            <a:chExt cx="7291440" cy="4525920"/>
          </a:xfrm>
        </p:grpSpPr>
        <p:pic>
          <p:nvPicPr>
            <p:cNvPr id="153" name="Chart 3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72914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3"/>
            <p:cNvSpPr/>
            <p:nvPr/>
          </p:nvSpPr>
          <p:spPr>
            <a:xfrm>
              <a:off x="4839120" y="3923640"/>
              <a:ext cx="190080" cy="1870200"/>
            </a:xfrm>
            <a:custGeom>
              <a:avLst/>
              <a:gdLst>
                <a:gd name="textAreaLeft" fmla="*/ 27720 w 190080"/>
                <a:gd name="textAreaRight" fmla="*/ 162360 w 190080"/>
                <a:gd name="textAreaTop" fmla="*/ 273600 h 1870200"/>
                <a:gd name="textAreaBottom" fmla="*/ 1596600 h 1870200"/>
              </a:gdLst>
              <a:ahLst/>
              <a:rect l="textAreaLeft" t="textAreaTop" r="textAreaRight" b="textAreaBottom"/>
              <a:pathLst>
                <a:path w="215012" h="1871661">
                  <a:moveTo>
                    <a:pt x="0" y="935830"/>
                  </a:moveTo>
                  <a:lnTo>
                    <a:pt x="0" y="935830"/>
                  </a:lnTo>
                  <a:arcTo wR="107506" hR="935830" stAng="10800000" swAng="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155" name="TextBox 5"/>
          <p:cNvSpPr/>
          <p:nvPr/>
        </p:nvSpPr>
        <p:spPr>
          <a:xfrm>
            <a:off x="1008000" y="6308640"/>
            <a:ext cx="43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Source: the European Commission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10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0404-FA5E-49DD-8E54-D700A2F026E1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8" name="Diagram 4"/>
          <p:cNvGrpSpPr/>
          <p:nvPr/>
        </p:nvGrpSpPr>
        <p:grpSpPr>
          <a:xfrm>
            <a:off x="539640" y="1785960"/>
            <a:ext cx="8209080" cy="4510080"/>
            <a:chOff x="539640" y="1785960"/>
            <a:chExt cx="8209080" cy="4510080"/>
          </a:xfrm>
        </p:grpSpPr>
        <p:sp>
          <p:nvSpPr>
            <p:cNvPr id="159" name="Freeform 4"/>
            <p:cNvSpPr/>
            <p:nvPr/>
          </p:nvSpPr>
          <p:spPr>
            <a:xfrm>
              <a:off x="539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99080" tIns="113760" bIns="1137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latv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0" name="Freeform 5"/>
            <p:cNvSpPr/>
            <p:nvPr/>
          </p:nvSpPr>
          <p:spPr>
            <a:xfrm>
              <a:off x="539640" y="2476440"/>
              <a:ext cx="2503440" cy="381960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eb site for state service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thorization </a:t>
              </a: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a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 bank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ess on individual accounts of NDC &amp; FDC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 (only NDC)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3392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81360" bIns="813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manapens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2" name="Freeform 7"/>
            <p:cNvSpPr/>
            <p:nvPr/>
          </p:nvSpPr>
          <p:spPr>
            <a:xfrm>
              <a:off x="339264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system description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investment results on daily and monthly basis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624600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bankasoc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624600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quarterly pension data and investment result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1494000" y="268200"/>
            <a:ext cx="6175080" cy="20782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EC16-3EA8-4D78-9A81-6B7CB1FB8D21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143000" y="1989000"/>
            <a:ext cx="6858000" cy="44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3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85400" cy="462132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7B2-F903-4DEB-9B36-424AA3D6E14F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3" descr=""/>
          <p:cNvPicPr/>
          <p:nvPr/>
        </p:nvPicPr>
        <p:blipFill>
          <a:blip r:embed="rId2"/>
          <a:stretch/>
        </p:blipFill>
        <p:spPr>
          <a:xfrm>
            <a:off x="954000" y="1700280"/>
            <a:ext cx="6878880" cy="458784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889-17E1-4B4B-9480-A5E7F1B2DFEC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14360" y="1847880"/>
            <a:ext cx="8229600" cy="15969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490-1900-4D93-9EF5-979A434255D8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"/>
          <p:cNvPicPr/>
          <p:nvPr/>
        </p:nvPicPr>
        <p:blipFill>
          <a:blip r:embed="rId2"/>
          <a:stretch/>
        </p:blipFill>
        <p:spPr>
          <a:xfrm>
            <a:off x="450720" y="1420920"/>
            <a:ext cx="8291520" cy="471168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49ED-A1D8-461F-82FA-C5884C1F94D4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643280" y="4797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earmarked for the public old-age pensions:</a:t>
            </a:r>
            <a:r>
              <a:rPr b="1" lang="lv-LV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20% of wag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211640" y="4653000"/>
            <a:ext cx="4537080" cy="1152360"/>
          </a:xfrm>
          <a:prstGeom prst="ellipse">
            <a:avLst/>
          </a:prstGeom>
          <a:noFill/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020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"/>
          <p:cNvPicPr/>
          <p:nvPr/>
        </p:nvPicPr>
        <p:blipFill>
          <a:blip r:embed="rId2"/>
          <a:stretch/>
        </p:blipFill>
        <p:spPr>
          <a:xfrm>
            <a:off x="450720" y="1566720"/>
            <a:ext cx="8291520" cy="456588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F9A-9461-4136-8185-84649B83179C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4" descr=""/>
          <p:cNvPicPr/>
          <p:nvPr/>
        </p:nvPicPr>
        <p:blipFill>
          <a:blip r:embed="rId2"/>
          <a:stretch/>
        </p:blipFill>
        <p:spPr>
          <a:xfrm>
            <a:off x="884160" y="1609560"/>
            <a:ext cx="7418520" cy="37911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B9B-223E-4CCA-877A-B72D22702CC5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396720" y="-1713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A352-90B7-46E9-80A6-91747172202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68280" y="1413000"/>
            <a:ext cx="83534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4" descr=""/>
          <p:cNvPicPr/>
          <p:nvPr/>
        </p:nvPicPr>
        <p:blipFill>
          <a:blip r:embed="rId2"/>
          <a:stretch/>
        </p:blipFill>
        <p:spPr>
          <a:xfrm>
            <a:off x="841320" y="1238400"/>
            <a:ext cx="8326440" cy="54435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A0DA-D2C1-413F-8855-D33FE5FFE7F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21" name="Content Placeholder 4" descr=""/>
          <p:cNvPicPr/>
          <p:nvPr/>
        </p:nvPicPr>
        <p:blipFill>
          <a:blip r:embed="rId2"/>
          <a:stretch/>
        </p:blipFill>
        <p:spPr>
          <a:xfrm>
            <a:off x="554040" y="1365120"/>
            <a:ext cx="8437680" cy="54928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67A-ECAA-4481-9CEB-7E0FB244E16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8E62-5BCC-459D-8BB0-87681959828B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624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6:24:34Z</dcterms:created>
  <dc:creator>Jana Muizniece</dc:creator>
  <dc:description/>
  <dc:language>en-US</dc:language>
  <cp:lastModifiedBy>Krista Brantevica</cp:lastModifiedBy>
  <dcterms:modified xsi:type="dcterms:W3CDTF">2014-12-18T05:34:47Z</dcterms:modified>
  <cp:revision>14</cp:revision>
  <dc:subject/>
  <dc:title>Pension system under demographic and macroeconomic changes in Latvia</dc:title>
</cp:coreProperties>
</file>