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099EC-FCDD-4DF9-A275-7645B11EB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1F40A-9273-49A1-A07C-934B059B50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aida numura vietturis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8A697-7D30-4979-93AA-D289B7E6D7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E6011-01EE-4713-8EBE-4AA1388BC7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05F2-5BAF-4163-9B7A-6AC446CA1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1CBB-265E-4D04-969D-47A9663DA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0A20-7073-41C1-A533-8B3E104AC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3A06-56D6-45FE-8C1F-937242029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1721-215F-4C8A-B7F7-BAF40B904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5F11-EF29-4F28-8E95-A68C4C666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32D8-8711-4B43-A92E-A05C8EC72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1A98-AE61-46FB-B8D6-157EC73CE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A583-3FB0-4731-964E-1006BA068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A36C-4569-4124-9B08-C5DC1354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8B5A-5531-4E31-8AD0-DE216C30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855D-496D-457B-A381-8952A2FD7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74B67-E13F-4DC7-9430-963017C2F8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m.likumi.lv/doc.php?id=174327#piel4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18920" y="1941120"/>
            <a:ext cx="7218360" cy="213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entury Schoolbook"/>
              </a:rPr>
              <a:t>Par Ministru kabineta  21.04.2008. noteikumos Nr. 288 “Sociālo pakalpojumu un sociālās palīdzības saņemšanas kārtība” noteikto aprūpes līmeņu noteikša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LPGO Stripa bez rekvizitiem"/>
          <p:cNvPicPr/>
          <p:nvPr/>
        </p:nvPicPr>
        <p:blipFill>
          <a:blip r:embed="rId1"/>
          <a:stretch/>
        </p:blipFill>
        <p:spPr>
          <a:xfrm>
            <a:off x="0" y="4508640"/>
            <a:ext cx="9144000" cy="156816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Attēls 5" descr=""/>
          <p:cNvPicPr/>
          <p:nvPr/>
        </p:nvPicPr>
        <p:blipFill>
          <a:blip r:embed="rId2"/>
          <a:stretch/>
        </p:blipFill>
        <p:spPr>
          <a:xfrm>
            <a:off x="135000" y="125280"/>
            <a:ext cx="3284640" cy="15462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6" descr="LPGO Stripa bez rekvizitiem"/>
          <p:cNvPicPr/>
          <p:nvPr/>
        </p:nvPicPr>
        <p:blipFill>
          <a:blip r:embed="rId1"/>
          <a:stretch/>
        </p:blipFill>
        <p:spPr>
          <a:xfrm>
            <a:off x="-3240" y="208080"/>
            <a:ext cx="9144000" cy="1568160"/>
          </a:xfrm>
          <a:prstGeom prst="rect">
            <a:avLst/>
          </a:prstGeom>
          <a:ln w="0">
            <a:noFill/>
          </a:ln>
        </p:spPr>
      </p:pic>
      <p:pic>
        <p:nvPicPr>
          <p:cNvPr id="91" name="Attēls 1" descr=""/>
          <p:cNvPicPr/>
          <p:nvPr/>
        </p:nvPicPr>
        <p:blipFill>
          <a:blip r:embed="rId2"/>
          <a:stretch/>
        </p:blipFill>
        <p:spPr>
          <a:xfrm>
            <a:off x="4687920" y="1525680"/>
            <a:ext cx="4648320" cy="32860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8"/>
          <p:cNvSpPr/>
          <p:nvPr/>
        </p:nvSpPr>
        <p:spPr>
          <a:xfrm>
            <a:off x="2124000" y="689040"/>
            <a:ext cx="6264360" cy="21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Century Schoolbook"/>
              </a:rPr>
              <a:t> “</a:t>
            </a:r>
            <a:r>
              <a:rPr b="1" lang="lv-LV" sz="3200" spc="-1" strike="noStrike">
                <a:solidFill>
                  <a:srgbClr val="000000"/>
                </a:solidFill>
                <a:latin typeface="Century Schoolbook"/>
              </a:rPr>
              <a:t>Latvijas Samariešu apvienīb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Century Schoolbook"/>
              </a:rPr>
              <a:t>        </a:t>
            </a:r>
            <a:r>
              <a:rPr b="1" lang="lv-LV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lv-LV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lv-LV" sz="3200" spc="-1" strike="noStrike">
                <a:solidFill>
                  <a:srgbClr val="000000"/>
                </a:solidFill>
                <a:latin typeface="Century Schoolbook"/>
              </a:rPr>
              <a:t>un  </a:t>
            </a:r>
            <a:r>
              <a:rPr b="1" lang="lv-LV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lv-LV" sz="3200" spc="-1" strike="noStrike">
                <a:solidFill>
                  <a:srgbClr val="000000"/>
                </a:solidFill>
                <a:latin typeface="Century Schoolbook"/>
              </a:rPr>
              <a:t>SIA «e-aprūpe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395280" y="2951280"/>
            <a:ext cx="453708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4000" spc="-1" strike="noStrike">
                <a:solidFill>
                  <a:srgbClr val="a20000"/>
                </a:solidFill>
                <a:latin typeface="Century Schoolbook"/>
              </a:rPr>
              <a:t>www.e-aprūpe.lv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800" spc="-1" strike="noStrike">
                <a:solidFill>
                  <a:srgbClr val="a20000"/>
                </a:solidFill>
                <a:latin typeface="Century Schoolbook"/>
              </a:rPr>
              <a:t>Elektroniskā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800" spc="-1" strike="noStrike">
                <a:solidFill>
                  <a:srgbClr val="a20000"/>
                </a:solidFill>
                <a:latin typeface="Century Schoolbook"/>
              </a:rPr>
              <a:t>aprūpes plānošanas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800" spc="-1" strike="noStrike">
                <a:solidFill>
                  <a:srgbClr val="a20000"/>
                </a:solidFill>
                <a:latin typeface="Century Schoolbook"/>
              </a:rPr>
              <a:t>sistēma jeb «ApSis</a:t>
            </a:r>
            <a:r>
              <a:rPr b="1" i="1" lang="lv-LV" sz="4000" spc="-1" strike="noStrike">
                <a:solidFill>
                  <a:srgbClr val="a20000"/>
                </a:solidFill>
                <a:latin typeface="Century Schoolbook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4356000" y="6093000"/>
            <a:ext cx="46101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"/>
          <p:cNvSpPr/>
          <p:nvPr/>
        </p:nvSpPr>
        <p:spPr>
          <a:xfrm>
            <a:off x="4687920" y="5956200"/>
            <a:ext cx="4397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andris.berzins@samariesi.l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info@e-aprupe.lv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Metodikas pamat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16000" y="133488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Latvijas pašvaldību un pakalpojumu sniegšanas prakse un vajadzīb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Pasaules pieredze (pētījumi un atziņ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atura vietturis 2"/>
          <p:cNvSpPr/>
          <p:nvPr/>
        </p:nvSpPr>
        <p:spPr>
          <a:xfrm>
            <a:off x="250920" y="3357720"/>
            <a:ext cx="8229600" cy="33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Pašvaldību vajadzība </a:t>
            </a: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- universāls, moderns, ērti lietojams, viegli saprotams, precīzs, ātrs, savietojams vērtēšanas instruments, kas fiksē pašaprūpes deficītus un tūlītēji “iztulko” šos deficītus nepieciešamajās darbībās (pakalpojumos un aprūpes plānā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entury Schoolbook"/>
              </a:rPr>
              <a:t>MK 288 – 4.pielikums </a:t>
            </a:r>
            <a:r>
              <a:rPr b="1" lang="lv-LV" sz="2400" spc="-1" strike="noStrike">
                <a:solidFill>
                  <a:srgbClr val="000000"/>
                </a:solidFill>
                <a:latin typeface="Century Schoolbook"/>
              </a:rPr>
              <a:t>(specifik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24000" y="144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Iever līdzšinēji praksi un visu MK noteikumu 288 (līdz grozījumiem) satu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Akcents uz pašaprūpes spējā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Personas </a:t>
            </a:r>
            <a:r>
              <a:rPr b="1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pašaprūpes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, neatkarības un patstāvīgās dzīves </a:t>
            </a:r>
            <a:r>
              <a:rPr b="1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spēju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 novērtēšanas vispārējie kritēri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Pamatvajadzības; Mobilitāte un Personiskā higiēna veido 70% no vērtējuma vērtīb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Moduļu pieeja (6 moduļi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2 pakāpju vērtības noteikšana (Funkcionalitātes vērtība un moduļa vērtība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Var lietot gan papīrā, gan elektronisk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920" y="239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Funkcionalitātes vērtēša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50920" y="1382400"/>
            <a:ext cx="8880480" cy="53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FACE (Functional Assessment of Care Environments) 5 pakāju skal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Papīra versijā – universālas pazīmes e-versijā ar skaidrojošu raksturojumu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Neatkarīgs – 4 punkti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 – pilnībā veic patstāvīgi, spējas/funkcionalitāte nav traucē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.i. pilnībā var izdarīt pats un nekāda palīdzība nav nepiecieša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Gandrīz neatkarīgs – 3 punkti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 – mēģina un lielākoties spēj veikt patstāvīgi, spējas/funkcionalitāte ir traucēta atsevišķu darbību veikšanai</a:t>
            </a:r>
            <a:r>
              <a:rPr b="0" lang="lv-LV" sz="19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.i. kopumā tiek galā patstāvīgi, tomēr ir atsevišķas darbības, ko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omēr patstāvīgi vairs nevar vai, iespējams, nevar kādos atsevišķos 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brīžos (slimību saasinājum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250560" y="189000"/>
            <a:ext cx="856908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Daļēji atkarīgs – 2 punkti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 – nespēj veikt patstāvīgi, spējas/funkcionalitāte ir traucēta un bez palīdzības nespēj veikt saistītās darbīb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.i. Viens pats vairs galā netiek, tomēr spējas nav pilnībā zudušas 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un darbības, kas ir nepieciešamas, ir funkcionalitātei atbalstošas 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un uzturoš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Būtiski atkarīgs – 1 punkts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 – nespēj veikt patstāvīgi, spējas/funkcionalitāte ir traucēta, nepieciešami pakalpojumi funkcijas kompensēš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.i. Bez citas personas pats galā vairs netiek. Funkcionalitāte 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piemīt tikai atsevišķos elementos – un nepieciešamas darbības, 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kas kompensē konkrētās trūkstošās spēj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Atkarīgs – 0 punktu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 – nespēj veikt patstāvīgi, spējas/funkcionalitāte nepiemīt, pilnībā vai kādu reāli iespējamu apstākļu dēļ persona var nonākt situācijās, kad funkcionalitāte nav, un šī situācija var apdraudēt personas dzīvību (ir iespēja palikt bezpalīdzīgā stāvoklī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e-aprū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37600" y="1109160"/>
            <a:ext cx="858204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Unikāls Latvijā veidots e-risinājums, kas vienotā sistēmā uzturēs visu sociālo pakalpojumu sniegšanas kompleksu - </a:t>
            </a:r>
            <a:r>
              <a:rPr b="0" lang="lv-LV" sz="2200" spc="-1" strike="noStrike" u="sng">
                <a:solidFill>
                  <a:srgbClr val="c00000"/>
                </a:solidFill>
                <a:uFillTx/>
                <a:latin typeface="Century Schoolbook"/>
              </a:rPr>
              <a:t>vajadzību izvērtēšanu</a:t>
            </a: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; </a:t>
            </a:r>
            <a:r>
              <a:rPr b="0" lang="lv-LV" sz="2200" spc="-1" strike="noStrike" u="sng">
                <a:solidFill>
                  <a:srgbClr val="0070c0"/>
                </a:solidFill>
                <a:uFillTx/>
                <a:latin typeface="Century Schoolbook"/>
              </a:rPr>
              <a:t>pakalpojumu plānošanu</a:t>
            </a: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; </a:t>
            </a:r>
            <a:r>
              <a:rPr b="0" lang="lv-LV" sz="2200" spc="-1" strike="noStrike" u="sng">
                <a:solidFill>
                  <a:srgbClr val="00b050"/>
                </a:solidFill>
                <a:uFillTx/>
                <a:latin typeface="Century Schoolbook"/>
              </a:rPr>
              <a:t>pakalpojumu sniegšanu</a:t>
            </a:r>
            <a:r>
              <a:rPr b="0" lang="lv-LV" sz="2200" spc="-1" strike="noStrike" u="sng">
                <a:solidFill>
                  <a:srgbClr val="000000"/>
                </a:solidFill>
                <a:uFillTx/>
                <a:latin typeface="Century Schoolbook"/>
              </a:rPr>
              <a:t>;</a:t>
            </a:r>
            <a:r>
              <a:rPr b="0" lang="lv-LV" sz="2200" spc="-1" strike="noStrike" u="sng">
                <a:solidFill>
                  <a:srgbClr val="00b050"/>
                </a:solidFill>
                <a:uFillTx/>
                <a:latin typeface="Century Schoolbook"/>
              </a:rPr>
              <a:t> </a:t>
            </a:r>
            <a:r>
              <a:rPr b="0" lang="lv-LV" sz="2200" spc="-1" strike="noStrike" u="sng">
                <a:solidFill>
                  <a:srgbClr val="222268"/>
                </a:solidFill>
                <a:uFillTx/>
                <a:latin typeface="Century Schoolbook"/>
              </a:rPr>
              <a:t>kontroli</a:t>
            </a: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 . Tiek attīstīts un ieviests pakāpeniski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Vajadzību izvērtēšanas daļa :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45720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entury Schoolbook"/>
              </a:rPr>
              <a:t>Latvijā veidota metodika (izmantojot pasaules praksi), kuras viena (neliela) daļa – līmeņa noteikšanai ietverta MK 288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45720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entury Schoolbook"/>
              </a:rPr>
              <a:t>APSis uzdevums: </a:t>
            </a:r>
            <a:r>
              <a:rPr b="0" lang="lv-LV" sz="2000" spc="-1" strike="noStrike" u="sng">
                <a:solidFill>
                  <a:srgbClr val="a20000"/>
                </a:solidFill>
                <a:uFillTx/>
                <a:latin typeface="Century Schoolbook"/>
              </a:rPr>
              <a:t>viena vērtēšanas procesa rezultātā</a:t>
            </a:r>
            <a:r>
              <a:rPr b="0" lang="lv-LV" sz="2000" spc="-1" strike="noStrike">
                <a:solidFill>
                  <a:srgbClr val="a20000"/>
                </a:solidFill>
                <a:latin typeface="Century Schoolbook"/>
              </a:rPr>
              <a:t> </a:t>
            </a:r>
            <a:r>
              <a:rPr b="0" lang="lv-LV" sz="2000" spc="-1" strike="noStrike">
                <a:solidFill>
                  <a:srgbClr val="000000"/>
                </a:solidFill>
                <a:latin typeface="Century Schoolbook"/>
              </a:rPr>
              <a:t>nodrošināt</a:t>
            </a:r>
            <a:r>
              <a:rPr b="0" lang="lv-LV" sz="2000" spc="-1" strike="noStrike">
                <a:solidFill>
                  <a:srgbClr val="a20000"/>
                </a:solidFill>
                <a:latin typeface="Century School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45720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Century Schoolbook"/>
              </a:rPr>
              <a:t>1. </a:t>
            </a:r>
            <a:r>
              <a:rPr b="0" lang="lv-LV" sz="1800" spc="-1" strike="noStrike">
                <a:solidFill>
                  <a:srgbClr val="000000"/>
                </a:solidFill>
                <a:latin typeface="Century Schoolbook"/>
              </a:rPr>
              <a:t>Tūlītējus, objektīvus un precīzus vērtējuma rezultātus : </a:t>
            </a:r>
            <a:r>
              <a:rPr b="1" lang="lv-LV" sz="1800" spc="-1" strike="noStrike">
                <a:solidFill>
                  <a:srgbClr val="000000"/>
                </a:solidFill>
                <a:latin typeface="Century Schoolbook"/>
              </a:rPr>
              <a:t>atzinumu sagatavošanu par visiem iespējamajiem sociālajiem pakalpojumiem» </a:t>
            </a:r>
            <a:r>
              <a:rPr b="0" lang="lv-LV" sz="1800" spc="-1" strike="noStrike">
                <a:solidFill>
                  <a:srgbClr val="000000"/>
                </a:solidFill>
                <a:latin typeface="Century Schoolbook"/>
              </a:rPr>
              <a:t>/ šobrīd klasifikatorā 24 ieraksti / </a:t>
            </a:r>
            <a:r>
              <a:rPr b="1" lang="lv-LV" sz="1800" spc="-1" strike="noStrike">
                <a:solidFill>
                  <a:srgbClr val="000000"/>
                </a:solidFill>
                <a:latin typeface="Century Schoolbook"/>
              </a:rPr>
              <a:t>kā arī konkrētus rīcības uzdevums</a:t>
            </a:r>
            <a:r>
              <a:rPr b="0" lang="lv-LV" sz="1800" spc="-1" strike="noStrike">
                <a:solidFill>
                  <a:srgbClr val="000000"/>
                </a:solidFill>
                <a:latin typeface="Century Schoolbook"/>
              </a:rPr>
              <a:t> «rekomendējamās darbības» /šobrīd 20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45720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Century Schoolbook"/>
              </a:rPr>
              <a:t>2. izruku sagatavošanu atbilstoši visiem ārējiem normatīvajiem aktiem </a:t>
            </a:r>
            <a:r>
              <a:rPr b="0" lang="lv-LV" sz="1800" spc="-1" strike="noStrike">
                <a:solidFill>
                  <a:srgbClr val="000000"/>
                </a:solidFill>
                <a:latin typeface="Century Schoolbook"/>
              </a:rPr>
              <a:t>/ šobrīd MK 288 kopā ar pašvaldībās izmantojamo izvērtējuma anketu un Bartela skala/ drīzumā MK 80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45720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7928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6400" indent="-44640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 u="sng">
                <a:solidFill>
                  <a:srgbClr val="000000"/>
                </a:solidFill>
                <a:uFillTx/>
                <a:latin typeface="Century Schoolbook"/>
              </a:rPr>
              <a:t>Maksimāla ērtība lietošanā </a:t>
            </a: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visur izmatojams gan stacionārā datora gan ar mobilo versiju </a:t>
            </a:r>
            <a:r>
              <a:rPr b="0" i="1" lang="lv-LV" sz="2200" spc="-1" strike="noStrike">
                <a:solidFill>
                  <a:srgbClr val="000000"/>
                </a:solidFill>
                <a:latin typeface="Century Schoolbook"/>
              </a:rPr>
              <a:t>(darbībām dzīves vietā)</a:t>
            </a: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, ievades lauki vairumā ir definētas izvēlnes «minimāla nepieciešamība rakstīt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 u="sng">
                <a:solidFill>
                  <a:srgbClr val="000000"/>
                </a:solidFill>
                <a:uFillTx/>
                <a:latin typeface="Century Schoolbook"/>
              </a:rPr>
              <a:t>Sistēmiska uzbūve -</a:t>
            </a: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 algoritmiska (izslēdzoša, pastiprinoša, nosakoša) sasaiste starp visiem informācijas laukiem – «sistēma reaģē uz katru info un izslēdz liekas darbības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 u="sng">
                <a:solidFill>
                  <a:srgbClr val="000000"/>
                </a:solidFill>
                <a:uFillTx/>
                <a:latin typeface="Century Schoolbook"/>
              </a:rPr>
              <a:t>Savienojamība </a:t>
            </a: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ar esošām sistēmām </a:t>
            </a:r>
            <a:r>
              <a:rPr b="0" i="1" lang="lv-LV" sz="2200" spc="-1" strike="noStrike">
                <a:solidFill>
                  <a:srgbClr val="000000"/>
                </a:solidFill>
                <a:latin typeface="Century Schoolbook"/>
              </a:rPr>
              <a:t>(SOPA, Kavis...)  </a:t>
            </a: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tehniski iespēja tikt savietotam ar e-veselība, PID …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 u="sng">
                <a:solidFill>
                  <a:srgbClr val="000000"/>
                </a:solidFill>
                <a:uFillTx/>
                <a:latin typeface="Century Schoolbook"/>
              </a:rPr>
              <a:t>Individualizēta lietotājs </a:t>
            </a: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sistēma tiek konfigurēta individuāla lietotāja – pašvaldības, pakalpojumu sniedzēja, vajadzībām </a:t>
            </a:r>
            <a:r>
              <a:rPr b="0" i="1" lang="lv-LV" sz="2200" spc="-1" strike="noStrike">
                <a:solidFill>
                  <a:srgbClr val="000000"/>
                </a:solidFill>
                <a:latin typeface="Century Schoolbook"/>
              </a:rPr>
              <a:t>(pievienot iespējamos pakalpojumus, darbus, pakalpojumu sniedzējus, definējot specifiskus algoritmus vai principus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92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e-aprū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84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Aprūpes līmeņa noteikša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24000" y="1916280"/>
          <a:ext cx="8229600" cy="2865240"/>
        </p:xfrm>
        <a:graphic>
          <a:graphicData uri="http://schemas.openxmlformats.org/drawingml/2006/table">
            <a:tbl>
              <a:tblPr/>
              <a:tblGrid>
                <a:gridCol w="3682800"/>
                <a:gridCol w="1655640"/>
                <a:gridCol w="1368720"/>
                <a:gridCol w="152244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uli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ena punkta vērtīb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efici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punkta % vērtī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matvajadzīb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bilitā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vis apzināšanā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zvedī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iskā higiē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0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īdzība mājsaimniecīb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p:transition spd="med" advTm="700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Piemēram 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57200" y="1557360"/>
          <a:ext cx="8229600" cy="3235320"/>
        </p:xfrm>
        <a:graphic>
          <a:graphicData uri="http://schemas.openxmlformats.org/drawingml/2006/table">
            <a:tbl>
              <a:tblPr/>
              <a:tblGrid>
                <a:gridCol w="3683160"/>
                <a:gridCol w="1655640"/>
                <a:gridCol w="1368360"/>
                <a:gridCol w="152244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uli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enu skaits kopā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efici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vērtī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matvajadzīb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bilitā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vis apzināšanā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zvedī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iskā higiē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īdzība mājsaimniecīb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08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P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p:transition spd="med" advTm="700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920" y="1700280"/>
            <a:ext cx="8229600" cy="25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c00000"/>
                </a:solidFill>
                <a:latin typeface="Arial"/>
              </a:rPr>
              <a:t>Demonstrācija </a:t>
            </a:r>
            <a:br>
              <a:rPr sz="4400"/>
            </a:br>
            <a:r>
              <a:rPr b="1" lang="lv-LV" sz="4400" spc="-1" strike="noStrike">
                <a:solidFill>
                  <a:srgbClr val="c00000"/>
                </a:solidFill>
                <a:latin typeface="Arial"/>
              </a:rPr>
              <a:t>www.e-aprupe.lv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Semināra nori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entury Schoolbook"/>
              </a:rPr>
              <a:t>Vispārēja un kopējā informācija par vērtēšanu un līmeņu noteikšan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entury Schoolbook"/>
              </a:rPr>
              <a:t>Vērtēšanas rīku demonstrā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atbilstoši MK noteikumu Nr.288 4.pielikum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atbilstoši MK noteikumu Nr.288 5.pielikum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entury Schoolbook"/>
              </a:rPr>
              <a:t>Praktiskās nodarbības – 2 grupā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18920" y="1941120"/>
            <a:ext cx="7218360" cy="213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entury Schoolbook"/>
              </a:rPr>
              <a:t>Par Ministru kabineta  21.04.2008. noteikumos Nr. 288 “Sociālo pakalpojumu un sociālās palīdzības saņemšanas kārtība” noteikto aprūpes līmeņu noteikša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LPGO Stripa bez rekvizitiem"/>
          <p:cNvPicPr/>
          <p:nvPr/>
        </p:nvPicPr>
        <p:blipFill>
          <a:blip r:embed="rId1"/>
          <a:stretch/>
        </p:blipFill>
        <p:spPr>
          <a:xfrm>
            <a:off x="0" y="4508640"/>
            <a:ext cx="9144000" cy="156816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Attēls 5" descr=""/>
          <p:cNvPicPr/>
          <p:nvPr/>
        </p:nvPicPr>
        <p:blipFill>
          <a:blip r:embed="rId2"/>
          <a:stretch/>
        </p:blipFill>
        <p:spPr>
          <a:xfrm>
            <a:off x="135000" y="125280"/>
            <a:ext cx="3284640" cy="15462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5"/>
          <p:cNvSpPr/>
          <p:nvPr/>
        </p:nvSpPr>
        <p:spPr>
          <a:xfrm>
            <a:off x="2411280" y="981000"/>
            <a:ext cx="62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395280" y="728640"/>
            <a:ext cx="8496360" cy="55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entury Schoolbook"/>
              </a:rPr>
              <a:t>LSA direktors Andris Bērziņ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entury Schoolbook"/>
              </a:rPr>
              <a:t>andris.berzins@samariesi.lv 2924245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entury Schoolbook"/>
              </a:rPr>
              <a:t>SIA «e-aprūpe» projekta vadītājs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entury Schoolbook"/>
              </a:rPr>
              <a:t>Sistēmas administrators Rihards Bērziņ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entury Schoolbook"/>
              </a:rPr>
              <a:t>info@e-aprupe.lv 263610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entury Schoolbook"/>
              </a:rPr>
              <a:t>eaprupe@gmail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4211640" y="6021360"/>
            <a:ext cx="4753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Bija un ir jeb </a:t>
            </a:r>
            <a:br>
              <a:rPr sz="4000"/>
            </a:b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kopīgais un atšķirīgai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" y="1671480"/>
          <a:ext cx="8362800" cy="4297680"/>
        </p:xfrm>
        <a:graphic>
          <a:graphicData uri="http://schemas.openxmlformats.org/drawingml/2006/table">
            <a:tbl>
              <a:tblPr/>
              <a:tblGrid>
                <a:gridCol w="3178080"/>
                <a:gridCol w="518472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K 288 līdz grozījumi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K 288  - 28. novembra grozījumi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932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ērtē personas vajadzības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, 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ekļaujot personas vajadzību novērtēšanas kartē informāciju atbilstoši šo noteikumu 2.pielikumam, ja pilngadīga persona pieprasījusi kādu no šādiem sociālajiem pakalpojumiem .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.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zvērtē personas vajadzības </a:t>
                      </a:r>
                      <a:r>
                        <a:rPr b="1" lang="lv-LV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un nosaka aprūpes līmen</a:t>
                      </a: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ja persona ir pieprasījusi sociālās aprūpes pakalpojumu dzīvesvietā vai ilgstošas sociālās aprūpes un sociālās rehabilitācijas institūcijā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 Šo noteikumu </a:t>
                      </a:r>
                      <a:r>
                        <a:rPr b="0" lang="lv-LV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/>
                        </a:rPr>
                        <a:t>4. 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 6. pielikumā minēto novērtēšanas </a:t>
                      </a:r>
                      <a:r>
                        <a:rPr b="0" lang="lv-LV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karti ar izvērtēšanas rezultātiem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lv-LV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izmanto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klienta </a:t>
                      </a:r>
                      <a:r>
                        <a:rPr b="0" lang="lv-LV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prūpes organizēšanā 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 funkcionālo </a:t>
                      </a:r>
                      <a:r>
                        <a:rPr b="0" lang="lv-LV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pēju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zmaiņu </a:t>
                      </a:r>
                      <a:r>
                        <a:rPr b="0" lang="lv-LV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novērtēšanā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ja klients saņem sociālās aprūpes pakalpojum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Sociālās aprūpes pakalpojumu sniedzējs klienta aprūpes līmeni ņem vērā, sastādot klienta sociālās aprūpes vai sociālās rehabilitācijas plān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p:transition spd="med" advTm="7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3"/>
          <p:cNvSpPr/>
          <p:nvPr/>
        </p:nvSpPr>
        <p:spPr>
          <a:xfrm>
            <a:off x="900000" y="746280"/>
            <a:ext cx="352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Vajadzības 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Vajadzību kopu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339840" y="21477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Līme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1273320" y="2940120"/>
            <a:ext cx="236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Rekomendējamās darbības (pakalpojum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4888080" y="728640"/>
            <a:ext cx="38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Pašaprūpes spējas/prasmes (%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7032600" y="21477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Līme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8"/>
          <p:cNvSpPr/>
          <p:nvPr/>
        </p:nvSpPr>
        <p:spPr>
          <a:xfrm>
            <a:off x="4421160" y="2136600"/>
            <a:ext cx="216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Rekomendēja mās darbīb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(vajadzīb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0"/>
          <p:cNvSpPr/>
          <p:nvPr/>
        </p:nvSpPr>
        <p:spPr>
          <a:xfrm>
            <a:off x="1413000" y="4808520"/>
            <a:ext cx="272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Aprūpes/rehabili tācijas plā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1"/>
          <p:cNvSpPr/>
          <p:nvPr/>
        </p:nvSpPr>
        <p:spPr>
          <a:xfrm>
            <a:off x="6012000" y="4071960"/>
            <a:ext cx="275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Aprūpes/rehabili tācijas plā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2"/>
          <p:cNvSpPr/>
          <p:nvPr/>
        </p:nvSpPr>
        <p:spPr>
          <a:xfrm>
            <a:off x="4956120" y="5516640"/>
            <a:ext cx="382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Un tas viss dinamikā</a:t>
            </a: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Taisns bultveida savienotājs 14"/>
          <p:cNvCxnSpPr/>
          <p:nvPr/>
        </p:nvCxnSpPr>
        <p:spPr>
          <a:xfrm flipH="1">
            <a:off x="1369440" y="1589040"/>
            <a:ext cx="376920" cy="55908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66" name="Taisns bultveida savienotājs 15"/>
          <p:cNvCxnSpPr/>
          <p:nvPr/>
        </p:nvCxnSpPr>
        <p:spPr>
          <a:xfrm>
            <a:off x="2525760" y="1633320"/>
            <a:ext cx="7200" cy="116100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67" name="Taisns bultveida savienotājs 17"/>
          <p:cNvCxnSpPr/>
          <p:nvPr/>
        </p:nvCxnSpPr>
        <p:spPr>
          <a:xfrm flipH="1">
            <a:off x="2525040" y="4240080"/>
            <a:ext cx="1080" cy="57384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68" name="Taisns bultveida savienotājs 19"/>
          <p:cNvCxnSpPr/>
          <p:nvPr/>
        </p:nvCxnSpPr>
        <p:spPr>
          <a:xfrm flipH="1">
            <a:off x="5562000" y="1595520"/>
            <a:ext cx="376920" cy="55800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69" name="TextBox 20"/>
          <p:cNvSpPr/>
          <p:nvPr/>
        </p:nvSpPr>
        <p:spPr>
          <a:xfrm>
            <a:off x="92160" y="43704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Pabals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Taisns bultveida savienotājs 21"/>
          <p:cNvCxnSpPr/>
          <p:nvPr/>
        </p:nvCxnSpPr>
        <p:spPr>
          <a:xfrm>
            <a:off x="860040" y="2715840"/>
            <a:ext cx="1080" cy="164700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71" name="Taisns bultveida savienotājs 24"/>
          <p:cNvCxnSpPr/>
          <p:nvPr/>
        </p:nvCxnSpPr>
        <p:spPr>
          <a:xfrm>
            <a:off x="6933960" y="1568520"/>
            <a:ext cx="525960" cy="55908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72" name="Taisns bultveida savienotājs 27"/>
          <p:cNvCxnSpPr/>
          <p:nvPr/>
        </p:nvCxnSpPr>
        <p:spPr>
          <a:xfrm>
            <a:off x="7490880" y="2715840"/>
            <a:ext cx="1080" cy="118980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73" name="Taisns bultveida savienotājs 30"/>
          <p:cNvCxnSpPr/>
          <p:nvPr/>
        </p:nvCxnSpPr>
        <p:spPr>
          <a:xfrm flipH="1">
            <a:off x="6638040" y="2793960"/>
            <a:ext cx="513720" cy="72144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74" name="TextBox 35"/>
          <p:cNvSpPr/>
          <p:nvPr/>
        </p:nvSpPr>
        <p:spPr>
          <a:xfrm>
            <a:off x="7729560" y="319716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Pabals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36"/>
          <p:cNvSpPr/>
          <p:nvPr/>
        </p:nvSpPr>
        <p:spPr>
          <a:xfrm>
            <a:off x="4221000" y="3622680"/>
            <a:ext cx="20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Pakalpojumi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Taisns bultveida savienotājs 37"/>
          <p:cNvCxnSpPr/>
          <p:nvPr/>
        </p:nvCxnSpPr>
        <p:spPr>
          <a:xfrm>
            <a:off x="7897320" y="2755800"/>
            <a:ext cx="313560" cy="54864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77" name="Taisns bultveida savienotājs 42"/>
          <p:cNvCxnSpPr>
            <a:endCxn id="75" idx="0"/>
          </p:cNvCxnSpPr>
          <p:nvPr/>
        </p:nvCxnSpPr>
        <p:spPr>
          <a:xfrm>
            <a:off x="5180040" y="3400200"/>
            <a:ext cx="69120" cy="22284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78" name="Taisns bultveida savienotājs 45"/>
          <p:cNvCxnSpPr/>
          <p:nvPr/>
        </p:nvCxnSpPr>
        <p:spPr>
          <a:xfrm>
            <a:off x="6299280" y="3384360"/>
            <a:ext cx="348480" cy="70524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</p:spTree>
  </p:cSld>
  <p:transition spd="med" advTm="7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23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0000"/>
                </a:solidFill>
                <a:latin typeface="Century Schoolbook"/>
              </a:rPr>
              <a:t>Aprūpes līmenis ir </a:t>
            </a:r>
            <a:br>
              <a:rPr sz="3600"/>
            </a:br>
            <a:r>
              <a:rPr b="0" lang="lv-LV" sz="3600" spc="-1" strike="noStrike">
                <a:solidFill>
                  <a:srgbClr val="000000"/>
                </a:solidFill>
                <a:latin typeface="Century Schoolbook"/>
              </a:rPr>
              <a:t>- personas pašaprūpes spēju iztrūkuma pakāpi raksturojoša, </a:t>
            </a:r>
            <a:br>
              <a:rPr sz="3600"/>
            </a:br>
            <a:r>
              <a:rPr b="0" lang="lv-LV" sz="3600" spc="-1" strike="noStrike">
                <a:solidFill>
                  <a:srgbClr val="000000"/>
                </a:solidFill>
                <a:latin typeface="Century Schoolbook"/>
              </a:rPr>
              <a:t>- skaitliski izteikta vērtīb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24000" y="3284280"/>
            <a:ext cx="8424720" cy="20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Century Schoolbook"/>
              </a:rPr>
              <a:t>Ar MK noteikumu grozījumiem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noteikta valstī vienota un modernizēta pieeja aprūpes līmeņa noteikšan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noteikti ierobežojumi saņemt pakalpojumus institūcijā (tikai personas ar 3. un 4.līmeni), kam pakopojumus nevar nodrošināt dzīvesviet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Kas vērtē? </a:t>
            </a: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(33.punk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33280" y="1417680"/>
            <a:ext cx="8229600" cy="35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Klienta vajadzību izvērtēšanu un aprūpes līmeņa noteikšanu var veikt šādu institūciju </a:t>
            </a:r>
            <a:r>
              <a:rPr b="1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sociālie darbinieki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 vai </a:t>
            </a:r>
            <a:r>
              <a:rPr b="1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sociālie aprūpētāji 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(turpmāk – speciālist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tās </a:t>
            </a:r>
            <a:r>
              <a:rPr b="1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pašvaldības </a:t>
            </a:r>
            <a:r>
              <a:rPr b="0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sociālā dienesta vai tā deleģētas institūcijas speciālists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, kuras teritorijā deklarēta klienta dzīvesvi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ilgstošas sociālās aprūpes un sociālās rehabilitācijas institūcijas speciā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179280" y="5157720"/>
            <a:ext cx="8229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entury Schoolbook"/>
              </a:rPr>
              <a:t>Cita pakalpojuma sniedzējs (izņemt SAC) var vērtēt, ja šo uzdevumu tam līgumā, nolikumā ir deleģējis/uzdevis sociālais dienests. Atbildība paliek sociālajam dienesta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entury Schoolbook"/>
              </a:rPr>
              <a:t>Vērtēšanā var piedalīties citi specialisti – atbildīgais ir attiecīgi sociālaisi darbinieks vai sociālais aprūpētājs</a:t>
            </a: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Kad vērtē ? </a:t>
            </a: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(31.un 32.punkt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24000" y="1433520"/>
            <a:ext cx="822960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Kad klients (pārstāvis) pieprasa pakalpojumu dzīvesvietā vai SAC un aprūpes līmenis iepriekš nav bijis noteik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ja klients saņem pakalpojumu dzīvesvietā vai SAC un vismaz pēdējo triju mēnešu laikā konstatētas nepārejošas klienta funkcionālo spēju izmaiņ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izstrādājot un aktualizējot (minimāli - MK.338, bet drīkst biežāk) klienta individuālo sociālās rehabilitācijas vai sociālās aprūpes plānu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ja klients vai tā likumiskais pārstāvis pieprasa citam aprūpes līmenim atbilstošu sociālās aprūpes pakalpojumu.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Kuru vērtēšanas karti un kad ir jāizmanto 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95280" y="1773000"/>
            <a:ext cx="8569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Pašvaldība</a:t>
            </a: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lv-LV" sz="2400" spc="-1" strike="noStrike">
                <a:solidFill>
                  <a:srgbClr val="000000"/>
                </a:solidFill>
                <a:latin typeface="Century Schoolbook"/>
              </a:rPr>
              <a:t>(pilnīgi visiem pašvaldības finansētiem pakalpojumiem, visiem klientiem – gan GRT gan FRT) </a:t>
            </a:r>
            <a:r>
              <a:rPr b="0" lang="lv-LV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pēc izvēles </a:t>
            </a: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MK 288 4. vai 5. pielikumā ietveros kritērij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Izvēli nosaka lietderīgums jeb iespēja </a:t>
            </a:r>
            <a:r>
              <a:rPr b="0" lang="lv-LV" sz="3200" spc="-1" strike="noStrike">
                <a:solidFill>
                  <a:srgbClr val="000000"/>
                </a:solidFill>
                <a:latin typeface="Century Schoolbook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entury Schoolbook"/>
              </a:rPr>
              <a:t>noteikt vajadzībām atbilstošākos sociālos pakalpojumus un to apjomu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entury Schoolbook"/>
              </a:rPr>
              <a:t>Izstādāt individuālo sociālās aprūpes/rehabilitācijas plān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Valsts finansēts SAC </a:t>
            </a: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MK 288 5. pielikumā ietveros kritērijus un 6. pielikuma protokol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0800" y="333000"/>
            <a:ext cx="885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Vērtēšanas process (kopumā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81160" y="162864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Ierosinājums (iesniegums, signāls u.c.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Vienošanās par laiku, vietu un komunikācijas veidu (ja ir apgrūtinājumi konsultēties ar ekspertiem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Izvērtēšana – intervija ar kontroljautājumiem – kontroljautājumi - palīginstruments iezīmē jēgu, var mainīt, papildinā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Dokumentēšana – eletroniski vai papīr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Pabeigšana – klients jāiepazīstina, bet jāparaksta nav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2T10:25:09Z</dcterms:created>
  <dc:creator>Andris</dc:creator>
  <dc:description/>
  <dc:language>en-US</dc:language>
  <cp:lastModifiedBy>Elvira Grabovska</cp:lastModifiedBy>
  <cp:lastPrinted>2018-01-17T13:32:59Z</cp:lastPrinted>
  <dcterms:modified xsi:type="dcterms:W3CDTF">2018-01-29T07:03:58Z</dcterms:modified>
  <cp:revision>153</cp:revision>
  <dc:subject/>
  <dc:title>Slide 1</dc:title>
</cp:coreProperties>
</file>