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9CD7BE4-70C2-4AC4-B3D0-55DB4D72BAA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339840" y="80028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74668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Sociālā uzņēmējdarbība ļauj risināt sociālās problēmas ar biznesa instrumentiem - uzņēmums ražo preces vai sniedz pakalpojumus ar mērķi risināt sociālo problēmu, nevis ar mērķi gūt finansiālu labumu uzņēmuma īpašnieki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eidojot sociālo uzņēmumu, pirmais ar ko būtu jāsāk ir izzināt mūsu sabiedrības problēmas un vajadzība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ejot no tā, definē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sava uzņēmuma sociālo mērķi (tam ir jābūt pozitīvai sociālai ietekmei un jābūt definētam statūtos vai citā līdzvērtīgā dokument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biznesa ideju, kurai tici un kura ilgtermiņā būs dzīvotspējīga (tai jānes peļņu, lai varētu konkurēt ar citiem uzņēmumiem tirgū un   investēt sociālajos uzņēmuma mērķo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90BA898-359C-4D99-8865-F5046CE2796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1E7-0CE3-4934-A73B-E3979082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3EE-F0A8-4B96-AAC5-F57F896E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D2B094-57DC-4DA2-9957-A943085F941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89BE28-175C-4C15-97D5-DB014BEA0A3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62CBB3-F160-446C-ABE4-91D56BD5F40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1F0F25-011C-465E-9176-5FA97FF04F2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791386-346C-46EE-87A0-1B6B4CAC3C4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E77D3A-F9D5-4247-B786-20DA137B0BF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A72F30-5739-4431-8A76-1D410831F01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B69FD1-9B50-46EF-BFB4-5F6FE2C7A88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E38138-B7DE-40D7-B9FC-3FA136B9A31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C244-EA3F-4FFD-B125-B9C33F9C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CB2-39BF-47B3-80CD-D7B53006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BE1E12-224C-456C-8188-584788D2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3221BE-938F-433A-BB65-BFAA5703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537DA4-AE6C-4B30-AA33-97755ADF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5C01A5-374D-417F-81C5-499B908D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DB038C-F54D-45BA-A79F-BBFDDFAE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9D913F-DF45-4620-929D-5CAF1AAE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482EF4-4211-45F4-82B3-A2D76C09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45C447-87B9-4AE4-9F72-47901D4D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3698EA-C225-4A9F-9198-AE8613B8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F0427F-5726-466B-99F5-750D9A8E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388A9D-74F9-4762-9D51-1EFC1982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A62548-1193-466C-8A4F-01343AEF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093464-AAA7-4A8C-8EA3-FF03ABA8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7DCC77-2611-4F74-ABB4-09099CD5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39DCD7-FEFC-4511-8A1B-7B85DB11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B3A698-48AA-473D-8CDF-13FD8B14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98004E-48AB-4C7B-A3D3-11BDA5FD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F616CA-014D-4E97-BB65-F991D2A5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B3DA3F-BF00-423D-8A1D-EF970FAB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B2EEED-05DE-41B8-A057-BBB5B230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69B0A2-45BC-49DD-A3F7-59BB8667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2FEDFA-6A5B-4ABB-8447-5EA3125D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786716-7A18-4603-B540-CDFA043F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9AE099-FC06-4AD5-AF62-800013B4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CE9471-840F-4358-ACA8-20CA4F97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40D481-9B65-4B0B-8791-C0A973F2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540D6F-0013-4637-8283-2F64DEA4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B2D4A8-99CC-4DA3-B54C-745C2D9F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366BDB-630F-4CB1-AB70-47AED066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6DC87A-74C4-4B99-BB52-8A9FAD76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84331B-2737-4C1F-AA31-8B2C0712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6BD065-0B7E-4512-AB0B-5A3DC06C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490547-5E2B-4E6B-895A-0FA5F589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FEFD83-1337-4785-B30A-1BC53509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EC590F-A702-4746-89A1-7A6679BA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290275-770B-479A-BD44-3B1F9517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075-DE71-460B-93B6-9B95A87E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6E4FD-3820-4A68-B3B8-1EE4BEC472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39435-59D2-4412-B097-344A851CB3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92AE7-2027-4202-BEF6-5B51D9CC5E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5B934-887F-434A-AC54-ED74D3AC18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7C21D-DF88-479E-B1B2-C9C7D7D548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66D-9718-4B29-8CD0-59FB5145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48C2D-85FF-487A-A5A8-C9748A7BC0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36BC1-4C60-4EF5-8976-38EDA2C1F9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7818B-6B1B-4C43-AEBF-CBCDC78311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99162-9857-41B0-8980-9493C2C50B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7F7C0-AEFD-4011-8B39-9596439EC3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6B870-D4BF-4B69-B2FC-27627DABFA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310E8-CE10-4939-A291-8D59BF1625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27D37-2BB2-4D41-8378-50EEB60D4F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386B3-1963-4CEB-92C4-A37C8375A5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C8FBB-9F4C-45DF-BC5D-95970B6B4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9F6-958D-49DC-A84D-001CF7BF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946FF-5E6F-4CDA-AE8B-44C246D004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2C1C6-B113-48EC-9A8E-D7725F87EC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A9016-1816-49FC-8003-197A2775A8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89D9C-336E-4E85-BED4-2B6E50491F1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A73D0-B32E-421A-8938-1CBD83C72BD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F1F6C-44B3-4CB4-AD31-FBB9D1CFEE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D3DFA-B7F3-4680-894E-B6B073D382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58FF8-6ED9-4CEB-8424-E9E141BFE17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86AEF-BEBC-42FE-9D09-C8029E1A96D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C27C-ABDF-4BFA-8E4E-2498B9AEB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F6B6-135E-4969-A5D0-17AACF95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2F0B-6BE5-40B1-8702-A90E94CC692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6E5E-DD7E-4649-BE66-63BB87D2A1C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E610-81D8-407C-A028-B313CC12A3D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1E72-B433-4A0C-A4C1-06EEB502E1C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57D6-66FF-4272-9C6A-79938BC0441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FACE-E873-4862-A88B-167459BB90B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ADF9-AD28-4A49-B993-77808E81EE0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9E34-D7B0-41ED-B4E6-91C05382EA7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0BF8-8D63-48C9-9B67-11598680D16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E953-836F-4567-8F0F-586AB33CD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6391-0299-4CF2-B337-92C01A48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112A-B4A0-4A23-AC93-B1C99B75D99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E150A4-FB87-4BDB-8835-E50ED4365B6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4E88D0-6131-435A-932D-65ED8077497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D773F7-76D7-40A0-841A-23025366F1F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3B5FDF-E034-48AB-B8DF-085CF29A7B5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462742-E016-495F-BB96-A656699D0EB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2162F6-A608-491F-98B3-00A281E42A6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B6665A-DCF2-4443-8DC9-AA68EF5AD80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C12D1A-588A-457A-A11B-ABF7F0536F2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77E73D-5B6B-48E4-B983-8D3649B05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2FD-8B8C-4446-ACDF-DA4E7A11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D5F425-F134-4DB5-BDE4-C03D3AE2104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C5B609-0495-4CA7-9A25-13D0504645E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CF086F-1B45-41D3-9755-1EA6B6DF6ED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D81CF-3AE4-451C-8F02-A64A3501C19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5A2B7-C720-4135-B613-FAE538C289D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03A81-2115-454E-90B8-673847D81D6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7CCB1-A3BB-4B30-AFBE-838D91E2B4A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3B43C-C376-4B14-9750-4E664CA808D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8546F-C1AE-428A-8F58-5E47194793F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721EF-605C-439E-A332-DFD90B1C1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75E-7709-432D-8AEF-273998C5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3F3BA-C7C5-44A0-B889-BB087B16486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4E0AA-B9B9-4733-938A-ABB41EC2110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B88B3-29DD-47F3-B47E-8DFED9D1623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DB97E-9C13-41DF-915D-C4CC0785542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AB946-1EFD-4573-8ACA-32075A2C5F9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74013-0B48-4D4D-8F20-4CCBDC75CB8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16E35-C491-4C22-8786-CE46E31F032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76D01-11CD-4B5E-9A1E-3CD0F55A03C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777A4-8A49-42AE-AB1A-CE4DCC9C63D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04881-61CF-4F28-9EB8-4F555A612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D32-AC62-45B3-8A98-B4D7C2E7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80255-B82F-41D3-9AB8-94A60D45181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D0F90-1BA2-401F-9BFF-542E94CE521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F8A30-FC6B-49CB-B77C-37CC598978F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7FDE1-D805-42CC-8A84-FF53BF8FB18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AD022-D4B3-4E4E-A5DC-132DEF0A3FD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3B72F-A94F-4E60-AEEB-731CB65FE4B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8CF63-B5F4-4E83-9352-177B9EFD88E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8001F5-8D08-4794-9730-53D8FE43565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7F91AA-04DA-4BE1-8B0B-F88B0599F57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CC8075-50E8-4F2D-A77D-2A34D9BCA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3DEA593-FF03-4D09-9843-63A7F9E4223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BA38705-2743-476A-B0F5-21B8C93B5C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3195526-DA22-497B-B4E9-84AA65C20807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D284D39-D5C4-4177-B64B-955ED3013164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D0555A3-D906-4AB2-82AA-51B808B97211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37928D1-9175-4E01-B07B-B30F9A795044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D133B33-C071-4657-BA18-63BFCB5E3B8E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974FE0D-72B2-4EA9-B9CF-D5FA087AC9E7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722F1CC-BB46-440D-9139-5594CE26C64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C0F35E7-B5E4-49EF-8EE2-E33DB7B3EEC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A2BBA09-0454-48D5-A188-34800F5D971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6166FEA-92CF-4704-A49F-AE8DAE34A61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818589D-3785-4594-8548-18CE362AE53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F28C3B4-E2FA-4222-A15C-DF10232424D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99A131C-FFE3-4FC7-A6F0-73CAFCB6868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66880" y="281304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projekta</a:t>
            </a:r>
            <a:br>
              <a:rPr sz="1900"/>
            </a:b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«Atbalsts sociālajai uzņēmējdarbībai»</a:t>
            </a:r>
            <a:r>
              <a:rPr b="1" lang="lv-LV" sz="2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br>
              <a:rPr sz="2600"/>
            </a:br>
            <a:r>
              <a:rPr b="1" lang="lv-LV" sz="1100" spc="-1" strike="noStrike">
                <a:solidFill>
                  <a:srgbClr val="404040"/>
                </a:solidFill>
                <a:latin typeface="Verdana"/>
                <a:ea typeface="Verdana"/>
              </a:rPr>
              <a:t>vienošanās Nr. 9.1.1.3/15/I/001 </a:t>
            </a:r>
            <a:br>
              <a:rPr sz="700"/>
            </a:br>
            <a:br>
              <a:rPr sz="1900"/>
            </a:br>
            <a:br>
              <a:rPr sz="1600"/>
            </a:br>
            <a:br>
              <a:rPr sz="2000"/>
            </a:br>
            <a:br>
              <a:rPr sz="2200"/>
            </a:br>
            <a:br>
              <a:rPr sz="1900"/>
            </a:br>
            <a:br>
              <a:rPr sz="1900"/>
            </a:br>
            <a:br>
              <a:rPr sz="1700"/>
            </a:br>
            <a:br>
              <a:rPr sz="1700"/>
            </a:br>
            <a:br>
              <a:rPr sz="13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8640" y="587988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128680" y="4994280"/>
            <a:ext cx="5248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30040" y="1116000"/>
            <a:ext cx="68180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par projek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1866600"/>
            <a:ext cx="91137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s tiks īstenot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darbības programmas „Izaugsme un nodarbinātība” 9.1.1. specifiskā atbalsta mērķa „Palielināt nelabvēlīgākā situācijā esošu bezdarbnieku iekļaušanos darba tirgū” 9.1.1.3.pasākuma «Atbalsts sociālajai uzņēmējdarbībai»  ietvar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tāj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Labklājības ministrij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partneri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pt-BR" sz="1700" spc="-1" strike="noStrike">
                <a:solidFill>
                  <a:srgbClr val="404040"/>
                </a:solidFill>
                <a:latin typeface="Verdana"/>
                <a:ea typeface="Verdana"/>
              </a:rPr>
              <a:t>AS "Attīstības finanšu institūcija Altum"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lānotās izmaksa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0" lang="lv-LV" sz="1700" spc="-1" strike="noStrike">
                <a:solidFill>
                  <a:srgbClr val="404040"/>
                </a:solidFill>
                <a:latin typeface="Times New Roman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19 920 206</a:t>
            </a:r>
            <a:r>
              <a:rPr b="0" i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euro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šanas laik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2016.gada 4.janvāris - 2022.gada 31.decembri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1F7817D-0C79-448B-9B3D-289C4A49177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6969240" y="-68400"/>
            <a:ext cx="170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31B7CD2-F420-449C-83A2-D69092711FA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44200" y="780840"/>
            <a:ext cx="5992920" cy="1083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Kas ir sociālā uzņēmējdarbīb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582480" y="1515960"/>
            <a:ext cx="81820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ā uzņēmuma izveides mērķis ir vērsts uz sociālo vai sabiedrībai nozīmīgo problēmu risināš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ir tirgus dalībnieki, kas ražo preces un sniedz pakalpoju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gūto peļņu investē sociālā mērķa sasnieg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Tiek nodarbināti algoti darbini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sociālajos uzņēmumos, kuru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sabiedrībai svarīgas sociālas problēmas risināj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un nodarbināti darbinieki, ar kuriem nodibinātas darba tiesiskās attiecī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darba integrācijas uzņēmumi - sociālo uzņēmumu veids, kuru galvenais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riska grupu nodarbinātīb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– integrācija darba tirg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1"/>
          <a:stretch/>
        </p:blipFill>
        <p:spPr>
          <a:xfrm>
            <a:off x="7547040" y="111240"/>
            <a:ext cx="145260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3160" y="488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4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Content Placeholder 7" descr=""/>
          <p:cNvPicPr/>
          <p:nvPr/>
        </p:nvPicPr>
        <p:blipFill>
          <a:blip r:embed="rId1"/>
          <a:stretch/>
        </p:blipFill>
        <p:spPr>
          <a:xfrm>
            <a:off x="7151760" y="446040"/>
            <a:ext cx="1009440" cy="1063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12800" y="1712880"/>
            <a:ext cx="7920000" cy="440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ir noteikt un pārbaudīt optimālus risinājumus sociālo uzņēmumu izveidei un attīstībai, tai skaitā darba integrācijas sociālo uzņēmumu atbalstam, lai palielinātu nodarbinātības iespēj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nelabvēlīgākā situācijā esošiem bezdarbniekie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personām ar invaliditāti un personām ar garīga rakstura traucējumiem</a:t>
            </a:r>
            <a:r>
              <a:rPr b="0" lang="lv-LV" sz="1400" spc="-1" strike="noStrike">
                <a:solidFill>
                  <a:srgbClr val="404040"/>
                </a:solidFill>
                <a:latin typeface="Verdana"/>
              </a:rPr>
              <a:t>.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ietvaros tiks izveido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balsta sistēm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ietver sociālo uzņēmumu atlases kritērijus un atbalsta instrumentus. Tāpat atbalsta sistēmas ietvaros izstrādāts pasākuma dalībnieku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s un uzsākts reģistrācijas process, kurā varēs iesaistīties komersanti, biedrības un nodibināju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s ļaus noteikt efektīvākās atbalsta formas sociālo uzņēmumu attīstībai, lai tiktu veidoti jauni uzņēmumi, radītas darba vietas un ieviestas jaunas un efektīvas pieejas sociālu problēmu risināšan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E9A93E2-9F60-4623-AA8C-76D78B89E36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71680" y="509400"/>
            <a:ext cx="651816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0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aktivitā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7160" y="1531440"/>
            <a:ext cx="8364240" cy="562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biedrības izpratnes veidošanas un izglītošanas pasākum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r jaunā projekta iniciatīvu, par sociālās uzņēmējdarbības pazīmēm/kritērijiem, par atbalsta sniegšanas iespējām sociālajai uzņēmējdarbībai un šādas uzņēmējdarbības  pieredzi, projekta mērķa grupu un sabiedrības informēšana saistībā ar projekta uzsākša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(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)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a izstrāde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- projekta rezultātā izstrādāti un ieviest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zīmes/kritērij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pazīstamīb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 atlase un reģistrācija (īsteno LM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atbalsta sniegšan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mersantiem, biedrībām, nodibinājumiem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ALT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 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balsta sniegšana sociālās uzņēmējdarbības uzsācējie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ideju konkursa organizēšan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nsultāciju nodrošināšana sociālās uzņēmējdarbības uzsācēju biznesa plānu izstrāde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6629400"/>
            <a:ext cx="198108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76920" y="6583320"/>
            <a:ext cx="365760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E9D22AB-6589-4749-8140-5F42FBC5F34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Attēlu rezultāti vaicājumam “photos for registration”"/>
          <p:cNvPicPr/>
          <p:nvPr/>
        </p:nvPicPr>
        <p:blipFill>
          <a:blip r:embed="rId1"/>
          <a:stretch/>
        </p:blipFill>
        <p:spPr>
          <a:xfrm flipH="1" rot="18840000">
            <a:off x="7716240" y="243360"/>
            <a:ext cx="1182600" cy="118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2"/>
          <a:stretch/>
        </p:blipFill>
        <p:spPr>
          <a:xfrm>
            <a:off x="7989840" y="4873680"/>
            <a:ext cx="102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64880" y="550800"/>
            <a:ext cx="6751800" cy="104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ieteikšanās reģistrācijai </a:t>
            </a:r>
            <a:br>
              <a:rPr sz="2400"/>
            </a:b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un a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ヒラギノ角ゴ Pro W3"/>
              </a:rPr>
              <a:t>tbalsta saņemšana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AB5B3AF-4A7C-4C0A-99FB-1D23276A754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211400" y="2538360"/>
            <a:ext cx="1638000" cy="1636920"/>
          </a:xfrm>
          <a:prstGeom prst="rect">
            <a:avLst/>
          </a:prstGeom>
          <a:ln w="0">
            <a:noFill/>
          </a:ln>
        </p:spPr>
      </p:pic>
      <p:cxnSp>
        <p:nvCxnSpPr>
          <p:cNvPr id="560" name="Straight Arrow Connector 7"/>
          <p:cNvCxnSpPr/>
          <p:nvPr/>
        </p:nvCxnSpPr>
        <p:spPr>
          <a:xfrm flipV="1">
            <a:off x="3018240" y="2562840"/>
            <a:ext cx="930240" cy="343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4199040" y="1919160"/>
            <a:ext cx="11412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562" name="Straight Arrow Connector 9"/>
          <p:cNvCxnSpPr/>
          <p:nvPr/>
        </p:nvCxnSpPr>
        <p:spPr>
          <a:xfrm>
            <a:off x="4876560" y="3123720"/>
            <a:ext cx="1080" cy="963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3" name="Picture 11" descr=""/>
          <p:cNvPicPr/>
          <p:nvPr/>
        </p:nvPicPr>
        <p:blipFill>
          <a:blip r:embed="rId3"/>
          <a:stretch/>
        </p:blipFill>
        <p:spPr>
          <a:xfrm>
            <a:off x="4199040" y="414972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11"/>
          <p:cNvCxnSpPr/>
          <p:nvPr/>
        </p:nvCxnSpPr>
        <p:spPr>
          <a:xfrm>
            <a:off x="3019320" y="4013280"/>
            <a:ext cx="953280" cy="3589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5" name="Content Placeholder 8"/>
          <p:cNvSpPr/>
          <p:nvPr/>
        </p:nvSpPr>
        <p:spPr>
          <a:xfrm>
            <a:off x="5673600" y="1797120"/>
            <a:ext cx="28051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1f497d"/>
                </a:solidFill>
                <a:latin typeface="Verdana"/>
              </a:rPr>
              <a:t>Labklājības ministr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reģistrēja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LM pasākuma dalībnieku reģistr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Content Placeholder 8"/>
          <p:cNvSpPr/>
          <p:nvPr/>
        </p:nvSpPr>
        <p:spPr>
          <a:xfrm>
            <a:off x="835200" y="4305240"/>
            <a:ext cx="244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Verdana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1f497d"/>
                </a:solidFill>
                <a:latin typeface="Verdana"/>
              </a:rPr>
              <a:t>Komersants, biedrība, nodibināj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5562720" y="4149720"/>
            <a:ext cx="2728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iesniedz biznesa plān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ALTUM (vērtē ALTUM) un sociālās ietekmes apraksts (vērtē LM),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tiek slēgts līgums par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finanšu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atbalsta saņemš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0920" y="544320"/>
            <a:ext cx="6096240" cy="1035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Turpmāk plānotās aktivitātes 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39760" y="1795320"/>
            <a:ext cx="6718320" cy="4510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tlaban norisinās darbs pie Ministru kabineta noteikumu grozījumu izstrādes 2015.gada 11.augusta noteikumiem Nr.467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Darbības programmas "Izaugsme un nodarbinātība" 9.1.1. specifiskā atbalsta mērķa "Palielināt nelabvēlīgākā situācijā esošu bezdarbnieku iekļaušanos darba tirgū" 9.1.1.3.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"Atbalsts sociālajai uzņēmējdarbībai"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īstenošanas noteikumi» ietva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ācij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sākuma dalībnieku reģistrā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n atbalsta saņemšana ALTUM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sies </a:t>
            </a:r>
            <a:r>
              <a:rPr b="1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ēc MK noteikumu Nr.467 grozījumu stāšanās spēk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4311710-99C7-47B5-8FC3-4525419E03F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7186680" y="383868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tretch/>
        </p:blipFill>
        <p:spPr>
          <a:xfrm>
            <a:off x="6878520" y="1365120"/>
            <a:ext cx="22654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28880" y="60300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biedrībām un nodibinājumi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93760" y="1638360"/>
            <a:ext cx="8393040" cy="4991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2016.gada 15.decembrī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R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eimā  pirmajā lasījumā  pieņem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lik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aredz, ka sociālā uzņēmuma statusu Latvijā varēs iegūt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komersan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(plānotā spēkā stāšanās 2018. gada 1. janvārī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ikuma apstiprināšanas un spēkā stāšanās gadījumā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rojekta ietvaros 2017.gadā būs noslēguši līgumu ar «Altum» par finanšu atbalsta saņemšanu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varēs turpināt darboties esošajā biedrības un nodibinājuma statusā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līguma darbības laikā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kārtotai pretendēšanai finanšu atbalsta saņemšanai projekta ietvaro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no 2018. gada 1. janvāra, biedrībai un nodibinājumam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būs jāpārreģistrējas par komersantu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skaņā ar jauno liku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 tiks informēt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r iespējamām izmaiņām projekta ietvaros un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tālāko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īcību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0FC63C2-A5EE-419E-BDE7-3D1BA47D58B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66480" y="3225600"/>
            <a:ext cx="8289720" cy="250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lv-LV" sz="2800" spc="-1" strike="noStrike">
                <a:solidFill>
                  <a:srgbClr val="404040"/>
                </a:solidFill>
                <a:latin typeface="Verdana"/>
                <a:ea typeface="Verdana"/>
              </a:rPr>
              <a:t>Pald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Raitis Bukovskis</cp:lastModifiedBy>
  <cp:lastPrinted>2017-01-24T12:45:49Z</cp:lastPrinted>
  <dcterms:modified xsi:type="dcterms:W3CDTF">2017-02-13T09:51:00Z</dcterms:modified>
  <cp:revision>420</cp:revision>
  <dc:subject/>
  <dc:title>PowerPoint Presentation</dc:title>
</cp:coreProperties>
</file>